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BB375A3-5D47-4201-8966-65D634E73AE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DB2F76D-CE21-43C1-B8D5-1519D77D899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85A5E17-C5F0-49B7-86BF-E6003792C49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922224E-D7ED-4F86-85AE-1662BD8F009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D7B006D-B7EC-4F77-BEFB-09E47AE153F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29C24BF-5280-4BB6-9E1F-782502AC229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B1CA985-4D2C-4CC6-B3C4-A8FC0A6579A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2996540-B85A-4053-A18F-40B5B40B1A0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7705AB3-BF90-45AB-9196-AC724B524D5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C6DCC49-8A19-44A1-9AD1-E62F73A2EA0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251ED1D-184D-4718-AB10-2B847CFD4CB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515174A-5FBE-461E-B053-EC48CD455A6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E8EC816-5044-4545-9821-DB2B633D80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1727D8-9CCB-4DA4-BF54-C936B3580E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E496F04-54C1-4140-A970-2AE44A1B0D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9A0DD90-683B-44B0-B9EC-2A75172CAF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1C96E38-17C0-4F6D-A818-BFE2F19B18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4A64FCC-FE57-4573-90EE-46B1722FB7E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15C9DEE-8D44-4F32-AFA3-74FA41433FF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6FB67CD-8A01-46E5-B624-ABA9D5A5BDE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5D9AC75-E481-4CE6-8952-3540675E441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36A6132-4EAC-4AC9-8A1D-25445584C15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8DDA294-3582-4DAE-AB89-1CDD57325E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667C81D-E617-493D-9C56-A0D0F51DF4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8425BB6-B8E6-4BA9-877B-D4A16C474A4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C555B7C-86BF-46CB-BC12-1FB90647966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5E73C48-BB19-42A7-A84C-C05E624CC82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488290A-D407-4384-9B44-0898C51FB60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19C9B08-CF91-41DC-AB36-8F7BBB5507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620F77F-C2FC-4E19-9584-17EAE54852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195E44-2ADD-4261-B902-8768BD4731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52E76EA-CDEC-43AF-A034-22CED0F611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7C95C95-6BA3-4B4A-BFFB-A7F0D36DD1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165AF1-EB0A-4F40-8E05-3D86FB927A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271231-A0BB-4B4C-A82F-BD98E8147D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28050D-ACDA-4CCF-84D5-17807A0DD5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12CAE-A453-4F8E-997B-95FCA28578E3}"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2F566-80BD-4D76-9150-5B27FE16BE4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30B0CC2-ECBE-4024-820B-9F7864869708}"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5EB9E24-085C-48B0-8F9F-9BADEECBA9E1}"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30E7701-C4CC-4340-B7EF-084B6EEEA41F}"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F55446A-F1CE-4CDE-8B76-844C6A3F445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5E24A3E-7A74-4B58-8B8B-AD9D40B94F40}"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897AC43-9AB5-4347-968E-54506589C433}"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52C18F2-4E56-4EA7-A719-293C8FB4FB21}"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EC3D503-FE4F-479B-8CB2-0C00C0BFEADB}"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D861AC9-E36B-4953-945B-8A001DA8EE96}"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9D57650-C4D3-42E2-93D9-06B8F787B072}"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EDAE16B-5FC0-444E-BC42-38A6410A5DCC}"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3FFC098A-BA90-414C-A223-DCFDCA628B2B}"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24B4EEA-8458-4766-B85E-6925C24AF90A}"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FD2FD8F-6F8F-4CC4-8033-6F876EBE59BC}"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B219DDB-59F2-4955-9AD6-E7772EF05D8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B67E998-D26C-4CFB-A7A1-8504F39288EC}"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C3488E0-605F-472C-B6F0-E06720D433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F06A7A2-55D1-43D7-863C-92BCBE816A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A7EAABB-B4FC-4406-8465-9512800A56B8}"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DD2BFE8-D08E-442B-A717-0F8A388B64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B9FAD8D-FC03-4D08-80F5-2D24C58532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E216F7-7847-473F-960A-C4F9216D9260}"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E6D4CAC-519E-46AF-9CAE-460C1E40E4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AC79A17-E59E-4EAC-A1F3-27FD97D453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736099-3CAD-4020-99D1-C776EEBEB7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361886A-D4EB-4FD8-9F30-4AC5CCA1D3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6E1D29D-0461-4BBB-97CC-A56AAC344B7A}"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C439B6A-F60C-4C0E-B7A6-3D18FB69B3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773C4BE-03B1-4BFE-A6EF-DE69510139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BD3E8F6-20B2-4FB2-9ACA-355D36A3BD7B}"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AF506D9-7560-4B60-8F13-783E8DF12A2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82662EB-62EF-4A99-8E0A-3F1B41A9659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7B7EA1B-0317-4F43-9FB1-18450F75577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3E0C808-F7BE-47F3-949A-EEB2C4B3F3D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95200B4-C3A4-4027-A99C-5A49E78D1D8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438121F-0AB9-45D4-9E77-BA33514B90C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96ACD84-892C-4767-9616-98B2A552907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13DBBBC-A423-483E-BF19-E37F5087484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E709C95-C617-4DDC-937D-A18FC8ED024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7D5B8B8-E921-472F-96DE-B47B3EF7AF5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2FC76CF-86B3-49A2-B9C0-2B6EBDB0223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BF0064B-835C-4395-9064-AA41199D588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13E50A1-D2E4-4D2C-9B9D-CE5D7D2FCC4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8F56C12-5DF0-4BBD-83DF-92EC63693D2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E9F2A05-947E-43D1-993F-92DE7BB1B6F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8087DD6-98DB-46CE-B12C-26924211DBA7}"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07A640B-6E73-4C4A-94DC-D908C81E075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96E706D-9D00-4031-A833-159B83DABE9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790AA08-B341-4FEB-B350-95D1A4A11DB3}"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59294FF-B4FF-4904-9562-E705374BAA0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70F7B7B-0A63-4699-B2C9-5B03E945C988}"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B8BB66D-4537-42AA-B0A8-1EA87ADAAFAA}"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1143EBA-F57B-4466-9C04-81B4FE3D222F}"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5CBBA28-078A-4526-AA96-A7E3AF12B91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04A1309-E170-4C1B-BD27-EEDA28AEF800}"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427103F-36E7-4CE5-9738-BDD8C764E34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8E1701F-609F-41D5-8148-80139D5AA103}"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23203C-7C27-4CE1-82FE-3DDB0228E7E7}"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E0D21ED-A23B-44BA-951F-13A943463A2B}"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032A162-1BC9-41F7-AEC9-332F87CE718A}"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6F60A5B-9FAA-45A5-A43F-E8946A6BAB66}"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04C05F-D76C-40A8-A979-B4A5018FD1B6}"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DA86621-E235-46BF-A0F3-B2B84D97F51C}"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8352A59-3ED2-4552-A8B6-6C18147604D2}"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CB3668D-62F2-409A-AC39-0246F34E47F0}"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7F84CDB-5765-47D9-A9DE-BF2101E2F262}"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2340149-D933-4E1D-9242-1571B9DBB7F6}"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E560245-3180-44BD-B53B-DFD4421DA2EC}"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3C8AAB1-AE50-42E5-A0D4-F5697CDB5ADC}"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FDFEB69-D0E3-4C83-93C0-E8061913A978}"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DD0DF48-BFC3-4383-8C5D-48313510EFFF}"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C46980-1445-4514-87A4-13151EB344FB}"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38618D2-A666-488F-8346-C7204AB51C45}"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8B176B0-6686-4CD9-936B-7DB39AA6FE80}"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6CAEEFD-AB26-4694-B59B-5B6B3B110EC9}"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93745BB-A918-42F4-9B20-C60B87EC6F79}"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8AB5D4C-B961-4C78-B3F6-7D96F2A53681}"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1A7EF50-04DA-4AAA-AD79-218B6B4F4F6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88CF05B-4D9B-4081-83FC-833D93E10077}"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970B96A-0A00-435B-AAAB-AAFC1CE95F1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63418C7-F6EE-44D2-BE1A-D8E81594E792}"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B079B48-2D28-4121-9579-371A1E9E77EC}"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6A3F578-87EB-4E7A-AAAF-E5489E6AC414}"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691F873-B561-4369-8939-BB696F48302F}"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561F328-93C2-416F-8111-18F31CA6FF67}"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D1F00FE-B941-4887-96DC-A0E53714E2B7}"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0E077DC-A64B-41B9-90F4-897AF993C437}"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D6F45F9-F331-46BD-A680-B6E8322005BE}"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E5651E3-0370-4081-840D-E5D297A12194}"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E56974B-63B3-4BE5-BD49-EEE6B6C777DF}"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AC631B3-6597-494B-9444-19F961E2A9C7}"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2D29B77-05C1-40B5-87B7-E16DE02E1946}"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E476C55-080B-47A6-BFC7-CFA1B300072C}"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F68CB68-AAAD-41DC-B74A-6A3AE77AF361}"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0135720-AC8B-4722-AD2F-714DFAFED678}"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3BB76C7-0E4F-4493-B4FC-E79E5E6F2881}"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FC5FBD8-7A23-471D-993A-641EC513B6DA}"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820FEB65-25A5-4580-BFF0-03D19C75EE5E}"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56EA25D-5F7D-4848-99B5-E906344E68BF}"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ABB8D31-F6B9-4FC0-99E6-1C97EA0D3FC1}"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BA8E9DA-7CE5-4D15-AAE9-3693FED37F22}"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6002032-10D3-4BCE-9B0C-9E8238C11FEA}"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7EAD52F-9174-489B-B763-59EB42E2F2BC}"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0D500FE-BB16-4154-993D-4E91EB35851A}"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4A0B842-A14C-4B93-9DCE-F649520CD517}"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16A03F7-7FB2-4E7E-829D-83B74CD3C8CC}"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BACE982-BE42-419B-B583-384D8559A4A5}"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583F4B3-1F6B-4BEE-BC14-D730774B7A09}"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FD1885A-48AF-49A5-88B0-AA3015C9EA9A}"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8754B52-200F-43C9-B4AC-0674D64F2682}"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80EBBB1-4755-4A72-8BA9-C64E3C279C75}"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