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FA7F-4C15-404D-8615-AAFB35006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81FA-87A1-4090-B59C-65C5A6310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B4F5-D1F5-481E-9B66-FE601F070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06216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89608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22824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06216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89608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F8F7-D936-49D6-A6CA-F3E9BBFB7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006CF-FF3F-431E-874C-9B177D543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415C6-1595-436D-9D06-3A798FA81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5610F-3BD1-42CC-A595-ED8A68491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48F6A-5D46-4EE2-870B-20BC0B5FF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D532C-8989-4BF6-9EF5-5E05FB9B2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228240" y="38052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A8993-F2A5-4DE2-8401-B68B2FE98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739A9-021E-4106-A30A-23224253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8D01-B228-48B3-BD73-CF21410D3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CCD3D-A1D2-40FB-A407-7B2DBC36D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D61CC-1781-48B5-9DB9-81E743FD3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5A82D-F2B4-4D3D-B6B9-948F144F5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DDB96-C39F-4DF9-BC9B-F7A1CDF63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06216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89608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22824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06216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89608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6E7F5-A0E4-46FE-8747-D5AEFD191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5404-4FDC-46A1-AA44-01CB4EC6D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F97C-6F0F-4472-9E33-AF10CCEE9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FF31-99DB-453D-A4CA-00E4A2D34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228240" y="38052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29F8-339F-42E9-ACF7-B8DAABBEE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51E5-B3ED-4652-9E02-4878B7C54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98C2-7C98-4790-8258-5B9C3D36B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4716-6B8A-41BB-A677-963CB5621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1" name="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maneki" descr="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5" name="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743040" indent="-285840">
              <a:spcBef>
                <a:spcPts val="799"/>
              </a:spcBef>
              <a:buClr>
                <a:srgbClr val="996600"/>
              </a:buClr>
              <a:buSzPct val="75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2" marL="1143000" indent="-228600">
              <a:spcBef>
                <a:spcPts val="799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3" marL="1600200" indent="-228600">
              <a:spcBef>
                <a:spcPts val="7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CC36B-1E4E-4890-BAF6-E42FEC028948}" type="slidenum">
              <a:rPr b="0" lang="ja-JP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53" name="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" name="maneki" descr="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57" name="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9362B-718D-4633-88F2-D7647DFAE01A}" type="slidenum">
              <a:rPr b="0" lang="ja-JP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Microsoft PowerPoint 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テスト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2193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これは </a:t>
            </a: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MS PowerPoint 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ファイルです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1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ページ目タイトル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ページ目本文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2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ページ目タイトル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2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ページ目本文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5T10:41:34Z</dcterms:created>
  <dc:creator>著者</dc:creator>
  <dc:description/>
  <dc:language>en-US</dc:language>
  <cp:lastModifiedBy>NaCl</cp:lastModifiedBy>
  <dcterms:modified xsi:type="dcterms:W3CDTF">2005-07-08T02:25:04Z</dcterms:modified>
  <cp:revision>3</cp:revision>
  <dc:subject/>
  <dc:title>タイトル</dc:title>
</cp:coreProperties>
</file>