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655-2C44-4BDD-9061-4A4D7963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3D5F-DE37-436E-BB56-D86A9C603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67E7F-621D-459A-BDD1-35548645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10460-DB4D-497C-9F72-ABE5A0C35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C5432-7F43-4CFB-82F2-7BF6E10E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0C512-BE89-44D1-90B9-F16BC80B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AA291-60BE-43D7-8C0D-D08DAD38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2FC9A9-CC8E-4545-867C-6A9868B5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DAC4C-D127-48FC-9CF6-CEFE036D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D2AAD-D4F8-4877-83A0-922E8B9A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C96F1-FC2F-41C3-9397-D373F2A9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86C887-6FD8-45E0-BCEC-F441A8E67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A9AC-98B0-4494-BDF3-E9708D82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47E4C7F-C7F6-4AAA-B2DE-275CC0F1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D04761-05FB-4052-A5E0-C8BEA057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6C9B8E-42CB-4967-9854-888A2110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10E3AB-3935-4478-AA6B-98D98A83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69479C-F84B-43EF-9C02-8ABBD9B60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1E6EE4F-3134-4B6C-A4F1-CA37F60E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8E197F-EF4D-4E48-BEF7-13F4A207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24469F-1E36-4E4C-BCF3-12765152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76B3FC-9A88-48EA-95ED-2152DEF9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AE4444-F54D-44B9-BD24-627C707CF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0976-C5FE-4EB4-93AD-ECBBCA0D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B60B42-5579-45B0-8E44-255EE40A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B9335-A186-4099-9C0B-DF91B1A61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203CE3-FB42-4EB3-8074-2903D9BC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CEB540-87E7-4FCA-9F2E-6ECCBBEA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6F9A1F-85FF-42FB-8E44-49310DF7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0B04A2-719F-471A-B631-370298AD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2B4EA-284C-42FE-A4CF-E393929E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92EF0-9483-4C82-ACC3-8B19C102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2E3EF-980C-48E2-9135-4250F65A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AC6B8-3F70-4EE9-B69D-DBA3A5A5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ED41-E0D0-4040-B671-48529FFEF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C9C5F5-0528-4ACC-BA5E-F8FC3AF0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65047-05C2-4CE8-994E-B2A700FCA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852C5D-9FD7-4A39-9E8A-8CBCE3D0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841E6-DD58-4207-939E-3EF1A3E70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5D649-FD45-47E4-AB59-4AB42327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417C3B-3134-40B7-B472-D35D7269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C21BBD-20E2-4C99-92FB-7845F48B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46AB1A-77A1-4707-A9FD-EAF975EB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B5F8A3-922C-4ABA-BEE1-F4C2FE4D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DCEC9-6CDD-4A94-8FFB-8628ABF7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30E8-AB31-4106-B0DB-62340BD1B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6F0C0-FA75-4C40-8C28-7C2FA7BD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245466-916A-447A-B4F1-A13DBF91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2A8BE3-4106-4C82-9484-B2B57FE7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82379-CB6F-4AC7-A786-BDFE6F8D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CD4686-6E13-4F1B-A0B9-F9A82D12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9285-5D29-467D-B322-1F9794C2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1348-55CB-4138-A3E2-A3B07263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20F4-135C-40FD-876B-F30F15AE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5CF5-DF39-49FD-AE15-FA07287E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6FB9-95E8-488D-B897-7653F22B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1479-05EB-4134-A9C7-9CB121A3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F37D-9B04-40C9-A1F4-131AC60A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51D9-38E2-4A82-80F1-B9FB8AB4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64E40-620D-47C8-BEB3-A02D23D5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5B02-7E81-47A2-A2AF-FE227A6D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4677-4F29-4D47-8BA8-C29C323C4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FB8A6-FAC0-45D7-91DB-CC70BE01C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DABC2-D20C-4A24-A321-72ED42E9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72F73-8CDE-4331-9EC4-D952E63A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414A1-1CE3-4FF8-9D9C-0A7E6A1A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30CE7-5C58-4D37-B384-17112A7E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4321-6921-470C-8A73-54391BE4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632F1-80E3-42E5-A553-F599EB1B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7FB30-DCA4-4DDB-9202-5464A603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0C56C-2230-4A48-B8A1-D4C20A72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8220C-8BBF-45C4-9680-EB54C37D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7F3DE-2BF1-4A96-8C9B-953104B1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E6039-8453-4687-BF00-6D24CD3C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9ED72-9EF9-42D5-9045-052484F37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32DF4-36E1-439F-873E-0AE1B385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84814-6A19-49B9-8425-0233A334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7429E-7BFC-4EB4-B879-2A40B51F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B15A-90B3-46E1-9423-84773E6C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07D04-00B1-4282-802C-C5517359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F064E-5A0A-4AE9-A937-8EB9ED27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46865-FD30-4C02-BA60-85AD637D5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E3F6C-C228-44CE-B093-61D1FAE2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F4E85-86F8-4925-A7DF-DFCB144B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1D9EC-07CA-46BA-964E-500A799E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D679F-1271-4E47-85E0-BDE600242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4A290-D368-456D-836F-EC31AB5B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2A078-CDB0-476E-993B-CB0EA02A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7B8994-5E1E-45A7-963B-12770A18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3473-F162-40A2-9A57-2DFD9536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99188F-EF04-41C2-8C72-8143CD30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7F8EF2-A98A-4B26-B8F4-F46D6F96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7C86AE-C987-4A5F-82C0-3406CEC2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7EDB1-E710-4565-8D49-9B9F04FC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343B49-1241-4B3F-9D31-5EA991F1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A0C22-98BF-4911-8736-86CE4CE2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DEF03D-341E-446F-B9CE-BFE91BD9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FE6DB8-AEAB-48FB-9E39-EB7E09A7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2E2244-7F17-4234-8460-B1BBBB33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662D1-7DDB-47F4-860F-C9A67359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F30-205D-4107-8333-A73DF094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091E79-8FFC-4C85-AED9-52CE6BFF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D51A2-2206-426C-AF71-5F653D88F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056D9-473D-4654-8144-BED72AF0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1CBFB-D37D-42CF-81F3-A5E2EE62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C0C99-DE1B-40F8-B730-911D8C13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D4539-40DC-43D0-AAE3-00CB1878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0630F-192F-4B3C-A959-375A6AD8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1E348-4898-44BE-BA2E-CCF171FA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0AE0B-1F85-40A9-8274-6BBDFA15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0422F-81DE-449F-9935-664565D5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861-5591-4A18-BC26-90525E71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90179-93C9-4AF6-8A99-0A829B4D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50AF3-39E9-4587-A54C-59B085F2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3843B-E3D9-49FF-B876-C504441E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533BC-7C48-4AB5-AADF-7FCA7C846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53062-BDEB-49D1-AFF7-49CDB0F6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4BECE-3BEA-4BEF-8F8E-ACB67A9D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F72EC-5310-4AB1-9B86-BC011746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50CDF-BA3F-46B2-9848-114C5567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6D391-8E6B-4357-9B42-BF8227BA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79EE7-2E10-4C54-BA28-A0A4E834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6B16-5892-4D37-ABCD-76996171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FF070-615C-4F23-8995-C5270833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3B8A07-92A1-4493-9567-582BDD51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DFB7B-C910-45CD-906D-C01A48DB7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5AC03-F538-4534-8680-043EA72A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4767B-4F3E-44DE-99ED-7CE708A3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D8E78-4F16-4832-AAE5-85A609D0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C8E2D-9942-4512-8DAC-57D37CF9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1188E-AD66-4DF4-9C8E-D375DB51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491AE-8DCC-4BD5-A11B-62E84AFB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A3A7B-2390-486F-8DD2-0AE9C444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F5D-6EE2-4CDA-A4D1-18288B0C4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2224E-AFBF-46F2-82FE-26FE21E1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88A25-278C-4DB4-B219-1001CC57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D4BB2B-EC4F-4018-BFCB-C4B830C4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9498E-4901-48EF-85D7-A7EDA0D3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3B1CB-A05C-4011-9B4C-74431AD2D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DDECF-366F-4D70-B11B-7744E412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2D224-E993-4E2E-8E80-44350FE05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C494A-E21B-4422-AD2B-15440BE9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24643-FBBC-4CBC-BBAC-16D29349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A1E5E6-C8A6-4C81-A1CA-E9CAF2A07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B250-70DF-4FD7-B3B1-6D45F57944D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68FE-5A44-4B20-9F60-01077C978E9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0B35-F088-4750-9A48-2B633C30F75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1A8F-25C2-4BB1-8949-47CA0146C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3406E-EA0A-43DB-8824-95A32A03895F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5D75-023E-421D-AA03-5570174323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3068-F3BA-4F30-B3E1-9FE3166347E5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A564-9DD3-47AA-AF53-DEB1E59132D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9DE0-413D-46F7-B688-8CC53F4B811C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77E2-C068-4579-A2E2-EC7B17C8E5B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F2960-443A-4086-8744-5B4ED258E02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8604-9860-44DF-9D4C-36916E18B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4CBA-B0B5-4172-B0C2-3D8F5967F65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B3535-DED7-49D5-B557-8B9E5285E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194B-8F0E-4B01-9E05-11BED01549A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ED83-270D-4B24-B8CB-1C2EDF8414B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AC9B-FA8C-43B5-8257-B798AE7B6E6B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5A4D-23DC-400E-95D9-0EE2F1563BF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9076-F515-4FFA-9FC8-CBC7465AA4A3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0DCF-C465-4681-A694-BFE7190AD0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9829-06B6-44F3-897E-A6384D9AE866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AF15-29C1-4862-AA6F-FC8B5A1D7C2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822DA-D86A-4022-92D5-054409A4422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D414-5485-4466-AB8E-93D2E3182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9B5-CC95-4CAF-B43F-62227628CA8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F42CC-30B0-453A-886B-3A4C18F3BC5A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C9171-375E-42D6-A8C6-C6A05B8D84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D44B5651-D27E-4F55-9A47-A8B071554176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2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17CF8-3496-4B2D-86C1-5F14192CB579}" type="slidenum">
              <a:t>3</a:t>
            </a:fld>
          </a:p>
        </p:txBody>
      </p:sp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000"/>
                            </p:stCondLst>
                            <p:childTnLst>
                              <p:par>
                                <p:cTn id="1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0"/>
                            </p:stCondLst>
                            <p:childTnLst>
                              <p:par>
                                <p:cTn id="1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BE2A4-359A-4F88-9AD7-1F6E07E9C07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9BCDA70B-1851-474E-991D-A787347AEB4A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9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8000"/>
                            </p:stCondLst>
                            <p:childTnLst>
                              <p:par>
                                <p:cTn id="2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A2D51-3AE5-4E5E-9314-6081FE39C3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B43E8722-6046-4E89-A4CC-E21620C04B80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4000"/>
                            </p:stCondLst>
                            <p:childTnLst>
                              <p:par>
                                <p:cTn id="2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000"/>
                            </p:stCondLst>
                            <p:childTnLst>
                              <p:par>
                                <p:cTn id="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8000"/>
                            </p:stCondLst>
                            <p:childTnLst>
                              <p:par>
                                <p:cTn id="3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6A78D-D3B4-46F4-B9D6-C33A5842902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07701D95-2B71-403A-828B-BCD30DF867DB}" type="datetime1">
              <a:rPr lang="en-US"/>
              <a:t>07/28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1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2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5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0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1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