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50014"/>
        <c:axId val="76518445"/>
      </c:barChart>
      <c:catAx>
        <c:axId val="62500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518445"/>
        <c:crosses val="autoZero"/>
        <c:auto val="1"/>
        <c:lblAlgn val="ctr"/>
        <c:lblOffset val="100"/>
        <c:noMultiLvlLbl val="0"/>
      </c:catAx>
      <c:valAx>
        <c:axId val="765184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500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DAB1-96FD-450D-914C-897F612A3D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35B0-2810-4EBF-893B-9DEBDA1DF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1041-DBAC-4F03-AF86-3F7689009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40D8-6AFF-4A73-A27E-7B2988B99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7D0F-0CBB-4C1F-B906-9B2CDEDD1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01AC-63C5-44DF-A8EC-94CDAB8D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9438-724A-4DAA-A354-061686FBF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A8F0-66E0-414C-8B4F-360692CE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A38AE-4560-44EB-B39D-238228286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FC20-5B95-4349-877B-DC705142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05E4-1533-4730-9C9B-42D3B929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0CEB-2C14-4DEA-8334-94A9246AD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528026-E05C-47A6-914A-7C2A7DA439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