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78504"/>
        <c:axId val="54975459"/>
      </c:barChart>
      <c:catAx>
        <c:axId val="57978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75459"/>
        <c:crosses val="autoZero"/>
        <c:auto val="1"/>
        <c:lblAlgn val="ctr"/>
        <c:lblOffset val="100"/>
        <c:noMultiLvlLbl val="0"/>
      </c:catAx>
      <c:valAx>
        <c:axId val="54975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78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999-2EFB-468F-AFEB-753EEB8F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416-ADA7-4321-94B7-0F9DD8E0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ADD-2FBB-45F4-AFDB-DD0AB010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9D4-AC6E-49B0-BCE8-96FDD3D2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F97-884A-45C9-A053-25E552E7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B0A-23D3-41D2-AF04-04362436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671-C18A-4AB9-A830-7879CB16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72B-501D-4C17-8719-69F8BBDF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DE8-320B-45F7-8135-2D4F25EB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70A-B614-417B-8038-5F6B728B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99B-1F5D-463C-9A8A-7F4849D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9EA-0F1E-433B-A591-D424E4D3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84DFC-D093-4381-A48B-6BA243936D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