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26652"/>
        <c:axId val="75740186"/>
      </c:barChart>
      <c:catAx>
        <c:axId val="3322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40186"/>
        <c:crosses val="autoZero"/>
        <c:auto val="1"/>
        <c:lblAlgn val="ctr"/>
        <c:lblOffset val="100"/>
        <c:noMultiLvlLbl val="0"/>
      </c:catAx>
      <c:valAx>
        <c:axId val="75740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2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141-CAA9-44C9-A7F4-A270B837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2BF-E94A-4620-9775-E1371CF7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087-F8D3-4B24-8648-151D6E39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701-1EBE-4010-893D-72700C17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C02-4205-4F3F-A521-523A4C91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631-1EE2-4150-A2BB-532BDDC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838-3D16-4F45-9934-073C95EB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584-FC3C-4BD4-A810-1A4EE890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B42-7A7F-46FC-926A-334DCB39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B9A-94E2-4195-86EE-72FD7936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2E5-6169-4E5F-8ACF-CE320A51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5D3-DBDF-47B1-9094-A5DB800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6F68B-2AC7-486E-A01D-485B6E3401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