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534227"/>
        <c:axId val="35941306"/>
      </c:barChart>
      <c:catAx>
        <c:axId val="705342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41306"/>
        <c:crosses val="autoZero"/>
        <c:auto val="1"/>
        <c:lblAlgn val="ctr"/>
        <c:lblOffset val="100"/>
        <c:noMultiLvlLbl val="0"/>
      </c:catAx>
      <c:valAx>
        <c:axId val="35941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342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735F-E375-4813-B80A-63FC8E91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49D-DAAA-45FA-BB52-55578E8C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6E6-346B-4F80-A0D7-D5EE3195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2428-294F-4296-82A8-C6E988FF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F292-7646-4BE0-AC92-FC7FA448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5B1-A9A8-4CB1-9590-4F7FCEE4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4BAE-EF5A-4A6F-8487-18EAB396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4BC-CC9F-475C-B3A2-EB0EF10C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8FC9-2940-44C4-AC9C-CD71001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8E6-6782-4729-B149-B9CF8440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72B-1456-46C6-9B55-B6CD8F1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2D1-D148-48B4-81E9-7C39B80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7D2C9-4E7A-4398-9224-5C1E3C52DC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