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34175"/>
        <c:axId val="77931580"/>
      </c:barChart>
      <c:catAx>
        <c:axId val="96134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31580"/>
        <c:crosses val="autoZero"/>
        <c:auto val="1"/>
        <c:lblAlgn val="ctr"/>
        <c:lblOffset val="100"/>
        <c:noMultiLvlLbl val="0"/>
      </c:catAx>
      <c:valAx>
        <c:axId val="77931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34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D85-1099-4658-856E-BAFD2A54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9ED7-E18B-4D69-9B98-4637CEBC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D3E-41B4-4617-B6D9-E094E340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FB8-9888-4E98-82DA-30D602CE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4F4-5642-4F8E-930F-021BE639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85B-A83E-42ED-9D29-F7ABC1CB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C89-F406-47D6-9C14-2B2DBEA9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3B5-A085-4148-9936-A1B3FA4F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1A4-33F5-448D-95B9-493A0745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4D4-40EB-4CD4-9283-C87160E3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3C15-53EB-4D28-B35E-7EF6511C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881-1E45-4851-8302-2DA9D207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4217D-3C40-4A0E-AE44-5FEE879DB8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