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42721"/>
        <c:axId val="14700026"/>
      </c:barChart>
      <c:catAx>
        <c:axId val="89427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700026"/>
        <c:crosses val="autoZero"/>
        <c:auto val="1"/>
        <c:lblAlgn val="ctr"/>
        <c:lblOffset val="100"/>
        <c:noMultiLvlLbl val="0"/>
      </c:catAx>
      <c:valAx>
        <c:axId val="147000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27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72E4-5C4D-4CB0-8D92-ECCC215D5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26DE-B4C3-49F2-8031-CB541C34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85EF-10BF-4BA5-8890-60A3AF86F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9ED6-4694-40F5-B640-9ABF064A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E988-27EC-48B1-BD75-451F7426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FE44-CDF2-4415-A74A-7B89081B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BDD8-A6F5-4B4F-B994-E68C839E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0256-4943-46AA-A1EA-C58E227D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0D80-1DE1-424F-99D0-DCECBA54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9982-720C-4317-A5CB-223BC431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36D1-28E9-48B5-87CE-0309D706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3EDA-77CB-43E2-8520-C4D67894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8BD68-0F66-4942-B778-9502BEB4C5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