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54126"/>
        <c:axId val="50241596"/>
      </c:barChart>
      <c:catAx>
        <c:axId val="70554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41596"/>
        <c:crosses val="autoZero"/>
        <c:auto val="1"/>
        <c:lblAlgn val="ctr"/>
        <c:lblOffset val="100"/>
        <c:noMultiLvlLbl val="0"/>
      </c:catAx>
      <c:valAx>
        <c:axId val="50241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54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599-2BF6-48BB-AEAC-08A1817B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453-F617-4357-9C50-424F3AF1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06C-FA67-4329-AB14-4942EAC6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AA4-8480-4AF4-B280-BAB185E5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8F9-0653-428D-A7E5-F216CC24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4EA-DB9D-4831-9BC7-3B92D2E7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556A-8BC7-4D6D-8609-2503BAEC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842-EFE2-4837-93C7-6CFC1245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15F-45C7-4915-A011-0A9CCB39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EBF-75BB-46DF-9262-EB41DE73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89C-5FA6-4988-81BD-1743C738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A3A-F2FA-4A1F-B82A-180E522E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71B5D-5186-4A45-9D87-B6EBBFDBCD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