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BA01A-A141-443F-917F-F5EB33CCD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D7A99-4A12-4966-83AA-F5046A228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8033D-56C0-4002-BDDB-24AD16A49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78B00-9CA3-4ED7-AB1E-FE497CE99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0D050-91B2-488F-9B87-45F65441F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F8C04-5F7B-4E44-AEE3-607878237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2FA09-375B-489C-8365-BEB149BF7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A6666-0E0F-4F03-8A8D-41AD2707A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A4934-EEC7-439A-A48B-A500586D4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537C3-A07B-4DE4-9389-033F24A21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DCBF9-324E-40F6-A916-D9391B18A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B0CEF-A911-44A4-A8F3-4E841A280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B9F3D-C1CA-43FC-945D-D92465D53E6D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ＳｌｏｔｈＬｉｂＴｅｓｔ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Times New Roman"/>
              </a:rPr>
              <a:t>これはテストのためのドキュメントです．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２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なかだ</cp:lastModifiedBy>
  <dcterms:modified xsi:type="dcterms:W3CDTF">2008-04-10T04:52:20Z</dcterms:modified>
  <cp:revision>1</cp:revision>
  <dc:subject/>
  <dc:title>PowerPoint Presentation</dc:title>
</cp:coreProperties>
</file>