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9B9593-C592-495E-A7DE-E7592405E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A6FBA5-6AA9-44C1-B821-E8E5E393A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9876D5-D712-4B92-9AEC-7E34CEAE4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F930E6-D690-476C-BDA1-410AF2D9D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809F7B-BCB2-4629-982B-9846BA003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719F0E-0E23-40E0-9681-409A1910D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8F340F-BBD7-4E0D-B46B-763F89917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49EAAB-403A-4D66-A575-AD8D6356A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756BC2-916F-44F9-9972-868460505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21E1D9-024A-4B3B-A4CF-5F4A52D33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EE49E8-46B1-4F8B-AE2D-7EA1EBCF6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0F55FB-A152-43DF-8344-DBA1A01B6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CB1F44-A302-4455-B870-46CED759B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225D5F-9CC1-42F6-921A-87753AED7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883A98-7AFE-4F0D-AB85-02FB96F04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88A194-6179-470F-A186-14BFB57C0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7BD8A7-1DBB-44D2-9EB4-9CF553BBB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1B9E5C-4148-4A94-8BB3-0F7799CC9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6EC005-56B4-4F1F-B251-08818A1F5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D3F061-4119-4130-B33D-FDADB4961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CA2817-BF5B-4351-B90D-7D916DDD4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7EE4A7-2665-4182-A885-4DCBE8F92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094695-3248-40EC-B4DB-C7C0B9D02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6B06D2-BE92-4EF8-B583-C3658BC36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582-5829-4412-B40B-E83414B2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C1F6-5FD9-420F-B1C0-337337A2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74C-BAB4-456F-9F0C-E132A968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A7B-C4A9-4212-91C1-C0C9033C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3A58-2CB1-4033-87E7-52544FE4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8C46-2C1D-4541-B945-DE1937AB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1AAD-EED1-4E88-8715-476A0765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EDC6-3CB7-426B-A781-1F86A601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1C48-01EB-4D38-9BDC-BE777984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25DD-7CE0-4341-8359-BC1397D1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4F35-5971-4977-804C-4AF36B7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BEF-807E-4F06-A701-BBF73FFC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677B-C7E1-449F-AE29-5ECBB4EE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90FA-0B20-44B9-A3EA-F7717EC6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4F76-97F7-4EFB-A561-DC18B074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A7FB-A64D-4530-9112-0C2E5DDD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2669-5610-4C60-968B-AE2C1A1D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6529-AD97-48F0-A015-6E807DDC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71D8-FB78-494C-91AF-A7547A65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8C94-9AAD-433A-9DD3-1C5564D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2C84-94E6-4D2A-8B0D-D26D8A64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878B-1515-469E-BF15-3F8D23BA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338-7413-46C4-A927-321D488C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7488-1B34-4C38-A510-19FF6D6D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FFBD6-9CBF-4F60-B554-BB8B0B51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FC9E4-89B1-4A7B-BC9F-D139EE1B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35DC-0E25-40D3-9BFA-EAC41162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9B03D-4E71-449C-87BE-A50E5E82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7F64-6B4C-4667-A154-231B9FA4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E6D9-6147-47DE-8213-09356D4B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C612C-4D51-4C78-9AD3-8EE49FA3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8DE0-C540-4D7F-A61A-4FE75E2A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C8FF-6324-49F8-9895-4ADAC74A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2C4-5F39-4525-BF04-ADACD932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424A2-B7D3-4017-8BA7-A81793A3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D7E2-A206-4067-A765-0E92D4AF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A5421-7F42-44AB-B32F-47189050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A3B4B-7AC6-4E8B-9B6A-0D6E0888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01DFC-9C2A-4366-823E-4D199EA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C9C6F-3B6C-4951-B43D-5D12A1D4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67E4F-D6DF-4B42-B86E-9370C8F5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15C2A-0A33-4702-A1E2-AFB6536B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3B95-3F0B-474F-8DF0-89B0328E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BD43B-D618-4DFD-90C9-EB6EF9A1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615-2BA2-454C-BF78-79D37649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FD134-9B75-4C70-8BD7-C5222662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EF77B-E7AC-483F-BD06-BA037858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EB497-35D0-4280-83EC-D6382D2F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04C64-0133-4B27-8FA3-7110E0E1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5963-C268-4D2C-A34D-9662C9B8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BA2C-F5FF-4FB7-86C5-85B42F23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A330-9F54-48E4-8016-9D963915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E72DB-4A38-4511-9751-CAFBDF5F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CF282-B642-45EE-8895-A9A357E9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6469D-2CDE-43BD-9B51-830681D3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430-AC8B-460D-839D-A9340608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9F33-8993-41CD-BB9A-312614CE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DEE-85AA-429F-B42A-5AFA9660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327-D0FF-4081-BDAE-46BEC09D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41B-0929-4F27-8310-7E20BB7D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9040" y="274680"/>
            <a:ext cx="7637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3C33-F81F-4708-9520-F1404B134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422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明朝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64422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B068-3980-453B-A407-408D8B5E2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C3CC-0A63-4F13-82DF-03FC3088B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9040" y="274680"/>
            <a:ext cx="7637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2E68-0CC1-41C6-B0B7-2E46525C7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422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明朝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64422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05C0-BB7F-474E-8CDC-6725C0E08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Tutorial of Stigmata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6040" y="2492280"/>
            <a:ext cx="6183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Haruaki Tamada, Ph.D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http://stigmata.sourceforge.jp/tutorial.pdf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Sourceforge.jp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1258920" y="1722600"/>
            <a:ext cx="6772320" cy="45147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3422520" y="3789360"/>
            <a:ext cx="44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st of extracted birthmarks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Back to ``control’’ pan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258920" y="1722600"/>
            <a:ext cx="6772320" cy="4514760"/>
          </a:xfrm>
          <a:prstGeom prst="rect">
            <a:avLst/>
          </a:prstGeom>
          <a:ln w="0">
            <a:noFill/>
          </a:ln>
        </p:spPr>
      </p:pic>
      <p:sp>
        <p:nvSpPr>
          <p:cNvPr id="258" name="Oval 5"/>
          <p:cNvSpPr/>
          <p:nvPr/>
        </p:nvSpPr>
        <p:spPr>
          <a:xfrm>
            <a:off x="1116000" y="2060640"/>
            <a:ext cx="9144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356000" y="2708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tab, then go back to ``control’’ p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8"/>
          <p:cNvCxnSpPr>
            <a:stCxn id="259" idx="0"/>
            <a:endCxn id="258" idx="6"/>
          </p:cNvCxnSpPr>
          <p:nvPr/>
        </p:nvCxnSpPr>
        <p:spPr>
          <a:xfrm flipV="1" rot="16200000">
            <a:off x="3617640" y="672480"/>
            <a:ext cx="467280" cy="360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513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Add target file into Y axi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5148360" y="44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32360" y="278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is button and choose targe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10"/>
          <p:cNvCxnSpPr>
            <a:stCxn id="264" idx="2"/>
            <a:endCxn id="263" idx="0"/>
          </p:cNvCxnSpPr>
          <p:nvPr/>
        </p:nvCxnSpPr>
        <p:spPr>
          <a:xfrm rot="5400000">
            <a:off x="5365080" y="3661920"/>
            <a:ext cx="996120" cy="516600"/>
          </a:xfrm>
          <a:prstGeom prst="bentConnector3">
            <a:avLst>
              <a:gd name="adj1" fmla="val 50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4068720" y="5877000"/>
            <a:ext cx="1440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788000" y="3357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comparing round robin’’ button, then extracting birthmarks from 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6"/>
          <p:cNvCxnSpPr>
            <a:stCxn id="269" idx="2"/>
            <a:endCxn id="268" idx="0"/>
          </p:cNvCxnSpPr>
          <p:nvPr/>
        </p:nvCxnSpPr>
        <p:spPr>
          <a:xfrm rot="5400000">
            <a:off x="4871160" y="4465440"/>
            <a:ext cx="1310400" cy="1475640"/>
          </a:xfrm>
          <a:prstGeom prst="bentConnector3">
            <a:avLst>
              <a:gd name="adj1" fmla="val 506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omparison result of birthmarks</a:t>
            </a:r>
            <a:br>
              <a:rPr sz="3600"/>
            </a:b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(Round robin comparison)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omparison result of birthmarks</a:t>
            </a:r>
            <a:br>
              <a:rPr sz="3600"/>
            </a:b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(Round robin comparison)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8920" y="3645000"/>
            <a:ext cx="3835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``Save’’ button, then file save dialog is shown.  You can save those result as csv and xml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140328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6"/>
          <p:cNvCxnSpPr>
            <a:stCxn id="275" idx="2"/>
            <a:endCxn id="276" idx="0"/>
          </p:cNvCxnSpPr>
          <p:nvPr/>
        </p:nvCxnSpPr>
        <p:spPr>
          <a:xfrm rot="5400000">
            <a:off x="1397160" y="5033160"/>
            <a:ext cx="1072080" cy="146880"/>
          </a:xfrm>
          <a:prstGeom prst="bentConnector3">
            <a:avLst>
              <a:gd name="adj1" fmla="val 50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8920" y="3645000"/>
            <a:ext cx="3259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ing some cell, then opening new tab to show details of comparison p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The result of comparison pair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Showing similarity distribution graph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78144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679840" y="4076640"/>
            <a:ext cx="31161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Graph’’ button, then similarity distribution graph is shown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7"/>
          <p:cNvCxnSpPr>
            <a:stCxn id="286" idx="2"/>
            <a:endCxn id="285" idx="0"/>
          </p:cNvCxnSpPr>
          <p:nvPr/>
        </p:nvCxnSpPr>
        <p:spPr>
          <a:xfrm flipH="1">
            <a:off x="4237920" y="5001840"/>
            <a:ext cx="10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08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imilarity distribution graph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Launching Stigmata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48320" cy="4953240"/>
          </a:xfrm>
          <a:prstGeom prst="rect">
            <a:avLst/>
          </a:prstGeom>
          <a:ln w="0">
            <a:noFill/>
          </a:ln>
        </p:spPr>
      </p:pic>
      <p:sp>
        <p:nvSpPr>
          <p:cNvPr id="216" name="Oval 5"/>
          <p:cNvSpPr/>
          <p:nvPr/>
        </p:nvSpPr>
        <p:spPr>
          <a:xfrm>
            <a:off x="5148360" y="26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754440" y="450864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, then launch stig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7"/>
          <p:cNvCxnSpPr>
            <a:stCxn id="217" idx="0"/>
            <a:endCxn id="216" idx="4"/>
          </p:cNvCxnSpPr>
          <p:nvPr/>
        </p:nvCxnSpPr>
        <p:spPr>
          <a:xfrm flipH="1" flipV="1" rot="5400000">
            <a:off x="5133600" y="4036320"/>
            <a:ext cx="939240" cy="5400"/>
          </a:xfrm>
          <a:prstGeom prst="bentConnector3">
            <a:avLst>
              <a:gd name="adj1" fmla="val 5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80052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2050920" y="3957480"/>
            <a:ext cx="441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arrow button besides of ``Graph’’ button and popup menu is shown, select ``Distance Mapping’’ menu, then distance mapping is shown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AutoShape 6"/>
          <p:cNvCxnSpPr>
            <a:stCxn id="293" idx="2"/>
            <a:endCxn id="292" idx="0"/>
          </p:cNvCxnSpPr>
          <p:nvPr/>
        </p:nvCxnSpPr>
        <p:spPr>
          <a:xfrm flipH="1">
            <a:off x="4257000" y="5157360"/>
            <a:ext cx="108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22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Distance mapping graph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6083280" y="5661000"/>
            <a:ext cx="187344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2050920" y="4149720"/>
            <a:ext cx="46087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Comparing guessed pair’’ button, showing the result of comparing birthmarks by same name pair from X and Y 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6"/>
          <p:cNvCxnSpPr>
            <a:stCxn id="300" idx="3"/>
            <a:endCxn id="299" idx="0"/>
          </p:cNvCxnSpPr>
          <p:nvPr/>
        </p:nvCxnSpPr>
        <p:spPr>
          <a:xfrm>
            <a:off x="6659280" y="4613040"/>
            <a:ext cx="361080" cy="1028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2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creensho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hoose targe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1835280" y="44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19280" y="278136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is button, then file opening dialog i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6"/>
          <p:cNvCxnSpPr>
            <a:stCxn id="224" idx="2"/>
            <a:endCxn id="223" idx="0"/>
          </p:cNvCxnSpPr>
          <p:nvPr/>
        </p:nvCxnSpPr>
        <p:spPr>
          <a:xfrm rot="5400000">
            <a:off x="2135160" y="3853440"/>
            <a:ext cx="721440" cy="408600"/>
          </a:xfrm>
          <a:prstGeom prst="bentConnector3">
            <a:avLst>
              <a:gd name="adj1" fmla="val 510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1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hoose target jar fil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5000400" cy="3429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548280" y="5429160"/>
            <a:ext cx="3948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Jar file, and press open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5508720" y="51577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AutoShape 10"/>
          <p:cNvCxnSpPr>
            <a:stCxn id="229" idx="3"/>
            <a:endCxn id="230" idx="2"/>
          </p:cNvCxnSpPr>
          <p:nvPr/>
        </p:nvCxnSpPr>
        <p:spPr>
          <a:xfrm flipV="1">
            <a:off x="4505400" y="5614200"/>
            <a:ext cx="984960" cy="3960"/>
          </a:xfrm>
          <a:prstGeom prst="bentConnector3">
            <a:avLst>
              <a:gd name="adj1" fmla="val 50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9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Other choice method (D&amp;D)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356000" y="3375000"/>
            <a:ext cx="4535640" cy="3483000"/>
          </a:xfrm>
          <a:prstGeom prst="rect">
            <a:avLst/>
          </a:prstGeom>
          <a:ln w="0">
            <a:noFill/>
          </a:ln>
        </p:spPr>
      </p:pic>
      <p:sp>
        <p:nvSpPr>
          <p:cNvPr id="235" name="Oval 6"/>
          <p:cNvSpPr/>
          <p:nvPr/>
        </p:nvSpPr>
        <p:spPr>
          <a:xfrm>
            <a:off x="5724360" y="35002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 rot="11411400">
            <a:off x="2550240" y="1568520"/>
            <a:ext cx="3884760" cy="1727280"/>
          </a:xfrm>
          <a:custGeom>
            <a:avLst/>
            <a:gdLst>
              <a:gd name="textAreaLeft" fmla="*/ 895680 w 3884760"/>
              <a:gd name="textAreaRight" fmla="*/ 2814480 w 3884760"/>
              <a:gd name="textAreaTop" fmla="*/ 231120 h 1727280"/>
              <a:gd name="textAreaBottom" fmla="*/ 14961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60" hR="21600" stAng="10800000" swAng="-5400000"/>
                <a:lnTo>
                  <a:pt x="10669" y="21600"/>
                </a:lnTo>
                <a:arcTo wR="9960" hR="21600" stAng="5400000" swAng="-4063791"/>
                <a:lnTo>
                  <a:pt x="21427" y="4008"/>
                </a:lnTo>
                <a:lnTo>
                  <a:pt x="20275" y="0"/>
                </a:lnTo>
                <a:lnTo>
                  <a:pt x="18776" y="4008"/>
                </a:lnTo>
                <a:lnTo>
                  <a:pt x="19747" y="4008"/>
                </a:lnTo>
                <a:arcTo wR="9960" hR="21600" stAng="1336209" swAng="4007340"/>
                <a:lnTo>
                  <a:pt x="10314" y="21586"/>
                </a:lnTo>
                <a:arcTo wR="9960" hR="21600" stAng="5456451" swAng="5343549"/>
                <a:close/>
              </a:path>
              <a:path fill="darkenLess" w="21600" h="21600">
                <a:moveTo>
                  <a:pt x="0" y="0"/>
                </a:moveTo>
                <a:arcTo wR="9960" hR="21600" stAng="10800000" swAng="-5400000"/>
                <a:lnTo>
                  <a:pt x="10669" y="21600"/>
                </a:lnTo>
                <a:arcTo wR="9960" hR="21600" stAng="5400000" swAng="56451"/>
                <a:lnTo>
                  <a:pt x="10314" y="21586"/>
                </a:lnTo>
                <a:arcTo wR="9960" hR="21600" stAng="5456451" swAng="534354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6156360" y="1557360"/>
            <a:ext cx="2792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jar file and drop it into target list component, then the jar file was chosen as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elect extracted birthmark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1116000" y="4797360"/>
            <a:ext cx="684072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622160" y="335772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racted birth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AutoShape 10"/>
          <p:cNvCxnSpPr>
            <a:stCxn id="241" idx="2"/>
            <a:endCxn id="240" idx="0"/>
          </p:cNvCxnSpPr>
          <p:nvPr/>
        </p:nvCxnSpPr>
        <p:spPr>
          <a:xfrm flipH="1" rot="16200000">
            <a:off x="3289320" y="3530160"/>
            <a:ext cx="1054800" cy="1442160"/>
          </a:xfrm>
          <a:prstGeom prst="bentConnector3">
            <a:avLst>
              <a:gd name="adj1" fmla="val 507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0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elect extraction uni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5651640" y="5805360"/>
            <a:ext cx="2160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4859280" y="2852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raction unit.  Default is extracting from each class file.  Other unit is extracting from package, and jar file (prod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9"/>
          <p:cNvCxnSpPr>
            <a:stCxn id="246" idx="2"/>
            <a:endCxn id="245" idx="0"/>
          </p:cNvCxnSpPr>
          <p:nvPr/>
        </p:nvCxnSpPr>
        <p:spPr>
          <a:xfrm flipH="1" rot="16200000">
            <a:off x="5817240" y="4871520"/>
            <a:ext cx="1469160" cy="361080"/>
          </a:xfrm>
          <a:prstGeom prst="bentConnector3">
            <a:avLst>
              <a:gd name="adj1" fmla="val 505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2700360" y="587700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476360" y="35924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extract’’ button, then extracting birthmarks from 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6"/>
          <p:cNvCxnSpPr>
            <a:stCxn id="251" idx="2"/>
            <a:endCxn id="250" idx="0"/>
          </p:cNvCxnSpPr>
          <p:nvPr/>
        </p:nvCxnSpPr>
        <p:spPr>
          <a:xfrm flipH="1" rot="16200000">
            <a:off x="2458440" y="5039280"/>
            <a:ext cx="1350000" cy="288000"/>
          </a:xfrm>
          <a:prstGeom prst="bentConnector3">
            <a:avLst>
              <a:gd name="adj1" fmla="val 505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4:39:47Z</dcterms:created>
  <dc:creator>玉田 春昭</dc:creator>
  <dc:description/>
  <dc:language>en-US</dc:language>
  <cp:lastModifiedBy> </cp:lastModifiedBy>
  <dcterms:modified xsi:type="dcterms:W3CDTF">2008-05-15T04:37:14Z</dcterms:modified>
  <cp:revision>4</cp:revision>
  <dc:subject/>
  <dc:title>Tutorial of Stigmata</dc:title>
</cp:coreProperties>
</file>