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260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0280" y="4680000"/>
            <a:ext cx="497196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06990-BFF4-45C6-BD9D-95A3B39B99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DA7E95-C0FF-49A9-9197-874771D23B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2C583-BC2E-4187-96B0-8EA3D58F7D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12E029-2D39-4DF9-B4C7-40E6D26587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DE2EE-5DD7-43FB-B40A-BB7DD0FCB2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23B005-EC0A-4E9F-B87E-AEC746C8B0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EA3FE-DCBE-46AA-BF0E-DBFECBA838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EB58E-FAF5-4900-A52A-CCB54642ED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74BBC3-60AA-481F-A556-5C14A9F306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68E52-28FE-4CAB-9C2C-2D5C982903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C4611-2C1D-4352-A499-E596BAE8BE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A0FAC-3D5F-4BB4-BF87-4A3B1A5C31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51B44-B14C-4638-BB59-A6AF4D88F2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53764D-976A-4590-9088-4904EF4FE8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4F8E1D-74C9-4486-8206-6FFB878AA6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28043-CA02-4817-98B6-917323C4CC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049B9-034C-41EE-9B47-77AA9B5DCD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6E183-D261-442A-9CE8-F2438EDB7A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0DA5D-562B-4755-B110-ECB6D4E82D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2221D-4C42-4D07-99CF-5779CCBD5D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EECC2-DDCE-48B4-9941-E2539D139A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F6AAD-64B9-4D45-965B-88F2C4CC93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76FBC-70BE-48FB-A666-C14F812066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D5A0A-D018-42B6-86D8-31A48F696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DE374-BCA4-4F28-A79D-F330303D6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C6A2F-281A-475B-8E50-7C6F5F55F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92BBC-7340-42F9-AE9E-2DF43ED15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8B4B3-61AB-46C4-8CA0-FB2DDF809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F72AE-63E2-4114-89C3-9669BCF31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94DFE-639C-4B2F-96A8-18970B3E7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CF47B-2319-45DF-9C11-305F4424C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87BC6-81FA-435B-B1B8-2B2133996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07120" y="6089760"/>
            <a:ext cx="1218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8480" y="61736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BD1E-49D8-49DA-AC12-CEEC1917A462}" type="slidenum">
              <a: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624672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굴림"/>
              </a:rPr>
              <a:t>Embedded System Softwa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00240" indent="17604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542960" indent="176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os-ii.com/" TargetMode="External"/><Relationship Id="rId2" Type="http://schemas.openxmlformats.org/officeDocument/2006/relationships/hyperlink" Target="http://www.ucos-ii.com/" TargetMode="External"/><Relationship Id="rId3" Type="http://schemas.openxmlformats.org/officeDocument/2006/relationships/hyperlink" Target="http://www.ucos-ii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br>
              <a:rPr sz="3200"/>
            </a:b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제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3,4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차 강의내용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통신진흥원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M-EM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교안개발팀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상태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5600" y="1676520"/>
          <a:ext cx="7124760" cy="4147920"/>
        </p:xfrm>
        <a:graphic>
          <a:graphicData uri="http://schemas.openxmlformats.org/drawingml/2006/table">
            <a:tbl>
              <a:tblPr/>
              <a:tblGrid>
                <a:gridCol w="3562560"/>
                <a:gridCol w="3562200"/>
              </a:tblGrid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상 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33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ORMA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면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메모리에는 존재하지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 있는 상태는 아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ADY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준비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는 있지만 현 태스크보다 우선순위가 낮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UNNING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실행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를 실제로 사용하고 있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ELAY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지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얼마의 시간동안 작업이 중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AITING FOR AN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이벤트에 대한 대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ve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발생을 기다릴 때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예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/O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연산 종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공유 리소스가 사용 가능해 질  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ing pulse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등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ERRUPT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중단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럽트가 일어나고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 인터럽트 서비스를 수행할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F2E5F-D2AD-4AC8-AD85-83D6080A00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들의 상태 전이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7320" y="1625760"/>
            <a:ext cx="7581960" cy="4210920"/>
            <a:chOff x="787320" y="1625760"/>
            <a:chExt cx="7581960" cy="4210920"/>
          </a:xfrm>
        </p:grpSpPr>
        <p:sp>
          <p:nvSpPr>
            <p:cNvPr id="131" name=""/>
            <p:cNvSpPr/>
            <p:nvPr/>
          </p:nvSpPr>
          <p:spPr>
            <a:xfrm>
              <a:off x="3924360" y="1625760"/>
              <a:ext cx="111744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68912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816200"/>
              <a:ext cx="2540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1800" y="18162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1816200"/>
              <a:ext cx="0" cy="2768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1816200"/>
              <a:ext cx="0" cy="2806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7920" y="1828800"/>
              <a:ext cx="0" cy="2781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46101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3640" y="4673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DORM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3640" y="45975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9960" y="46609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9960" y="4584600"/>
              <a:ext cx="111780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5628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1840" y="4584600"/>
              <a:ext cx="11174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076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1640" y="4978440"/>
              <a:ext cx="0" cy="546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71240" y="5524560"/>
              <a:ext cx="4267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71600" y="499104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404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77504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04760" y="48895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12920" y="48769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72200" y="487692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3440" y="234936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5440" y="4165560"/>
              <a:ext cx="163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9560" y="49402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7920" y="1981080"/>
              <a:ext cx="1701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Fron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em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tick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6680" y="49276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44956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errup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9402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eemp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3975120"/>
              <a:ext cx="1473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TASK_SW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4400" y="5575320"/>
              <a:ext cx="111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981080"/>
              <a:ext cx="15746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Sus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HMSM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2E5AF-926D-4A15-ADA7-4A1C06F1BE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시 각 태스크 별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할당 받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M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상주하면서 태스크의 상태를 관리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kPtr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 꼭대기를 가리키는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리어 코드의 문맥 전환 코드 부분에서 접근하는 유일한 필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맨 위에 배치하는 것이 어셈블리 언어에서 접근하도록 하는데 좋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at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값들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c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있음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Prio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 순위가 높을수록 작은 값을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Dly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지연될 필요가 있을 때나 일정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두고 이벤트 발생을 기다릴 때 사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혹은 기다릴 시간을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ock tic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 때에는 지연되지 않거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없는 상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5818D-0AF0-4A7F-8643-1486CEC3D0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Y, OSTCBBitX, OSTCBBitY :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생성되거나 우선순위가 바뀔 때 사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Next, OSTCBPrev : OS_TCB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양방향으로 링크하는데 사용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각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 값을 갱신하는데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생성시 링크되고 태스크가 제거될 때 링크도 제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EventPtr : Event control block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14680" y="2209680"/>
            <a:ext cx="486396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2260440"/>
            <a:ext cx="4749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= priority &amp; 0x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X = OSMapTbl[priority &amp; 0x07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Y = priority &gt;&gt;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Y = OSMapTbl[priority &gt;&gt;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11AB0-8F70-486F-B707-BABCB18507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57920" cy="24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상태를 저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위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unning, Waiting, Dormant, 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의 이중 연결 리스트의 이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태스크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받은 이벤트나 메시지에 대한 포인터 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Tbl[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위치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될 때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은 하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연결되어 관리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000" y="2857320"/>
            <a:ext cx="8839080" cy="3340440"/>
            <a:chOff x="216000" y="2857320"/>
            <a:chExt cx="8839080" cy="3340440"/>
          </a:xfrm>
        </p:grpSpPr>
        <p:sp>
          <p:nvSpPr>
            <p:cNvPr id="174" name=""/>
            <p:cNvSpPr/>
            <p:nvPr/>
          </p:nvSpPr>
          <p:spPr>
            <a:xfrm>
              <a:off x="135900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00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6040" y="4356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148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888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396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844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91240" y="42292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OS_MAX_TASKS+OS_N_SYS_TASKS-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902120"/>
              <a:ext cx="520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6000" y="4915080"/>
              <a:ext cx="520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2960" y="49021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5880" y="4902120"/>
              <a:ext cx="9525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08960" y="47498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00" y="388620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74360" y="2856960"/>
              <a:ext cx="114192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900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148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396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44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74984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1480" y="47372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24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40388-637F-4810-BDDF-AB69891FD3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변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의 태스크를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현재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를 효율적을 검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에 의해 그룹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그룹 당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우선순위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ID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각 비트는 해당 그룹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지정된 우선순위의 각 태스크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지 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33143-0468-4B13-BCD6-44FA20AEEE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7320" y="1206360"/>
            <a:ext cx="7925040" cy="5189400"/>
            <a:chOff x="787320" y="1206360"/>
            <a:chExt cx="7925040" cy="5189400"/>
          </a:xfrm>
        </p:grpSpPr>
        <p:grpSp>
          <p:nvGrpSpPr>
            <p:cNvPr id="205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206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28880" y="1487520"/>
              <a:ext cx="2949480" cy="306360"/>
              <a:chOff x="1028880" y="1487520"/>
              <a:chExt cx="2949480" cy="306360"/>
            </a:xfrm>
          </p:grpSpPr>
          <p:sp>
            <p:nvSpPr>
              <p:cNvPr id="289" name=""/>
              <p:cNvSpPr/>
              <p:nvPr/>
            </p:nvSpPr>
            <p:spPr>
              <a:xfrm>
                <a:off x="36093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4072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7208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0344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444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616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71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888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28880" y="14875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28880" y="179388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2888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97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6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03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208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072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093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836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3600" y="527364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0960" y="5391000"/>
              <a:ext cx="328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408440" y="5097240"/>
              <a:ext cx="150840" cy="29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02120" y="5530680"/>
              <a:ext cx="22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43280" y="5715000"/>
              <a:ext cx="354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4360" y="5918040"/>
              <a:ext cx="396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와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인덱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63442-B41F-4551-A910-DF8E53E639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상 가장 높은 우선순위의 태스크를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가장 높은 우선순위의 태스크와 다음에 실행할 태스크가 결정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;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ㅁ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ched(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스케줄링을 수행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5720" y="2870280"/>
            <a:ext cx="7576920" cy="3262320"/>
            <a:chOff x="855720" y="2870280"/>
            <a:chExt cx="7576920" cy="3262320"/>
          </a:xfrm>
        </p:grpSpPr>
        <p:sp>
          <p:nvSpPr>
            <p:cNvPr id="375" name=""/>
            <p:cNvSpPr/>
            <p:nvPr/>
          </p:nvSpPr>
          <p:spPr>
            <a:xfrm>
              <a:off x="855720" y="2870280"/>
              <a:ext cx="614196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void OSSched (voi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NT8U y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NTER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(OSLockNesting | OSIntNesting) == 0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y = OSUnMapTbl[OSRdyGrp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PrioHighRdy = (INT8U)((y &lt;&lt; 3) + OSUnMapTbl[OSRdyTbl[y]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OSPrioHighRdy != OSPrioCur) {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TCBHighRdy = OSTCBPrioTbl[OSPrioHighRdy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CtxSwCtr++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TASK_SW();  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XIT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5720" y="287028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" y="613260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72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768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9240" y="3073320"/>
              <a:ext cx="2271960" cy="459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호출 또는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케줄링 불능 상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여부 확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600" y="3657600"/>
              <a:ext cx="103968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우선순위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결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2240" y="4876920"/>
              <a:ext cx="2030400" cy="624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현재 실행중인 태스크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태스크인지 확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–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필요 없는 문맥교환 방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65560" y="4851360"/>
              <a:ext cx="130644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 문맥 교환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수행 매크로 호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4360" y="4394160"/>
              <a:ext cx="2975040" cy="216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3"/>
              <a:endCxn id="382" idx="0"/>
            </p:cNvCxnSpPr>
            <p:nvPr/>
          </p:nvCxnSpPr>
          <p:spPr>
            <a:xfrm>
              <a:off x="4573080" y="4501800"/>
              <a:ext cx="284580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"/>
            <p:cNvCxnSpPr>
              <a:stCxn id="383" idx="1"/>
              <a:endCxn id="383" idx="1"/>
            </p:cNvCxnSpPr>
            <p:nvPr/>
          </p:nvCxnSpPr>
          <p:spPr>
            <a:xfrm flipH="1" flipV="1" rot="10800000">
              <a:off x="3265200" y="5153400"/>
              <a:ext cx="216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1114560" y="3759120"/>
              <a:ext cx="3635280" cy="2034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3"/>
              <a:endCxn id="380" idx="1"/>
            </p:cNvCxnSpPr>
            <p:nvPr/>
          </p:nvCxnSpPr>
          <p:spPr>
            <a:xfrm flipV="1">
              <a:off x="4763880" y="3301920"/>
              <a:ext cx="495720" cy="559080"/>
            </a:xfrm>
            <a:prstGeom prst="bentConnector3">
              <a:avLst>
                <a:gd name="adj1" fmla="val 483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/>
            <p:nvPr/>
          </p:nvCxnSpPr>
          <p:spPr>
            <a:xfrm flipV="1">
              <a:off x="6935760" y="3890520"/>
              <a:ext cx="381600" cy="396000"/>
            </a:xfrm>
            <a:prstGeom prst="bentConnector3">
              <a:avLst>
                <a:gd name="adj1" fmla="val 47875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8FF92-3E9F-464E-ACB5-76C19BA59A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le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가 없을 경우 시스템이 자동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장 낮은 우선순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소프트웨어에 의해 절대로 삭제될 수 없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행 중 통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 백분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–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우선순위로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51080" y="3949560"/>
          <a:ext cx="5634000" cy="1814400"/>
        </p:xfrm>
        <a:graphic>
          <a:graphicData uri="http://schemas.openxmlformats.org/drawingml/2006/table">
            <a:tbl>
              <a:tblPr/>
              <a:tblGrid>
                <a:gridCol w="563400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Idle (void *p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pdata = pdata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for( ; ;) 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NTER_CRITICAL(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   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IdleCtr++;        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/*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시스템의 실행 통계를 위한 카운터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XIT_CRITICAL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ko-KR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99080-922A-4333-A66F-AA47E29419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 전이나 실행 중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생성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한 생성은 불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tas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할 태스크 코드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전달될 인자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to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서 사용할 스택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op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가리키는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가 요구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 검사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되기 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해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태스크가 이미 있는지 확인 </a:t>
            </a:r>
            <a:r>
              <a:rPr b="1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하면 인터럽트가 발생한 것처럼 스택을 초기화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저장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B0775-9740-4EDE-99B2-A36AA8CEC0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요내용 및 방향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요내용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개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프로그램 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방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에 대한 기본이해로부터 간단한 프로그래밍까지를 실습할 수 있는 기회 제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전체를 파악하기 보다는 예제 프로그램을 분석하는 데 요구되는 함수나 구조를 중심으로 접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xWorks, Nucleus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다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해서 진행하는 방법도 가능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5DA92-7005-4208-ADA0-F436FDB691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요구하는 우선순위의 타당성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합당하면 우선순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같은 우선순위를 가지는 태스크가 없음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을 생성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poo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새로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얻어와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카운터를 증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기타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 작업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부동 소수점 레지스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M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레지스터의 값을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로부터 생성된 경우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롭게 생성된 태스크가 가장 우선순위가 높은 태스크이면 문맥교환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DA36C-E95B-46BC-9FCF-A1EEEBF72B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각의 태스크는 스택을 가지게 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으로 선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iguous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적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동적인 방법으로 생성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단편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gmentatio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 발생시 힙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heap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의 낭비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39880" y="3479760"/>
            <a:ext cx="4927680" cy="2171520"/>
            <a:chOff x="1739880" y="3479760"/>
            <a:chExt cx="4927680" cy="2171520"/>
          </a:xfrm>
        </p:grpSpPr>
        <p:sp>
          <p:nvSpPr>
            <p:cNvPr id="400" name=""/>
            <p:cNvSpPr/>
            <p:nvPr/>
          </p:nvSpPr>
          <p:spPr>
            <a:xfrm>
              <a:off x="354312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12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4312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312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3988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116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2116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16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8800" y="3949920"/>
              <a:ext cx="1079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 h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4640" y="356868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4640" y="41022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4640" y="462276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22680" y="356868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22680" y="40896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22680" y="462276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131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5760" y="5143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51310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, C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반환 후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단편화 발생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809800" y="5438880"/>
            <a:ext cx="971640" cy="352440"/>
          </a:xfrm>
          <a:custGeom>
            <a:avLst/>
            <a:gdLst>
              <a:gd name="textAreaLeft" fmla="*/ 169920 w 971640"/>
              <a:gd name="textAreaRight" fmla="*/ 704520 w 9716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38800" y="5467320"/>
            <a:ext cx="971280" cy="352440"/>
          </a:xfrm>
          <a:custGeom>
            <a:avLst/>
            <a:gdLst>
              <a:gd name="textAreaLeft" fmla="*/ 169920 w 971280"/>
              <a:gd name="textAreaRight" fmla="*/ 704160 w 971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CF105-A5DF-4B94-A892-0CCEADFF81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증가 방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낮은 메모리 주소에서 높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메모리 주소에서 낮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00200" y="2781360"/>
            <a:ext cx="6095880" cy="3035160"/>
            <a:chOff x="1600200" y="2781360"/>
            <a:chExt cx="6095880" cy="3035160"/>
          </a:xfrm>
        </p:grpSpPr>
        <p:sp>
          <p:nvSpPr>
            <p:cNvPr id="424" name=""/>
            <p:cNvSpPr/>
            <p:nvPr/>
          </p:nvSpPr>
          <p:spPr>
            <a:xfrm>
              <a:off x="1600200" y="2781360"/>
              <a:ext cx="60958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686480"/>
              <a:ext cx="6095880" cy="11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50960" y="2882880"/>
              <a:ext cx="599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&amp;TaskStack[0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8360" y="4762440"/>
              <a:ext cx="59943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&amp;TaskStack[TASK_STACK_SIZE-1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3289320"/>
              <a:ext cx="150192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87680" y="5423040"/>
              <a:ext cx="349560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85D82-E627-4B17-9553-3EF2FFE699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제 사용 스택 공간 크기를 검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StkChk (INT8U prio, OS_STK_DATA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얻고자 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담고 있는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를 사용하기 위한 방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CREATE_EXT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Ex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옵션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HK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LR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Ch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을 반복 수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이 가장 깊게 성장했을 때의 깊이를 측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의 적절한 스택 크기를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94040" y="2603520"/>
            <a:ext cx="5384520" cy="711360"/>
            <a:chOff x="1994040" y="2603520"/>
            <a:chExt cx="5384520" cy="711360"/>
          </a:xfrm>
        </p:grpSpPr>
        <p:sp>
          <p:nvSpPr>
            <p:cNvPr id="433" name=""/>
            <p:cNvSpPr/>
            <p:nvPr/>
          </p:nvSpPr>
          <p:spPr>
            <a:xfrm>
              <a:off x="1994040" y="2616120"/>
              <a:ext cx="5384520" cy="69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57040" y="2603520"/>
              <a:ext cx="5257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Free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 남아 잇는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Used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서 사용된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EE552-05BD-4C3F-A834-91EB11CBAC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스택 공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00280" y="1955880"/>
            <a:ext cx="7683480" cy="4025520"/>
            <a:chOff x="800280" y="1955880"/>
            <a:chExt cx="7683480" cy="4025520"/>
          </a:xfrm>
        </p:grpSpPr>
        <p:sp>
          <p:nvSpPr>
            <p:cNvPr id="437" name=""/>
            <p:cNvSpPr/>
            <p:nvPr/>
          </p:nvSpPr>
          <p:spPr>
            <a:xfrm>
              <a:off x="2616120" y="2324160"/>
              <a:ext cx="1625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16120" y="2108160"/>
              <a:ext cx="0" cy="3035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2095560"/>
              <a:ext cx="0" cy="3035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6120" y="3593880"/>
              <a:ext cx="1650960" cy="12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9080" y="4788000"/>
              <a:ext cx="16254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63760" y="2273400"/>
              <a:ext cx="279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0.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6120" y="3581280"/>
              <a:ext cx="1625760" cy="120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9840" y="485136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92440" y="195588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241520" y="231156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254480" y="356868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241520" y="478800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32320" y="3835080"/>
              <a:ext cx="0" cy="749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0800" y="4127400"/>
              <a:ext cx="18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확장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3263760"/>
              <a:ext cx="13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로 스택이 최대로 확장될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7360" y="21589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9080" y="232416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30920" y="478800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2324160"/>
              <a:ext cx="0" cy="245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0" y="3276720"/>
              <a:ext cx="162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83360" y="463536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초기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720" y="231156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0320" y="356868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6640" y="2286000"/>
              <a:ext cx="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30320" y="4788000"/>
              <a:ext cx="165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3556080"/>
              <a:ext cx="0" cy="1218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2616120"/>
              <a:ext cx="10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용 가능한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15920" y="3746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중인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280" y="5118120"/>
              <a:ext cx="15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P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의 현재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84200" y="4178160"/>
              <a:ext cx="2412720" cy="18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843D9-2C89-4581-B472-0A721F43B5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로 변경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Del 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스케줄 되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가 되게 할 수 없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조건 검사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삭제 시도 여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 태스크의 존재 여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부터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에 대기중인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카운트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인터럽트 재개시까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준비되지 않게 하기 위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RD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A6C0B-07C1-483B-89B4-BD731A2CC0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확장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반납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카운터 감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 순위 테이블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시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OS_TCB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중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된 높은 우선순위의 태스크가 있을 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80A03-32FB-47E6-BC19-10A320B0C3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경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이루어진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때 요구된 우선 순위 값은 할당되어 있지 않은 상태이어야 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화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태스크가 새 우선 순위를 할당 받으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지 않으면 태스크는 새 우선 순위에서 실행될 준비가 되지 않는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 발생을 기다리면 태스크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vent 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새 우선 순위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체인에서 제거되어 새 우선 순위를 받는 동안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하여 태스크가 실행 준비가 되는 것을 방지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d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BitX, OSTCBY, OSTCBBit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재계산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BABA6-754A-4963-8ADE-4C23160454E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uspend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태스크를 명시적으로 일시 중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TaskSuspend(INT8U prio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중지시킬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실행을 재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는 태스크는 중지시키지 않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Suspend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유효한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존재하면 실행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준비 리스트에 존재하지 않으면 이벤트나 시간 종료를 기다리는 태스크이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설정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180A1-0DA5-4CAC-8BEC-2AAA6DCC891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Resuming &amp; Tas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정보 획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13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Resum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중지된 태스크를 실행 재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Resume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재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고 있지 않은 태스크이므로 재개된 태스크가 현재 태스크보다 더 높은 우선순위를 가지면 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보 획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복사해 태스크 정보를 얻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Query(INT8U prio, OS_TCB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보를 얻을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복사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의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임의의 시점에서의 태스크의 실행 단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napshot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디버깅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bugging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용도로 사용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0E9C4-E665-4FEE-99C4-8C90520136D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특징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태스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점형 커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ritical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섹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재진입 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커널 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관리  및 스택 공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 처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초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벤트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통신과 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81777-2C45-46AE-83F7-27C54A696A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동적 메모리 관리 및 할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89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램 실행시간에 필요한 만큼의 메모리 블록을 할당 받고 해제하는 기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lloc(), free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agmentation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연속적인 자유 메모리 블록 현상 발생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on-deterministic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결정적인 수행 속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시간 시스템에 부적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동적 메모리 할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 메모리 공간에서 파티션을 할당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나의 파티션은 고정된 크기의 블록들로 구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결정적인 수행속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22640" y="4292280"/>
            <a:ext cx="4825800" cy="2045160"/>
            <a:chOff x="2222640" y="4292280"/>
            <a:chExt cx="4825800" cy="2045160"/>
          </a:xfrm>
        </p:grpSpPr>
        <p:sp>
          <p:nvSpPr>
            <p:cNvPr id="480" name=""/>
            <p:cNvSpPr/>
            <p:nvPr/>
          </p:nvSpPr>
          <p:spPr>
            <a:xfrm>
              <a:off x="4483080" y="4292640"/>
              <a:ext cx="1117800" cy="204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080" y="464832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080" y="4991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95680" y="53341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568944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60199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51640" y="42926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1640" y="633744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9480" y="4292640"/>
              <a:ext cx="0" cy="2044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9240" y="60199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2200" y="56894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2640" y="5689440"/>
              <a:ext cx="0" cy="31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6894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003640"/>
              <a:ext cx="11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art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30520" y="4292280"/>
              <a:ext cx="90180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22640" y="45975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작주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CFC20-897B-4EA1-B62D-29B5757BFB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메모리 파티션의 시행 시간 정보를 관리하는 자료구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Blk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Free : 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자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생성 및 메모리 블록의 할당 및 해제를 담당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OSMemIni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호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는 호출 불가능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FG.H&gt; OS_MEM_EN = 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되어 있어야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MAX_MEME_PART 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파티션의 최대 갯수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048120"/>
            <a:ext cx="8610480" cy="1830960"/>
            <a:chOff x="304920" y="3048120"/>
            <a:chExt cx="8610480" cy="1830960"/>
          </a:xfrm>
        </p:grpSpPr>
        <p:sp>
          <p:nvSpPr>
            <p:cNvPr id="499" name=""/>
            <p:cNvSpPr/>
            <p:nvPr/>
          </p:nvSpPr>
          <p:spPr>
            <a:xfrm>
              <a:off x="177804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16200" y="3073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804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6200" y="33400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804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16200" y="36068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873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804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16200" y="4140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836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652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836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652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836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652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0836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0836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4652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03840" y="307332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4200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03840" y="334008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200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03840" y="360684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200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03840" y="387360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200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03840" y="414036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3467160"/>
              <a:ext cx="647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3048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04840" y="330156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7824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0400" y="347976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6112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8840" y="34923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08960" y="337824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8040" y="4444920"/>
              <a:ext cx="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66240" y="4444920"/>
              <a:ext cx="0" cy="254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78040" y="4572000"/>
              <a:ext cx="6388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4572000"/>
              <a:ext cx="24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MEM_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13480" y="3301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F75F3-05C3-4DCA-AADB-27E0D254654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MEM OSMemCreate(void *addr, INT32U nblks, INT32U blksize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파티션의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blks / 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 내의 블록 개수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88840" y="3784680"/>
            <a:ext cx="7531200" cy="2072160"/>
            <a:chOff x="888840" y="3784680"/>
            <a:chExt cx="7531200" cy="2072160"/>
          </a:xfrm>
        </p:grpSpPr>
        <p:sp>
          <p:nvSpPr>
            <p:cNvPr id="545" name=""/>
            <p:cNvSpPr/>
            <p:nvPr/>
          </p:nvSpPr>
          <p:spPr>
            <a:xfrm>
              <a:off x="5384880" y="38224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378468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84880" y="41274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4120" y="4089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4880" y="44319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4394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4880" y="47368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4698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4880" y="50418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5003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4880" y="53463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5308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5800" y="3822480"/>
              <a:ext cx="5713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75520" y="4470120"/>
              <a:ext cx="124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ontiguous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/>
            <p:nvPr/>
          </p:nvCxnSpPr>
          <p:spPr>
            <a:xfrm>
              <a:off x="6413040" y="4165200"/>
              <a:ext cx="2520" cy="30492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/>
            <p:nvPr/>
          </p:nvCxnSpPr>
          <p:spPr>
            <a:xfrm>
              <a:off x="6413040" y="449568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6413040" y="482580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6413040" y="515592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6286680" y="5422680"/>
              <a:ext cx="469800" cy="177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91240" y="554976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5240" y="415260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73400" y="4152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5240" y="441936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3400" y="4419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5240" y="468612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3400" y="4686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5240" y="495288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3400" y="4952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5240" y="521964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3400" y="52196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3080" y="3809880"/>
              <a:ext cx="11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683160" y="3898800"/>
              <a:ext cx="1689120" cy="406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08360" y="3974760"/>
              <a:ext cx="1663920" cy="583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8360" y="427968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8840" y="4114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908760" y="5613120"/>
              <a:ext cx="571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099200" y="3822120"/>
              <a:ext cx="0" cy="1790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/>
            <p:nvPr/>
          </p:nvCxnSpPr>
          <p:spPr>
            <a:xfrm>
              <a:off x="6413040" y="386064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65E19-44B1-4631-A978-681D5119005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oid *OSMemGet(OS_MEM *pmem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mem : 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메모리 블록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Put(OS_MEM *pmem, void *pblk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31640" y="4216320"/>
            <a:ext cx="8712360" cy="2135880"/>
            <a:chOff x="431640" y="4216320"/>
            <a:chExt cx="8712360" cy="2135880"/>
          </a:xfrm>
        </p:grpSpPr>
        <p:sp>
          <p:nvSpPr>
            <p:cNvPr id="586" name=""/>
            <p:cNvSpPr/>
            <p:nvPr/>
          </p:nvSpPr>
          <p:spPr>
            <a:xfrm>
              <a:off x="1790640" y="4699080"/>
              <a:ext cx="2514600" cy="1168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1160" y="488952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" y="47242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0640" y="50673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546084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29080" y="431784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7200" y="47624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7200" y="55245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8800" y="511812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 = 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76640" y="4610160"/>
              <a:ext cx="144792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37160" y="42544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6400" y="42163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7160" y="45594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86400" y="4521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48639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4826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51688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130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7160" y="54738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5435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37160" y="57783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5740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603480" y="4267080"/>
              <a:ext cx="8766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0760" y="428004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된 메모리 블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/>
            <p:nvPr/>
          </p:nvCxnSpPr>
          <p:spPr>
            <a:xfrm>
              <a:off x="6566040" y="459756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566040" y="492768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/>
            <p:nvPr/>
          </p:nvCxnSpPr>
          <p:spPr>
            <a:xfrm>
              <a:off x="6566040" y="525744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/>
            <p:nvPr/>
          </p:nvCxnSpPr>
          <p:spPr>
            <a:xfrm>
              <a:off x="6566040" y="558756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6438960" y="5854680"/>
              <a:ext cx="105408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8560" y="604512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C9ACC-F79C-46D8-8DA0-AB5BDD43EC4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Query (OS_MEM *pmem,    OS_MEM_DATA *pdata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부터 얻어내는 파티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되는 파티션 정보의 구조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EM_DATA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6109B-A45B-4C18-B122-675447F7761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통한 메모리 공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간 메모리 블록 공유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사용하여 메모리 블록에 대한 공유를 상호 배제 시킨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46040" y="2806560"/>
            <a:ext cx="4597560" cy="19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09760" y="2870280"/>
            <a:ext cx="4424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end(SemaphorePtr, 0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ock = OSMemGet(PartitionPtr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을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Put(PartitionPtr, pbloc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ost(SemaphoreP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47B53-BFC4-4FBC-9BAB-647DBF8921D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발생이 확인되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저장하고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Service Routine(ISR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 분기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완료되면 프로그램은 실행 준비가 된 태스크 중 가장 우선 순위가 높은 것으로 돌아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rupt Nesting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진행 도중 다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발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ck/Un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될 때까지 태스크 스케줄링을 막는 역할을 하며 두 함수는 함께 쓰인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: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중첩을 위해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된 횟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=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E99D0-A2D7-439D-B946-AD113192E38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60520" y="1676520"/>
            <a:ext cx="6134040" cy="3705480"/>
            <a:chOff x="1460520" y="1676520"/>
            <a:chExt cx="6134040" cy="3705480"/>
          </a:xfrm>
        </p:grpSpPr>
        <p:sp>
          <p:nvSpPr>
            <p:cNvPr id="626" name=""/>
            <p:cNvSpPr/>
            <p:nvPr/>
          </p:nvSpPr>
          <p:spPr>
            <a:xfrm>
              <a:off x="1460520" y="1981080"/>
              <a:ext cx="6134040" cy="12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73400" y="2260440"/>
              <a:ext cx="0" cy="2311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0840" y="22604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6640" y="2247840"/>
              <a:ext cx="0" cy="21081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338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60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500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73400" y="2540160"/>
              <a:ext cx="11174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78240" y="28576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6640" y="32767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1240" y="3683160"/>
              <a:ext cx="6602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8880" y="32893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1640" y="28828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2640" y="2540160"/>
              <a:ext cx="99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05240" y="16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 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3120" y="238752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080" y="27306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080" y="31496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86080" y="355608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4673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6080" y="4889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7560" y="5105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200400" y="4432320"/>
              <a:ext cx="16524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076640" y="44323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533840" y="4419720"/>
              <a:ext cx="41904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10FBB-C035-480B-BB1D-52F9795D97E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ISR (Interrupt Service Routine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통 어셈블리어로 작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현재 태스크 스택에 저장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nter( 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서비스를 위한 사용자 코드 실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xit( 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복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부터 복귀를 수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8D162-D26F-4C71-800D-BE400E358B4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로부터의 복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49160" y="1612800"/>
            <a:ext cx="8128080" cy="3619440"/>
            <a:chOff x="749160" y="1612800"/>
            <a:chExt cx="8128080" cy="3619440"/>
          </a:xfrm>
        </p:grpSpPr>
        <p:sp>
          <p:nvSpPr>
            <p:cNvPr id="656" name=""/>
            <p:cNvSpPr/>
            <p:nvPr/>
          </p:nvSpPr>
          <p:spPr>
            <a:xfrm>
              <a:off x="2705040" y="16383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7920" y="16257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1968480"/>
              <a:ext cx="2882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05040" y="229860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17640" y="264168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17640" y="3009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7640" y="40006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7640" y="4368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17640" y="47242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6560" y="199404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6560" y="234936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692440"/>
              <a:ext cx="27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8440" y="34164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레지스터 정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21040" y="405144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 복귀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21040" y="441972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8440" y="47880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46240" y="1638360"/>
              <a:ext cx="248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451240" y="4355640"/>
              <a:ext cx="0" cy="86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160" y="464832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증가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6080" y="1955880"/>
              <a:ext cx="393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6960" y="1943280"/>
              <a:ext cx="0" cy="1091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13120" y="3022560"/>
              <a:ext cx="406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42080" y="3683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7600" y="3035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af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1612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bef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1994040"/>
              <a:ext cx="119160" cy="27936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38680" y="231156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38680" y="266688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8680" y="3073320"/>
              <a:ext cx="127080" cy="1650960"/>
            </a:xfrm>
            <a:custGeom>
              <a:avLst/>
              <a:gdLst>
                <a:gd name="textAreaLeft" fmla="*/ 0 w 127080"/>
                <a:gd name="textAreaRight" fmla="*/ 89280 w 127080"/>
                <a:gd name="textAreaTop" fmla="*/ 68760 h 1650960"/>
                <a:gd name="textAreaBottom" fmla="*/ 15822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651280" y="1866960"/>
              <a:ext cx="3934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94360" y="20066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94360" y="2349360"/>
              <a:ext cx="28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NTER_CRITICAL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4360" y="26924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CF0C4-6032-4B0D-B2F0-E126B1B3DDF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ean J. Labross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만든 실시간 운영체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icro Controller Operating System Version 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학교나 개인의 교육과 같은 비상업적 목적에 한해 자유로이 사용 가능한 공개소스로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코드의 수정 및 커널의 내부 구조를 이해하기 용이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용도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종 장비 개발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 사이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2"/>
              </a:rPr>
              <a:t>uco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3"/>
              </a:rPr>
              <a:t>-ii.com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 다운로드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업적인 목적에 사용될 경우 라이센스를 따로 얻어야 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B9B8C-D7EE-4A1E-9936-6F1DAE204C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적으로 발생하는 인터럽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일정 수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동안 태스크가 실행을 중단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uspend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하거나 이벤트의 발생을 대기하도록 할 수 있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가 빨라지면 그만큼 오버헤드도 커진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nonzero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면 감소시킨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0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 되면 태스크는 실행될 준비가 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는 멀티태스킹이 시작된 후에 가능하게 만들어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Start()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호출 후 첫 번째 태스크에서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여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E0B55-EEB3-4FEC-8303-9AAAB217B95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Hoo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레벨에서 긴급한 일을 수행할 기회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fiel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값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큼 감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일 이 값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되면 그 태스크를 준비 상태로 바꾼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++ : unsigned 32-bi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변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스템 시작 후 경과 시간을 계속 증가시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시간은 태스크의 수에 비례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39960" y="1295280"/>
            <a:ext cx="73152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3320" y="1320840"/>
            <a:ext cx="7200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void OSTickISR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av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nter() or increment OSIntN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TimeTick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x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stor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Execute a return from interrupt instruction;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89DE6-B82B-45DB-A091-82CF5BB75CB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호출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.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에 다음과 같은 것들이 설정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K_SIZE : 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크기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yte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 : 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제어할 수 있는 태스크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최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메시지 큐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 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호출하게 되면 멀티태스킹이 시작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14560" y="3772080"/>
            <a:ext cx="7124040" cy="2237400"/>
            <a:chOff x="1114560" y="3772080"/>
            <a:chExt cx="7124040" cy="2237400"/>
          </a:xfrm>
        </p:grpSpPr>
        <p:sp>
          <p:nvSpPr>
            <p:cNvPr id="698" name=""/>
            <p:cNvSpPr/>
            <p:nvPr/>
          </p:nvSpPr>
          <p:spPr>
            <a:xfrm>
              <a:off x="1114560" y="3772080"/>
              <a:ext cx="6951240" cy="22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77560" y="3772080"/>
              <a:ext cx="7061040" cy="22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main 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it(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모든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uC/OS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변수들과 자료구조들을 초기화시킴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혹은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적어도 하나의 사용중인 태스크를 생성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멀티 태스킹을 시작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은 반환하지 않는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*/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17400" y="4431960"/>
              <a:ext cx="8330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0000" y="5714640"/>
              <a:ext cx="10202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"/>
            <p:cNvCxnSpPr>
              <a:stCxn id="700" idx="1"/>
              <a:endCxn id="701" idx="1"/>
            </p:cNvCxnSpPr>
            <p:nvPr/>
          </p:nvCxnSpPr>
          <p:spPr>
            <a:xfrm flipH="1" flipV="1" rot="10800000">
              <a:off x="1502640" y="4571280"/>
              <a:ext cx="12960" cy="1283040"/>
            </a:xfrm>
            <a:prstGeom prst="curvedConnector5">
              <a:avLst>
                <a:gd name="adj1" fmla="val -1685714"/>
                <a:gd name="adj2" fmla="val 49985"/>
                <a:gd name="adj3" fmla="val -1685714"/>
              </a:avLst>
            </a:prstGeom>
            <a:ln w="2232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84AA5-D4F0-47D4-9158-095B74C1588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Idle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준비상태에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가장 낮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택적으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at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항상 두 번째로 낮다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제어 블록 리스트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List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구성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a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중 연결 리스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ree data structur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 –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FreeList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길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FreeList (OS_MAX_EVENT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FreeList (OS_MAX_Q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(OS_MAX_MEM_PAR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BB5E6-26D4-4897-A153-39082AEB445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가장 우선순위가 높은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찾아서 그 태스크를 수행시킨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종료 후 다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돌아오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화 변수의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B26A4-2F05-434E-B4CB-93F0B330338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vent Control Blo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공유 데이터의 보호와 태스크간의 통신을 위해 제공하는 세가지 서비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 제어 블록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인터럽트 서비스 루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혹은 태스크와 태스크간에 어떻게 서로 상호작용 하는지를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이벤트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고 불리는 커널 객체를 통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주고 받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세마포어가 될 수도 있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나 메시지 큐가 될 수도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2B93F-9115-426C-AC4B-DB56B172BD7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사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31920" y="1536840"/>
            <a:ext cx="6426360" cy="4358160"/>
            <a:chOff x="1231920" y="1536840"/>
            <a:chExt cx="6426360" cy="4358160"/>
          </a:xfrm>
        </p:grpSpPr>
        <p:sp>
          <p:nvSpPr>
            <p:cNvPr id="711" name=""/>
            <p:cNvSpPr/>
            <p:nvPr/>
          </p:nvSpPr>
          <p:spPr>
            <a:xfrm>
              <a:off x="1231920" y="153684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4640" y="1676520"/>
              <a:ext cx="1079640" cy="469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7600" y="2235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0240" y="1689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2840" y="2260440"/>
              <a:ext cx="107964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7280" y="168912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17640" y="191772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17640" y="247644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75040" y="1917720"/>
              <a:ext cx="106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476440"/>
              <a:ext cx="1054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927680" y="1963440"/>
              <a:ext cx="177840" cy="182880"/>
              <a:chOff x="4927680" y="1963440"/>
              <a:chExt cx="177840" cy="182880"/>
            </a:xfrm>
          </p:grpSpPr>
          <p:sp>
            <p:nvSpPr>
              <p:cNvPr id="722" name=""/>
              <p:cNvSpPr/>
              <p:nvPr/>
            </p:nvSpPr>
            <p:spPr>
              <a:xfrm>
                <a:off x="4927680" y="20581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927680" y="196308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940280" y="2534760"/>
              <a:ext cx="177840" cy="182880"/>
              <a:chOff x="4940280" y="2534760"/>
              <a:chExt cx="177840" cy="182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940280" y="26294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940280" y="25344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873600" y="1739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1752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23115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17640" y="15746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7640" y="2120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26160" y="15746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26160" y="21463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06960" y="2336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696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2019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31920" y="2895480"/>
              <a:ext cx="6426360" cy="1295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4640" y="3035160"/>
              <a:ext cx="1079640" cy="470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7600" y="3594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0240" y="3048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92840" y="361944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92440" y="328932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692440" y="3619440"/>
              <a:ext cx="1092240" cy="2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749840" y="3289320"/>
              <a:ext cx="1092240" cy="24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9840" y="356868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3111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6520" y="3670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17640" y="30225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7640" y="3772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8760" y="3060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8760" y="37591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06960" y="3695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6960" y="3124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8120" y="3378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31920" y="425448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74640" y="439416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87600" y="4952880"/>
              <a:ext cx="107928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4648320"/>
              <a:ext cx="110484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692440" y="4965480"/>
              <a:ext cx="106668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76520" y="4470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76520" y="5029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52760" y="430524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8120" y="4737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7280" y="226044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73600" y="231156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7280" y="332748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3600" y="33782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7280" y="472428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73600" y="47750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94240" y="4566960"/>
              <a:ext cx="177840" cy="182880"/>
              <a:chOff x="3594240" y="4566960"/>
              <a:chExt cx="177840" cy="1828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94240" y="46616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594240" y="45666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606840" y="5100480"/>
              <a:ext cx="177840" cy="182520"/>
              <a:chOff x="3606840" y="5100480"/>
              <a:chExt cx="177840" cy="182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06840" y="51948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606840" y="510048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552760" y="524520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11880" y="5646600"/>
              <a:ext cx="177840" cy="182520"/>
              <a:chOff x="6311880" y="5646600"/>
              <a:chExt cx="177840" cy="182520"/>
            </a:xfrm>
          </p:grpSpPr>
          <p:sp>
            <p:nvSpPr>
              <p:cNvPr id="778" name=""/>
              <p:cNvSpPr/>
              <p:nvPr/>
            </p:nvSpPr>
            <p:spPr>
              <a:xfrm>
                <a:off x="6311880" y="57409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11880" y="564660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438960" y="55879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1C1F3-E278-440F-BDDC-F6F037F3E66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기술되어 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자료구조에 유지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03360" y="2438280"/>
          <a:ext cx="4910040" cy="2260800"/>
        </p:xfrm>
        <a:graphic>
          <a:graphicData uri="http://schemas.openxmlformats.org/drawingml/2006/table">
            <a:tbl>
              <a:tblPr/>
              <a:tblGrid>
                <a:gridCol w="4910040"/>
              </a:tblGrid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typedef struct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    *OSEventPt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bl[OS_EVENT_TBL_SIZE]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16U OSEventC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Gr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 OS_EV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3F53D-7163-4AE7-8D5D-E47196A38DB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Pt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메일박스나 큐일 때만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로 사용 시에는 메시지를 가리키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로 사용 시에는 큐 자료구조를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C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세마포어로 사용될 때 세마포어의 카운트를 갖고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yp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연관된 타입을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여기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_SEM, OS_EVENT_TYPE_MBOX, OS_EVENT_TYPE_Q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값들이 올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를 기다리는 태스크들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포함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C12B8-4155-4289-BBF3-F55B4445F85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의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기를 기다리는 각각의 태스크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두 변수로 구성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에 위치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그룹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한 그룹에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되어 있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각각의 비트는 그 그룹의 태스크가 이벤트를 기다리고 있는지를 나타낸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했을 때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그 이벤트를 기다리는 태스크 중 우선순위가 가장 높은 태스크가 시작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B286A-CAC9-4B3F-B1CA-B5936118B62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ortab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 코드의 대부분이 이식 가능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NSI C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기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부 마이크로프로세서에 국한된 부분은  어셈블러로 코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OMabl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파일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링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더가 필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이나 응용프로그램에 따라 메모리의 크기를 자유로이 결정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emptive Schedul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우선 순위 작업이 먼저 수행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l-Tim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빠른 응답성을 갖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독자적 우선순위를 가지는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17AB2-B1EE-4B85-B39D-7E17E3164C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7320" y="1206360"/>
            <a:ext cx="8382240" cy="5085000"/>
            <a:chOff x="787320" y="1206360"/>
            <a:chExt cx="8382240" cy="5085000"/>
          </a:xfrm>
        </p:grpSpPr>
        <p:sp>
          <p:nvSpPr>
            <p:cNvPr id="790" name=""/>
            <p:cNvSpPr/>
            <p:nvPr/>
          </p:nvSpPr>
          <p:spPr>
            <a:xfrm>
              <a:off x="4737240" y="5530680"/>
              <a:ext cx="44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로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 수 없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792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100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4180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1720" y="1487520"/>
              <a:ext cx="3700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344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516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6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7160" y="1487520"/>
              <a:ext cx="36972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8880" y="1487520"/>
              <a:ext cx="294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880" y="1793880"/>
              <a:ext cx="29494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888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97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68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5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0344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7172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180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100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7836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73680" y="5108400"/>
              <a:ext cx="29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가 발생하기를 기다리는 태스크들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13080" y="5664240"/>
              <a:ext cx="26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Tbl[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2160" y="5892840"/>
              <a:ext cx="215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 동시에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의 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04B74-4F71-4B37-9E4C-78A89F25D87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할당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수는 응용프로그램에서 요구되는 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의 수에 따라 다르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fine OS_MAX_EVENT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명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호출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ee EC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라 불리는 하나의 연결 리스트에 연결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가 생성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이 리스트로부터 삭제되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55600" y="3530520"/>
            <a:ext cx="7378920" cy="2618280"/>
            <a:chOff x="1155600" y="3530520"/>
            <a:chExt cx="7378920" cy="2618280"/>
          </a:xfrm>
        </p:grpSpPr>
        <p:sp>
          <p:nvSpPr>
            <p:cNvPr id="957" name=""/>
            <p:cNvSpPr/>
            <p:nvPr/>
          </p:nvSpPr>
          <p:spPr>
            <a:xfrm>
              <a:off x="166536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1304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4480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36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86280" y="4336920"/>
              <a:ext cx="14256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16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36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3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829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13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3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182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73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7640" y="4400640"/>
              <a:ext cx="531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182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2280" y="4400640"/>
              <a:ext cx="7570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61120" y="4272120"/>
              <a:ext cx="63828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880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39120" y="4400640"/>
              <a:ext cx="67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1120" y="4519440"/>
              <a:ext cx="63828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78840" y="429264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368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994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5979960"/>
              <a:ext cx="1730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70680" y="5979960"/>
              <a:ext cx="1728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9160" y="5872320"/>
              <a:ext cx="16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3787920"/>
              <a:ext cx="16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7640" y="3659040"/>
              <a:ext cx="212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291440" y="3659040"/>
              <a:ext cx="318960" cy="547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5305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EBBD5-A50F-49AD-9376-4D2302C3397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관련 함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수행되는 네 가지 공통 연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시지 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가 생성될 때 불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OS_EVENT *pevent, void *msg, INT8U msk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부터 가장 높은 우선순위의 태스크를 제거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그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보내질 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k : OSTCBSta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ea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한 비트 마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Wa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를 기다리도록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현재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위치시키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o(OS_EVENT * 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이벤트 대기시 타임아웃이 발생했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즉 정해진 기한 내에 신호를 받지 않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기다리고 있는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3C14D-86C1-49A9-97BA-9D34F270138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ready to run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2120" y="1320840"/>
            <a:ext cx="7835760" cy="4965120"/>
            <a:chOff x="762120" y="1320840"/>
            <a:chExt cx="7835760" cy="4965120"/>
          </a:xfrm>
        </p:grpSpPr>
        <p:grpSp>
          <p:nvGrpSpPr>
            <p:cNvPr id="991" name=""/>
            <p:cNvGrpSpPr/>
            <p:nvPr/>
          </p:nvGrpSpPr>
          <p:grpSpPr>
            <a:xfrm>
              <a:off x="4584600" y="2414520"/>
              <a:ext cx="3139920" cy="2849400"/>
              <a:chOff x="4584600" y="2414520"/>
              <a:chExt cx="3139920" cy="2849400"/>
            </a:xfrm>
          </p:grpSpPr>
          <p:sp>
            <p:nvSpPr>
              <p:cNvPr id="992" name=""/>
              <p:cNvSpPr/>
              <p:nvPr/>
            </p:nvSpPr>
            <p:spPr>
              <a:xfrm>
                <a:off x="7331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8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4906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538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14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69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76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8460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331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38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545880" y="4550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538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14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69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8460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31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8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45880" y="4194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538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14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69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8460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31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938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5880" y="3838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538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14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69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6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8460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1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38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45880" y="34822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538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7614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69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76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58460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1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8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45880" y="31262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538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614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69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976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8460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31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38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5880" y="2770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538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7614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9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6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58460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31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38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45880" y="24145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538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14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9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976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8460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84600" y="241452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84600" y="2770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4600" y="31262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4600" y="34822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3838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4600" y="4194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4600" y="4550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84600" y="4906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84600" y="526248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4600" y="2414520"/>
                <a:ext cx="144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766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690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614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38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4588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86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310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23440" y="2414520"/>
                <a:ext cx="108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62120" y="1652760"/>
              <a:ext cx="2949480" cy="306360"/>
              <a:chOff x="762120" y="1652760"/>
              <a:chExt cx="2949480" cy="30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33426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7396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0532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668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68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940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304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212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2120" y="165276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120" y="19591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12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99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67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6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0532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396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426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1160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3976560" y="235584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533400" y="255600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21160" y="1946160"/>
              <a:ext cx="0" cy="609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179520" y="291780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179880" y="193356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838600" y="3281400"/>
              <a:ext cx="1163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838600" y="1945800"/>
              <a:ext cx="0" cy="133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457360" y="362124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44760" y="193356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064960" y="397368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065320" y="1946160"/>
              <a:ext cx="0" cy="202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1672920" y="434808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673280" y="194580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344240" y="468792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332000" y="1946160"/>
              <a:ext cx="0" cy="2741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977760" y="505152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77760" y="1945800"/>
              <a:ext cx="0" cy="309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20" y="1320840"/>
              <a:ext cx="290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6640" y="1379520"/>
              <a:ext cx="17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4880" y="2023920"/>
              <a:ext cx="0" cy="36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943600" y="2273400"/>
              <a:ext cx="642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14880" y="2273400"/>
              <a:ext cx="79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561000" y="2097000"/>
              <a:ext cx="3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36040" y="2414520"/>
              <a:ext cx="493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39080" y="2425680"/>
              <a:ext cx="0" cy="733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39080" y="3427560"/>
              <a:ext cx="0" cy="642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99400" y="3149640"/>
              <a:ext cx="3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438280" y="5231880"/>
              <a:ext cx="0" cy="520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53341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84480" y="5765760"/>
              <a:ext cx="53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y 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05440" y="5765760"/>
              <a:ext cx="5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x 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3560" y="173988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91440" y="30481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E80BE-AEF4-4364-BCE5-3C365B9A689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들 사이에서 실행 순서를 잡을 때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호배제를 위해서가 아니라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의 발생을 알리기 위한 플래그로서 세마포어를 사용하여 어떤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른 태스크와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경우 세마포어의 초기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을 시작하고 세마포어를 기다릴 때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이 끝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나 다른 태스크가 세마포어로 신호를 보내고 태스크가 계속 진행되게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이 이벤트를 전달하는 태스크의 선택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기다리고 있는 태스크 중 가장 높은 우선순위의 것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EDBE7-C85C-4BB7-B76D-0597724AFD9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emaphor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유 자원에의 접근 제어를 가능하게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통보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두개의 태스크 간 통신에서 수신과 송신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unting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구성 요소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t unsigned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수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를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리스트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가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보다 크게 되기를 기다리는 태스크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서비스를 구동하기 위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는 사용되기 전에 먼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되어야하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 카운트를 정해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하나 이상의 이벤트의 발생을 나타내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하나의 공유 자원 접근에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1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개의 동일한 자원 중 하나를 얻게 하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190F8-6D57-4D8F-B4B1-D2B131C7C4E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77120" y="3035160"/>
            <a:ext cx="1028520" cy="1028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16120" y="2755800"/>
            <a:ext cx="128268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41680" y="3720960"/>
            <a:ext cx="1257120" cy="635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7040" y="3543480"/>
            <a:ext cx="1270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64040" y="3174840"/>
            <a:ext cx="203040" cy="203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65560" y="33782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65560" y="363204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65560" y="375912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191120" y="3606480"/>
            <a:ext cx="12600" cy="1522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41880" y="335268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3960" y="318780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3960" y="3238560"/>
            <a:ext cx="254160" cy="190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66040" y="339084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6280" y="270504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17640" y="2514600"/>
            <a:ext cx="12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08440" y="4178160"/>
            <a:ext cx="139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22478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59120" y="17906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22840" y="38988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          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ABCED-CE0E-4565-9535-80BFB6EB6A6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Create(INT16U c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n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화된 카운트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Free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얻는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연결 리스트가 다음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가리키도록 수정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있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타입을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VENT_TYPE_SE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원하는 초기 카운트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 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불리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end(OS_EVENT *pevent, INT16U timeout, INT8U *er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 얻어옴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 사용가능한지 결정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01DE1-5F49-407F-A5F9-6039209EE49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127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os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게 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전달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는 태스크가 있는지 확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있으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필드가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기다리는 태스크들 중 가장 높은 우선순위를 가진 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삭제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가 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인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로 된 태스크가 현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들 중 가장 높은 우선순위를 가지고 있는지 확인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만약 그렇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문맥교환이 발생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그렇지 않다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리턴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os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부른 태스크가 계속 수행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Accep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두지 않고 세마포어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을 얻어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사용가능한지 결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BE026-E348-4833-AA45-779E0C6CD33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마포어가 사용 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Query(OS_EVENT *pevent, OS_SEM_DATA *pdata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응용프로그램이 세마포어로 사용되는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스냅샷을 찍도록 하여 세마포어 상태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event : OSSemCreate()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의해서 반환된 세마포어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세마포어의 정보를 담을 자료구조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자료구조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S_SEM_DATA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현재 세마포어 카운트와 세마포어를 기다리는 태스크의 리스트를 포함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BDCAF-A759-43C9-9BB4-7629753AE07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운영체제로써 대표적인 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용 공개형 커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뢰성과 안정성을 가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사이즈 – 많은 시스템에 적용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임베디드 시스템에 탑재 가능하며 임베디드 시스템 중에서도 강력한 네트워크가 필요한 곳과 높은 성능 시스템에 사용하는 것이 적합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에 따른 소스 코드의 절약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처리시간 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, Queue, Semaphore, Memory parti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의 시스템 서비스 제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수행을 일시 중지하거나 재개가 가능하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p to 255 levels deep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 개발 투자와 라이센스 등의 후처리 문제로 인해 마음대로 사용하거나 배포에 어려움이 있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6588B-D0B8-4263-8547-DCF436A7DC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플래그 서비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95280" y="2120760"/>
            <a:ext cx="6147000" cy="2599200"/>
            <a:chOff x="1295280" y="2120760"/>
            <a:chExt cx="6147000" cy="2599200"/>
          </a:xfrm>
        </p:grpSpPr>
        <p:sp>
          <p:nvSpPr>
            <p:cNvPr id="1163" name=""/>
            <p:cNvSpPr/>
            <p:nvPr/>
          </p:nvSpPr>
          <p:spPr>
            <a:xfrm>
              <a:off x="1397160" y="2222640"/>
              <a:ext cx="1028520" cy="10285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98680" y="2577960"/>
              <a:ext cx="85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4165560"/>
              <a:ext cx="1105200" cy="52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09760" y="42800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91040" y="3213000"/>
              <a:ext cx="216000" cy="1778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991040" y="3034440"/>
              <a:ext cx="216000" cy="1652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2640" y="2286000"/>
              <a:ext cx="1028880" cy="10288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64160" y="264168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37440" y="4114800"/>
              <a:ext cx="1104840" cy="520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51560" y="42292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683160" y="3429000"/>
              <a:ext cx="1244520" cy="293400"/>
              <a:chOff x="3683160" y="3429000"/>
              <a:chExt cx="1244520" cy="293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4772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162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607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5600" y="3429000"/>
                <a:ext cx="15516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4972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9420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386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83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83160" y="34290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3160" y="37224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8316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386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942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4972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056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607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162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21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400480" y="2997360"/>
              <a:ext cx="125712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400480" y="3619440"/>
              <a:ext cx="124452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52880" y="2945880"/>
              <a:ext cx="139716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5840" y="3657600"/>
              <a:ext cx="138420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76440" y="2158920"/>
              <a:ext cx="1447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Create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Del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16600" y="2120760"/>
              <a:ext cx="1498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end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52680" y="3809880"/>
              <a:ext cx="193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 플래그 그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4356000"/>
              <a:ext cx="13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51360" y="4165560"/>
              <a:ext cx="1460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CE76E-0338-4E9F-8995-6256510B085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송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메일 박스에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의 도착을 일정시간 기다린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수의 수신자 가능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수신순서는 미리 정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CFS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 기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BOX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는 사용되기 전에 메시지 포인터의 초기 값을 정해주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값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약 메일 박스가 이벤트 발생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사용된다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지 않았으므로 초기값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가 공유 자원 접근에 사용된다면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가 아닌 값으로 초기화 – 메일 박스를 이진 세마포어로 사용가능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42F61-6512-4E43-BC43-128A48F5C86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박스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16120" y="2755800"/>
            <a:ext cx="143532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641680" y="3619440"/>
            <a:ext cx="1434960" cy="736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178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527200"/>
            <a:ext cx="1460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17640" y="2514600"/>
            <a:ext cx="13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79840" y="430524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1560" y="22352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43480" y="1727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03720" y="3124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16320" y="3772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34340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94160" y="345456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54760" y="4229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3696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9B72E-966B-4FF6-A28F-7349387900E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Create(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를 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end(OS_EVENT *pevent, INT16U timeout, INT8U *er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편함에서 메시지가 도착하기를 기다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ost(OS_EVENT *pevent, 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에 메시지를 보내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Accept(OS_EVENT *peven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지 않고 메일 박스에서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Query(OS_EVENT *pevent, OS_MBOX_DATA *pdat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정보 자료구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5CDC4-FCDD-4C3C-BB80-3368FF2681B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일 박스를 이진 세마포어로 사용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박스는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아닌 포인터로 초기화함으로서 이진 세마포어로 사용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지 메일 박스만을 구동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커니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요청하는 태스크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end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호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부름으로써 세마포어를 풀어 놓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장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이진 세마포어나 메일 박스만을 필요로 할 때 코드 양을 줄일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0CBEB-A690-4419-B3AD-D5B2D2F775B5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essage Queue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하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송수신은 비동기적으로 이루어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신 태스크가 메시지를 받아 볼 때까지 버퍼에 저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자료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생성 이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드시 원하는 만큼의 큐 엔트리를 포함하는 포인터의 배열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의 시작 주소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배열의 크기와 같이 인자로서 넘어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있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Pt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를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연결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되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Q_EN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세팅 함으로써 얼마나 많은 큐들을 지원할 것인지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564FF-4406-46EC-A55B-58341B33815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44520" y="217188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06360" y="4368960"/>
            <a:ext cx="110520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0440" y="2781360"/>
            <a:ext cx="15876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286000" y="3619080"/>
            <a:ext cx="1549440" cy="7621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3080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46040" y="25272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20840" y="4483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78440" y="252720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62320" y="2031840"/>
            <a:ext cx="142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51240" y="4317840"/>
            <a:ext cx="1396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5240" y="1803240"/>
            <a:ext cx="12600" cy="9525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79760" y="1486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949200" y="31240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84600" y="350532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94440" y="4280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949200" y="37846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766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372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4600" y="3124080"/>
            <a:ext cx="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27400" y="27939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3FCAC-0E9D-4F90-A86D-624AD36C4AE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22280" y="1711440"/>
            <a:ext cx="8140680" cy="3292920"/>
            <a:chOff x="422280" y="1711440"/>
            <a:chExt cx="8140680" cy="3292920"/>
          </a:xfrm>
        </p:grpSpPr>
        <p:sp>
          <p:nvSpPr>
            <p:cNvPr id="1262" name=""/>
            <p:cNvSpPr/>
            <p:nvPr/>
          </p:nvSpPr>
          <p:spPr>
            <a:xfrm>
              <a:off x="185436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5436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5436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5436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5436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436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5436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78080" y="2190600"/>
              <a:ext cx="15732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14480" y="2124000"/>
              <a:ext cx="139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14480" y="24256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14480" y="27460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120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4480" y="304632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0040" y="36511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14480" y="334944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6576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576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576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76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576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816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8080" y="212400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808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08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544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8080" y="304632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43280" y="3651120"/>
              <a:ext cx="13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8080" y="334944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02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802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802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802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802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802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042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42120" y="2124000"/>
              <a:ext cx="13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4212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212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770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42120" y="304632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4440" y="365112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42120" y="334944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2280" y="2090520"/>
              <a:ext cx="12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543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231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13120" y="171144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Q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60880" y="4697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26280" y="211284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6240" y="18507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908000" y="1850760"/>
              <a:ext cx="2121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7760" y="22572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46560" y="22698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560" y="2269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A8A0E-EA8B-41D4-A265-8BE93238820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에서의 자료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57200" y="1447920"/>
            <a:ext cx="8661240" cy="4073760"/>
            <a:chOff x="457200" y="1447920"/>
            <a:chExt cx="8661240" cy="4073760"/>
          </a:xfrm>
        </p:grpSpPr>
        <p:sp>
          <p:nvSpPr>
            <p:cNvPr id="1320" name=""/>
            <p:cNvSpPr/>
            <p:nvPr/>
          </p:nvSpPr>
          <p:spPr>
            <a:xfrm>
              <a:off x="723960" y="1828800"/>
              <a:ext cx="1739880" cy="2921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181620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2760" y="1828800"/>
              <a:ext cx="876600" cy="29462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6560" y="2070000"/>
              <a:ext cx="1714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6560" y="2311560"/>
              <a:ext cx="17146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560" y="25653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6560" y="27939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560" y="30481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560" y="32893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3960" y="3543480"/>
              <a:ext cx="17272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60" y="3797280"/>
              <a:ext cx="17272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3960" y="40514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23960" y="42926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560" y="45212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6044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44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8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2800" y="2070000"/>
              <a:ext cx="0" cy="19940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8420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68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52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4720" y="1879560"/>
              <a:ext cx="10152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6240" y="17906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352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18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16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3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7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84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84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68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248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494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208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922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6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0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08360" y="207000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8360" y="23115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8360" y="25527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8360" y="27939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08360" y="30481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08360" y="32893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08360" y="18032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5760" y="2044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95760" y="2273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95760" y="25146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95760" y="2755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60640" y="303516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73600" y="327672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70400" y="187956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70400" y="213372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0400" y="23749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70400" y="26161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70400" y="285768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2760" y="255276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92760" y="407664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92760" y="2552760"/>
              <a:ext cx="876600" cy="152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32720" y="1828800"/>
              <a:ext cx="1130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32720" y="4775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2720" y="255276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720" y="407664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8400" y="3492360"/>
              <a:ext cx="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988400" y="2552760"/>
              <a:ext cx="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36040" y="1816200"/>
              <a:ext cx="0" cy="1689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48640" y="3809880"/>
              <a:ext cx="0" cy="965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518240" y="3213000"/>
              <a:ext cx="104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178840" y="3530520"/>
              <a:ext cx="939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5640" y="21844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715000" y="1802880"/>
              <a:ext cx="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5000" y="18032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8240" y="24256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27600" y="2425680"/>
              <a:ext cx="0" cy="2336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27600" y="477504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35640" y="2679840"/>
              <a:ext cx="762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97760" y="2679840"/>
              <a:ext cx="0" cy="138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0360" y="4064040"/>
              <a:ext cx="431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35640" y="29210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337440" y="2552400"/>
              <a:ext cx="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37440" y="2540160"/>
              <a:ext cx="279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79760" y="1943280"/>
              <a:ext cx="203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7160" y="1943280"/>
              <a:ext cx="0" cy="317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7200" y="5118120"/>
              <a:ext cx="2997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7200" y="1930320"/>
              <a:ext cx="0" cy="318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" y="193032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1040" y="4025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76240" y="42418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6240" y="44830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07000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14600" y="403848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17640" y="2069640"/>
              <a:ext cx="0" cy="93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17640" y="3301920"/>
              <a:ext cx="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00480" y="300996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4400" y="14986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98800" y="14860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24760" y="4775040"/>
              <a:ext cx="0" cy="597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83560" y="5372280"/>
              <a:ext cx="241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54480" y="5245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응용 프로그램에서 할당한 배열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4160" y="4152960"/>
              <a:ext cx="380880" cy="279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27200" y="44578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 안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48520" y="1447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* MsgTbl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1AD77-9105-4DC5-B068-EB7D966EFBA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원형 버퍼로 구현된 메시지 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엔트리는 메시지에 대한 포인터를 가진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큐가 꽉 차지 않았으면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 메시지에 대한 포인터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 가리켜지는 엔트리에서 소비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IFO queue : 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LIFO queue : OSQOut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전의 엔트리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tries == OSQSiz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 포인터는 꽉찬 것으로 간주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시지 포인터는 항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가리켜지는 엔트리로부터 추출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Star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d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배열의 처음과 끝을 나타낸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82960" y="3886200"/>
            <a:ext cx="5587920" cy="2875680"/>
            <a:chOff x="2082960" y="3886200"/>
            <a:chExt cx="5587920" cy="2875680"/>
          </a:xfrm>
        </p:grpSpPr>
        <p:sp>
          <p:nvSpPr>
            <p:cNvPr id="1426" name=""/>
            <p:cNvSpPr/>
            <p:nvPr/>
          </p:nvSpPr>
          <p:spPr>
            <a:xfrm>
              <a:off x="4229280" y="4228920"/>
              <a:ext cx="1892160" cy="1841400"/>
            </a:xfrm>
            <a:prstGeom prst="donut">
              <a:avLst>
                <a:gd name="adj" fmla="val 28319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0080" y="5473440"/>
              <a:ext cx="36828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49760" y="5333760"/>
              <a:ext cx="49536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13480" y="5105160"/>
              <a:ext cx="482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30800" y="4787640"/>
              <a:ext cx="4572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4267080" y="5219280"/>
              <a:ext cx="482760" cy="5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432320" y="5435640"/>
              <a:ext cx="431640" cy="266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5244840" y="5549760"/>
              <a:ext cx="88920" cy="520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774680" y="5549760"/>
              <a:ext cx="27972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511960" y="4660560"/>
              <a:ext cx="46980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044760" y="5727600"/>
              <a:ext cx="698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80160" y="5562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9910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8320" y="4419360"/>
              <a:ext cx="33012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68880" y="4216320"/>
              <a:ext cx="0" cy="546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346720" y="4356000"/>
              <a:ext cx="279360" cy="444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648320" y="4076640"/>
              <a:ext cx="279360" cy="25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40280" y="4064040"/>
              <a:ext cx="825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560" y="4279680"/>
              <a:ext cx="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84680" y="4279680"/>
              <a:ext cx="596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73800" y="388620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52760" y="4101840"/>
              <a:ext cx="119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03920" y="5892840"/>
              <a:ext cx="26676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70400" y="6454800"/>
              <a:ext cx="196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oint to 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5640" y="5918040"/>
              <a:ext cx="8892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543480" y="5282640"/>
              <a:ext cx="634680" cy="88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0600" y="4863960"/>
              <a:ext cx="75960" cy="20340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6560" y="5079960"/>
              <a:ext cx="130824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82960" y="454644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09680" y="5244840"/>
              <a:ext cx="13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8120" y="5537160"/>
              <a:ext cx="3816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086280" y="5447880"/>
              <a:ext cx="113004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4680" y="5333760"/>
              <a:ext cx="2158920" cy="1055880"/>
            </a:xfrm>
            <a:custGeom>
              <a:avLst/>
              <a:gdLst/>
              <a:ahLst/>
              <a:rect l="l" t="t" r="r" b="b"/>
              <a:pathLst>
                <a:path w="1360" h="665">
                  <a:moveTo>
                    <a:pt x="0" y="0"/>
                  </a:moveTo>
                  <a:cubicBezTo>
                    <a:pt x="12" y="36"/>
                    <a:pt x="40" y="156"/>
                    <a:pt x="72" y="216"/>
                  </a:cubicBezTo>
                  <a:cubicBezTo>
                    <a:pt x="104" y="276"/>
                    <a:pt x="148" y="316"/>
                    <a:pt x="192" y="360"/>
                  </a:cubicBezTo>
                  <a:cubicBezTo>
                    <a:pt x="236" y="404"/>
                    <a:pt x="281" y="443"/>
                    <a:pt x="336" y="480"/>
                  </a:cubicBezTo>
                  <a:cubicBezTo>
                    <a:pt x="391" y="517"/>
                    <a:pt x="459" y="556"/>
                    <a:pt x="520" y="584"/>
                  </a:cubicBezTo>
                  <a:cubicBezTo>
                    <a:pt x="581" y="612"/>
                    <a:pt x="639" y="635"/>
                    <a:pt x="704" y="648"/>
                  </a:cubicBezTo>
                  <a:cubicBezTo>
                    <a:pt x="769" y="661"/>
                    <a:pt x="845" y="665"/>
                    <a:pt x="912" y="664"/>
                  </a:cubicBezTo>
                  <a:cubicBezTo>
                    <a:pt x="979" y="663"/>
                    <a:pt x="1047" y="655"/>
                    <a:pt x="1104" y="640"/>
                  </a:cubicBezTo>
                  <a:cubicBezTo>
                    <a:pt x="1161" y="625"/>
                    <a:pt x="1213" y="605"/>
                    <a:pt x="1256" y="576"/>
                  </a:cubicBezTo>
                  <a:cubicBezTo>
                    <a:pt x="1299" y="547"/>
                    <a:pt x="1338" y="487"/>
                    <a:pt x="1360" y="464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165560" y="6146640"/>
              <a:ext cx="139680" cy="20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556080" y="631188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533840" y="53845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99080" y="567684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54760" y="58291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72280" y="5816520"/>
              <a:ext cx="8856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99E3A-334F-4C87-B99A-B2075341809C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422360"/>
            <a:ext cx="5651640" cy="546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82960"/>
            <a:ext cx="2768760" cy="19810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2082960"/>
            <a:ext cx="2755800" cy="19936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4203720"/>
            <a:ext cx="5651640" cy="8510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5435640"/>
            <a:ext cx="56386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5727600"/>
            <a:ext cx="280692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3080" y="5727600"/>
            <a:ext cx="273060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6560" y="157464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0960" y="2120760"/>
            <a:ext cx="262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독립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ORE.C     OS_FLAG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BOX.C     OS_MEM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UTEX.C         OS_Q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SEM.C       OS_TASK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TIME.C         UCOS_II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2273400"/>
            <a:ext cx="2603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에 의존적인 상수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INCLUDES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356000"/>
            <a:ext cx="549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포트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의존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PU.H                OS_CPU_A.ASM               OS_CPU_C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778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57657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이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68880"/>
            <a:ext cx="1486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소프트 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하드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BE127-C653-476C-81DD-9F4B4410D1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를 생성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전에 메시지를 담을 포인터 배열이 할당되어야 한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은 포인터의 배열로써 선언되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 *OSQCreate(void **start, INT16U size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end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가 큐에 도착하기를 기다리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Pend(OS_EVENT *pevent, INT16U timeout, INT8U *er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있는 메시지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형식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posi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Fron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것은 다음 삽입될 엔트리에 대한 포인터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I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대신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구현한다는 것을 제외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동일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Fron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C2854-08D8-496F-BCF8-1E835048098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Accep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수면상태에 둘 필요 없이 큐로부터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Accep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Flush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배달된 모든 메시지를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새로운 큐에서 다시 시작하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Flush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Query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메시지 큐의 스냅 샷을 찍도록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Query(OS_EVENT *pevent, OS_Q_DATA *pdata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6AC91-1EC7-4FC3-BA9C-458495E4B39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onfigu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설정은 다음과 같은 단계를 거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H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fin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을 고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ACK_SIZ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UE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k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하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작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코드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하여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한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하기 전에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main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emaphore, mailbox, queu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영역을 할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중 하나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 태스킹을 행할 준비가 되면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5DAA1-BCA6-49B7-8C74-8A9DC5FB585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에서의 응용 프로그램 예제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86360" y="2612880"/>
            <a:ext cx="26953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개발키트에 따라 내용이 달라질 수 있으므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사용하는 보드에 따라 접근하시기 바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67640-5590-4A7C-8EB1-D2808BC3C91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소스 트리구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1168560" y="1778040"/>
            <a:ext cx="3884040" cy="4330800"/>
            <a:chOff x="1168560" y="1778040"/>
            <a:chExt cx="3884040" cy="4330800"/>
          </a:xfrm>
        </p:grpSpPr>
        <p:pic>
          <p:nvPicPr>
            <p:cNvPr id="1477" name="ucos_sourcetree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373040" y="1968480"/>
              <a:ext cx="3679560" cy="40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1168560" y="1778040"/>
              <a:ext cx="3695400" cy="43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4997520" y="4962600"/>
            <a:ext cx="3711600" cy="8240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※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컴파일 되서 동작되기 위해서는 프로세서에 의존적인 커널파일과 프로세서에 독립적인 커널 파일 그리고 애플리케이션으로 나눌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26211-6535-46D9-89DF-226A805243A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의존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독립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562040" y="1739880"/>
          <a:ext cx="636264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739880"/>
                    <a:ext cx="6362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1562040" y="4124160"/>
          <a:ext cx="6364440" cy="19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2040" y="4124160"/>
                    <a:ext cx="63644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F93A1-B13C-42D9-B8BD-AAC9DAB385B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타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558800" y="1746360"/>
          <a:ext cx="636768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1746360"/>
                    <a:ext cx="6367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146AE-8EB4-4207-BE74-8EAC672D75C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-Tas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러 가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동시에 실행시킨다는 것을 의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관점에서는 어느 한 시점에 하나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만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으며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서로의 영향을 받지않고 일정한 시간간격으로 독립적으로 수행되는 것이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란 이러한 여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을 특정 시간 간격으로 번갈아 가며 실행 시키는 것을 말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에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ystem 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발생하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발생될 수 있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397160" y="4756320"/>
            <a:ext cx="697680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system call 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를 호출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의 차 순위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찾게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AADC6-93AE-4363-AC16-B5373088755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다고 가정 하고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수행 하고 나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되는 시점을 생각해 보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는 동안 관련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변경시킬 테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려 할 때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벌린 일들이 널려 있을 것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따라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최종적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었을 때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할 것 이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다음 번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tim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하기 위해 자기가 벌려놓은 일을 저장 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도 이러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방법을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P(Stack Pointer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는 것은 바로 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하는 것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관련된 대표적 명령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op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러한 명령들을 사용하여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저장하거나 불러오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는 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당 한 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보관하기 위해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 처리되는 내용을 살펴보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에 의해 결국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 sourc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rt.asm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일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CtxSw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수행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931A6-9E13-4002-8570-DD328C96904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ucos_실행환경" descr=""/>
          <p:cNvPicPr/>
          <p:nvPr/>
        </p:nvPicPr>
        <p:blipFill>
          <a:blip r:embed="rId1"/>
          <a:stretch/>
        </p:blipFill>
        <p:spPr>
          <a:xfrm>
            <a:off x="290520" y="2144880"/>
            <a:ext cx="4513320" cy="3450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Xscale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경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684680" y="2217600"/>
            <a:ext cx="431316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1. Task1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2. 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현재 실행 번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3. General register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 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4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현재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 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(Task Control Block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란 것을 유지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합니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5. 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저장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etting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6. General register(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7. 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8. Task2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가 실행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E0C66-585A-4382-A2BA-3B2A4170F8E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에서의 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또는 실행이 끝나면 스스로를 제거하는 함수로 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함수는 인터럽트에 의해 선점되어 높은 우선순위의 태스크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질 수 있고 이 중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5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를 사용자가 생성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생성하는 각 태스크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4, … 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범위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일한 우선 순위 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할당 받음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여기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= 63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역할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evel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낮으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높아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커널 서비스에 의하여 사용됨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준비가 된 태스크 중 가장 높은 우선순위의 것을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D651B-D868-4570-A555-CB2B9C8698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존적 커널 파일 수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변수형 선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Entry Siz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954080" y="2438280"/>
          <a:ext cx="5913720" cy="19857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19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INT8U;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char  INT8S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short INT16U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short INT16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long  INT32U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long  INT32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float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32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ng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double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64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oub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1954080" y="5075280"/>
          <a:ext cx="5913720" cy="7095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STK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ach stack entry is 32-bit wide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CPU_SR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ine size of CPU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register (PSW = 16 bits) *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50FA0-CE6F-4A9B-9022-4B67D1E1C36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Global 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/Disable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STK_GROWTH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1954080" y="3365640"/>
          <a:ext cx="5913720" cy="21621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CRITICAL_METHOD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asm  CLI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isable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asm  STI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able 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 OST0_Interrupt_Mask_Dis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OST0_Interrupt_Mask_En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>
            <a:off x="1965240" y="1866960"/>
            <a:ext cx="5907240" cy="1014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따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low -&gt; high memory :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igh -&gt; low memory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UI Gothic"/>
              </a:rPr>
              <a:t>※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R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경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 pointe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아래로 자라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Decrement 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65240" y="5580000"/>
            <a:ext cx="590724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은 어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한 동작을 수행 시 그 사이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및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발생하지 않도록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함수를 수행하고 나서는 반드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 해야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723F8-EEF1-4CCC-8502-D45B1EC376B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배타적 접근을 보장하기 위해 이 코드가 수행되기 전 인터럽트를 금지시키고 수행이 완료되었을 때 인터럽트 다시 허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과 같은 매크로로 구현됨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제한 사항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실행되는 태스크는 개별적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번호를 가지고 있어야 함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MI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/OS system cal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만들어 질 수 없다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코드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할 때 인터럽트를 금지시키므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1E0B5-6D7E-4C38-AB8B-CFC93E9387A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Switch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_c.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3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TASK_SW()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4" name=""/>
          <p:cNvSpPr/>
          <p:nvPr/>
        </p:nvSpPr>
        <p:spPr>
          <a:xfrm>
            <a:off x="1965240" y="1922400"/>
            <a:ext cx="5907240" cy="1159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CtxSw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란 함수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선언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하는 함수이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발생 시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현재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SW(Program Status Word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와 다음 번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ddres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하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(Interrupt Service Routine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분기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ore.c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사용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1954080" y="3836880"/>
          <a:ext cx="5958000" cy="239076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4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*OSTaskStkInit (void (*task)(void *pd), void *pdata, void *ptos, INT16U o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32U *st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pt = opt;          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'opt' is not used, prevent warning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tk = (INT32U*)ptos;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Load stack pointe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task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try Point .. -&gt; PC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0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5014800" y="5376960"/>
            <a:ext cx="359748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첫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시작 번지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에 의해 실행될 때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Program Counter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값으로 지정될 주소를 의미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두 번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인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 번째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위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마지막은 현재 사용하지 않는 옵션이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61F17-7F99-46C4-B2E6-7AFB5D7A4E91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480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context(stack frame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tack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을 설정하는 기능을 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발생시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처음에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발생된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 환경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ackup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하여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저장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되는 값은 이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아닌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ource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각 문장 들은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명령을 통해 매 문장마다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위치를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*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k--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감소 시킨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1954080" y="1293840"/>
          <a:ext cx="5958000" cy="283680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8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9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8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7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6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5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3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pdata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0 : argume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x53;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ault CPS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turn ((void *)st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D7646-EABD-42E7-BF5B-94AA3E77935C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6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로 구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하드웨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latform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매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penden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de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이 기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수정을 위해서는 해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를 알고 있어야 하며 하드웨어에 대한 기본 지식을 알고 있어야 함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보드의 초기화를 포함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위해 총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함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), OSCtxSw(), OSIntCtxSw(), OSTickISR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로 구성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F5D48-E859-4187-8B56-25B199FB14D2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 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76212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한 응용 프로그램의 기본 구조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의 디바이스 제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952DB-0C66-4F11-A06F-AB34C0540B9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76160" y="1438200"/>
          <a:ext cx="8088480" cy="443700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4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 empos2c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includes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serial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reg.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TASK_STK_SIZE     (1024 * 2)   /* Size of each task's stacks (# of WORDs) 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N_TASKS                  3         /* Number of identical tas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k[N_TASKS][TASK_STK_SIZE];     /* Tasks stacks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Stk[TASK_STK_SIZE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mpos_Ctrl_Task(void *data);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1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2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(void *data);                      /* Function prototypes of Startup task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ucos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88ACC-25C6-4EAF-9ED9-006B79C12A27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422280" y="1474920"/>
          <a:ext cx="2908440" cy="44892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int    dev_ctl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g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textlc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gpio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Start 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TaskStart] Called .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Period_Setting(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Interrupt_Setting( );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tInit(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/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Task...!!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3503520" y="1486080"/>
          <a:ext cx="5334120" cy="44240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4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Empos_Ctrl_Task,"Empos_Ctrl_Task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&amp;TaskStk[0][TASK_STK_SIZE - 1],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1,"Task1",&amp;TaskStk[0][TASK_STK_SIZE - 1]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2,"Task2",&amp;TaskStk[1][TASK_STK_SIZE - 1],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Running Task : %4d", OSTaskCtr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pu Usage : %4d", (int)OSCPUUsag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ontext Switches per Sec : %4d",(int)OSCtxSwC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Ctr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HMSM(0, 0, 1, 0);    /* Wait one second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DF080-414A-46C1-B5FF-73338AE66E6F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34880" y="1438200"/>
          <a:ext cx="4186440" cy="470664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47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 flag_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Empos_Ctrl_Task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har ke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(;;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hile((key = dev_ctl_main()) != 0)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witch(key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1': 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2': seg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3': textlc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4': gpio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q': printf("exit\n"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4788000" y="1438200"/>
          <a:ext cx="3929040" cy="47102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1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5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2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ucos_main(void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C_Entry] Called..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rialInit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2" name=""/>
          <p:cNvSpPr/>
          <p:nvPr/>
        </p:nvSpPr>
        <p:spPr>
          <a:xfrm>
            <a:off x="739800" y="5200560"/>
            <a:ext cx="358920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mpos_Ctrl_Task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사용자 입력을 받아 제어 디바이스를 선택할 수 있도록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선택 받은 디바이스에 따라 사용자 메뉴가 디스플레이 되고 디바이스 제어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4ECE3-1E6B-4009-82C6-297970A7CCB6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의 선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형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1800" y="1752480"/>
            <a:ext cx="4178160" cy="445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5200" y="1752480"/>
            <a:ext cx="3111480" cy="16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1790640"/>
            <a:ext cx="4013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or( ; ;) {  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다음의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uC/OS-II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서비스 함수 중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하나를 호출한다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: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Suspend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HMSM();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5600" y="1790640"/>
            <a:ext cx="300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0040" y="3483000"/>
            <a:ext cx="186048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스스로 삭제하는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0720" y="5956200"/>
            <a:ext cx="142560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무한 루프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F45CB-6340-46A6-9D4C-40B99B25CC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776160" y="1438200"/>
          <a:ext cx="8088480" cy="51134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\nThis is EMPOS_uCOS version 1.0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This is free software, and undered GNU GPL license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 ######       ##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    ##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 ##  ##     ## ##      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##   ##     ##  ######  #######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##    ##     ##   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##    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#######   ###### ##      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                                                         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Hanback Electronics Embedded Linux System(HBE-EMPOSII)     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oTes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erInit2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SerialInit &amp; TimerInit done 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Ini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Start,(void *)0,&amp;TaskStartStk[TASK_STK_SIZE - 1], 0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rt();        /* Start multitasking *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rOSStart...\n"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"/>
          <p:cNvSpPr/>
          <p:nvPr/>
        </p:nvSpPr>
        <p:spPr>
          <a:xfrm>
            <a:off x="4238640" y="4159080"/>
            <a:ext cx="468612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os_main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시리얼 과 타이머 등을 초기화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하여 전역변수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각종 구조체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를 초기화하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tistic Tas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생성한 후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Create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호출하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8BF80-30B6-4F98-A13F-4C6C9B33A396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776160" y="1438200"/>
          <a:ext cx="8088480" cy="46562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6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Makefile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C = arm-linux-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COPY = arm-linux-obj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NM = arm-linux-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DUMP = arm-linux-objd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CLUDE = -I./h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LAGS = -O2 -Wall -march=armv4 -mtune=strongarm -fomit-frame-pointer -mapcs-32 -nostdinc $(INCLU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CFLAGS = -O binary -R .note -R .comment 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DFLAGS = -static -nostdlib -Wl,-T,./header/ld-x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OMPILE = $(CC) $(CFLA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ILES = $(wildcard *.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SM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= $(wildcard *.a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ECT = $(CFILES:%.c=%.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RGET_IMAGE = empos_u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1EDF1-87B8-4653-BA5B-03FD1666232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776160" y="1438200"/>
          <a:ext cx="8088480" cy="290376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ll : $(OB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C) $(INCLUDE) $(CFLAGS) $(LDFLAGS) -o $(TARGET_IMAGE)-elf32 $(ASM) $(OBJECT) -l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COPY) $(OCFLAGS) $(TARGET_IMAGE)-elf32 $(TARGET_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NM) $(TARGET_IMAGE)-elf32 &gt;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DUMP) -D $(TARGET_IMAGE)-elf32 &gt; $(TARGET_IMAGE).d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.c.o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OMPILE) -c $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lean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 $(TARGET_IMAGE)-elf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.dis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*.bak header/*.*.b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0F87B-3870-443A-9A1A-4BB3B7721AC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컴파일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22280" y="1605240"/>
            <a:ext cx="556416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ucos_2" descr=""/>
          <p:cNvPicPr/>
          <p:nvPr/>
        </p:nvPicPr>
        <p:blipFill>
          <a:blip r:embed="rId1"/>
          <a:stretch/>
        </p:blipFill>
        <p:spPr>
          <a:xfrm>
            <a:off x="1328760" y="2171880"/>
            <a:ext cx="702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F26E3-632F-4B04-8F7F-4E0A3F44E4F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ucos_3" descr=""/>
          <p:cNvPicPr/>
          <p:nvPr/>
        </p:nvPicPr>
        <p:blipFill>
          <a:blip r:embed="rId1"/>
          <a:srcRect l="0" t="0" r="11631" b="0"/>
          <a:stretch/>
        </p:blipFill>
        <p:spPr>
          <a:xfrm>
            <a:off x="3919680" y="1979640"/>
            <a:ext cx="4073400" cy="45291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퓨징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된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rnel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을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tag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해 타겟 보드로 전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9840" y="1986480"/>
            <a:ext cx="285588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flash-Xscale empos_u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A0C6E-786C-45B9-8507-476738BDF7E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ucos_t1" descr=""/>
          <p:cNvPicPr/>
          <p:nvPr/>
        </p:nvPicPr>
        <p:blipFill>
          <a:blip r:embed="rId1"/>
          <a:srcRect l="0" t="15789" r="0" b="0"/>
          <a:stretch/>
        </p:blipFill>
        <p:spPr>
          <a:xfrm>
            <a:off x="1395360" y="1881360"/>
            <a:ext cx="675324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90974-897B-44F9-8BC2-51A338C7CC1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ucos_t2" descr=""/>
          <p:cNvPicPr/>
          <p:nvPr/>
        </p:nvPicPr>
        <p:blipFill>
          <a:blip r:embed="rId1"/>
          <a:srcRect l="0" t="0" r="31021" b="26593"/>
          <a:stretch/>
        </p:blipFill>
        <p:spPr>
          <a:xfrm>
            <a:off x="404640" y="1414440"/>
            <a:ext cx="4094280" cy="2389320"/>
          </a:xfrm>
          <a:prstGeom prst="rect">
            <a:avLst/>
          </a:prstGeom>
          <a:ln w="0">
            <a:noFill/>
          </a:ln>
        </p:spPr>
      </p:pic>
      <p:pic>
        <p:nvPicPr>
          <p:cNvPr id="1556" name="ucos_t3" descr=""/>
          <p:cNvPicPr/>
          <p:nvPr/>
        </p:nvPicPr>
        <p:blipFill>
          <a:blip r:embed="rId2"/>
          <a:srcRect l="0" t="10340" r="35664" b="3510"/>
          <a:stretch/>
        </p:blipFill>
        <p:spPr>
          <a:xfrm>
            <a:off x="4668840" y="1424160"/>
            <a:ext cx="4011480" cy="4572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21520" y="3759120"/>
            <a:ext cx="295560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상에서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device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제어를 위한 메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1600" y="5923080"/>
            <a:ext cx="262692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‘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TEXT LCD TEST’ 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메뉴 선택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06B62-3802-4B61-98DE-943CA9E9130B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이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317840" y="1752480"/>
            <a:ext cx="459756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소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re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eader/os_cfg.h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MPOS_CTR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”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선언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고 다음과 같은 결과를 디스플레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ucos_t4" descr=""/>
          <p:cNvPicPr/>
          <p:nvPr/>
        </p:nvPicPr>
        <p:blipFill>
          <a:blip r:embed="rId1"/>
          <a:srcRect l="0" t="0" r="43435" b="0"/>
          <a:stretch/>
        </p:blipFill>
        <p:spPr>
          <a:xfrm>
            <a:off x="1060560" y="1716120"/>
            <a:ext cx="3154320" cy="45450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4014720" y="2916360"/>
            <a:ext cx="41943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tistic Task 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D5264-1226-4755-8395-863D51E3C972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21:18:45Z</dcterms:created>
  <dc:creator>Yoo Sang Shin</dc:creator>
  <dc:description/>
  <dc:language>en-US</dc:language>
  <cp:lastModifiedBy>com-07</cp:lastModifiedBy>
  <cp:lastPrinted>1999-12-01T19:27:03Z</cp:lastPrinted>
  <dcterms:modified xsi:type="dcterms:W3CDTF">2004-07-30T02:52:27Z</dcterms:modified>
  <cp:revision>1358</cp:revision>
  <dc:subject/>
  <dc:title>uC/OS-II</dc:title>
</cp:coreProperties>
</file>