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9E31-92C3-485C-88E4-38F7D2BD8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FDF0-3FD5-4B7F-A6D4-28CABD2BF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0F20-2294-45E6-950A-C7C1FA17C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4E51-40DE-48D0-9E6F-6A73BEB83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E374-9F21-4A58-A4A9-810D7FAD5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C16D-3541-4CEF-9944-C8B292E8A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EF45-60BA-4D87-9A31-5C4CAAF51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30B6-E0D6-4E7C-A237-455154CC0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E528-EAC1-4F06-9D97-92FF2303D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8BB1-C561-40BB-A3D0-5D150FD25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63F6-00BE-43DF-A61C-19DCD9B67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87DD-5F43-49BC-BB26-EFD55C9DD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A699F-F5A7-4DE0-87C8-4D2940281A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モジュール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10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83664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cmn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105264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0000" y="148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268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dlg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184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27280" y="1700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file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22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2133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set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2781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27280" y="256536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tek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92280"/>
            <a:ext cx="3743280" cy="237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060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981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692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112536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1268280"/>
            <a:ext cx="1295640" cy="432000"/>
          </a:xfrm>
          <a:prstGeom prst="wedgeRoundRectCallout">
            <a:avLst>
              <a:gd name="adj1" fmla="val -13601"/>
              <a:gd name="adj2" fmla="val -78675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によ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プロセス間通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2421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term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12000" y="2205000"/>
            <a:ext cx="1081080" cy="94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yg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dev/ptm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256536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27664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1844640"/>
            <a:ext cx="1295640" cy="432000"/>
          </a:xfrm>
          <a:prstGeom prst="wedgeRoundRectCallout">
            <a:avLst>
              <a:gd name="adj1" fmla="val -14703"/>
              <a:gd name="adj2" fmla="val 80513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l port2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番で待ち受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2637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270828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860640"/>
            <a:ext cx="122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Proxy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kanjimenu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3141720"/>
            <a:ext cx="289080" cy="647640"/>
          </a:xfrm>
          <a:prstGeom prst="upArrow">
            <a:avLst>
              <a:gd name="adj1" fmla="val 50000"/>
              <a:gd name="adj2" fmla="val 56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9564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43657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起動時にダイナミックローディン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ycode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menu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314172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launch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156360" y="2852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19640" y="4292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32720" y="4508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08720" y="429264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c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20000" y="450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20000" y="486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472428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unl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20000" y="530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515772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LEdi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3:46:57Z</dcterms:modified>
  <cp:revision>65</cp:revision>
  <dc:subject/>
  <dc:title>TeraTermモジュール構成</dc:title>
</cp:coreProperties>
</file>