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36820"/>
        <c:axId val="37308096"/>
      </c:barChart>
      <c:catAx>
        <c:axId val="72136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8096"/>
        <c:crosses val="autoZero"/>
        <c:auto val="1"/>
        <c:lblAlgn val="ctr"/>
        <c:lblOffset val="100"/>
        <c:noMultiLvlLbl val="0"/>
      </c:catAx>
      <c:valAx>
        <c:axId val="37308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36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398-FB6C-437D-B14C-103BBAF1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980-22EA-4B88-B4C6-5977680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F2E-B007-4351-9420-D78D01D2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990-0BD2-454D-8F18-8A64A951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295-BAF7-461C-8AAE-FB1CCA02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1D0-746B-4413-8C17-22C6699A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F1B-502D-422A-BD66-1372C123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2EE-0C6F-440F-87EA-9C35782D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3F4-E246-4EBD-9C1D-CB4C4A9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5A1-1C06-43A3-848E-72F32C6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F19-18C2-4CD7-A521-2E2D987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A75-82F7-4FBE-9D80-32226BCC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3E8B3-5BA0-4C16-B6C2-A52CCAB593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