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17EF-BEBB-4C19-B31D-29CAF3253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578A-5E74-48BA-A2BE-99D03BA29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0F91-60F2-46BC-81F4-08B26CCDB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B463-9A03-456F-B521-06A2B9DC9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C4E9-C67D-41A6-B781-4B85DF3C5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6744-80C2-41B0-915F-535DD7A0F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E3FE-DAAA-43CA-83E2-42312A701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8F05-69F0-4E76-BC5E-BA035124C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F364-7C42-4F22-9D59-073A1E9C4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7046-1D1F-48A5-87D7-DE700F21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7FD5-3E01-449A-A573-C4E4E0BA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7A1A-1D07-405C-AB89-27F105F3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21040-B661-4CC0-91C5-80B914471A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3880" y="71280"/>
            <a:ext cx="7896240" cy="6715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71640" y="1044720"/>
            <a:ext cx="6480000" cy="495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c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549360"/>
            <a:ext cx="1439640" cy="495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c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1539720"/>
            <a:ext cx="2700360" cy="2024280"/>
          </a:xfrm>
          <a:prstGeom prst="roundRect">
            <a:avLst>
              <a:gd name="adj" fmla="val 6037"/>
            </a:avLst>
          </a:prstGeom>
          <a:noFill/>
          <a:ln w="38160">
            <a:solidFill>
              <a:srgbClr val="cc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7000" y="1539720"/>
            <a:ext cx="3644640" cy="2024280"/>
          </a:xfrm>
          <a:prstGeom prst="roundRect">
            <a:avLst>
              <a:gd name="adj" fmla="val 6037"/>
            </a:avLst>
          </a:prstGeom>
          <a:noFill/>
          <a:ln w="38160">
            <a:solidFill>
              <a:srgbClr val="cc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71640" y="3654360"/>
            <a:ext cx="6480000" cy="2970360"/>
          </a:xfrm>
          <a:prstGeom prst="roundRect">
            <a:avLst>
              <a:gd name="adj" fmla="val 6037"/>
            </a:avLst>
          </a:prstGeom>
          <a:noFill/>
          <a:ln w="38160">
            <a:solidFill>
              <a:srgbClr val="cc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497720" y="1852560"/>
            <a:ext cx="719280" cy="585720"/>
          </a:xfrm>
          <a:prstGeom prst="roundRect">
            <a:avLst>
              <a:gd name="adj" fmla="val 6037"/>
            </a:avLst>
          </a:prstGeom>
          <a:noFill/>
          <a:ln w="38160">
            <a:solidFill>
              <a:srgbClr val="cc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497720" y="2484360"/>
            <a:ext cx="719280" cy="495360"/>
          </a:xfrm>
          <a:prstGeom prst="roundRect">
            <a:avLst>
              <a:gd name="adj" fmla="val 6037"/>
            </a:avLst>
          </a:prstGeom>
          <a:noFill/>
          <a:ln w="38160">
            <a:solidFill>
              <a:srgbClr val="cc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72480" y="511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3640" y="1044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4800" y="15908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6120" y="3789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59240" y="1593720"/>
            <a:ext cx="311760" cy="3682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229240" y="17762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29240" y="2484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6T11:23:30Z</dcterms:created>
  <dc:creator>Toru Furukawa</dc:creator>
  <dc:description/>
  <dc:language>en-US</dc:language>
  <cp:lastModifiedBy>Toru Furukawa</cp:lastModifiedBy>
  <dcterms:modified xsi:type="dcterms:W3CDTF">2007-05-26T11:49:05Z</dcterms:modified>
  <cp:revision>2</cp:revision>
  <dc:subject/>
  <dc:title>スライド 1</dc:title>
</cp:coreProperties>
</file>