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2E8-1EC9-4868-98C9-424180BA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1FB-CBCB-418D-9700-014C87B3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C7D-106F-4025-8160-FBD4EF74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64D-909A-46E7-B70C-ED2201A1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D6F-01A8-4212-9C0D-9778DCAA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0F5-E00E-4676-AF58-41333BEF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210-0E53-4805-B233-5B18B516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C80-64FD-41E8-AFAC-63777B7A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A401-D354-4618-942C-B5237C92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5F5-6347-4BB2-8F8E-8D0A2C3A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DC1-0704-4FA7-B2D0-E96B3409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72F-DC17-49ED-8DC8-F74CC52A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040F-7BDB-408D-AC92-CDE3F7BD6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027080"/>
            <a:ext cx="8303400" cy="4763880"/>
            <a:chOff x="457200" y="1027080"/>
            <a:chExt cx="8303400" cy="4763880"/>
          </a:xfrm>
        </p:grpSpPr>
        <p:sp>
          <p:nvSpPr>
            <p:cNvPr id="43" name=""/>
            <p:cNvSpPr/>
            <p:nvPr/>
          </p:nvSpPr>
          <p:spPr>
            <a:xfrm>
              <a:off x="3304800" y="5180040"/>
              <a:ext cx="5455800" cy="61092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ava IO str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"/>
            <p:cNvCxnSpPr>
              <a:stCxn id="45" idx="2"/>
              <a:endCxn id="46" idx="1"/>
            </p:cNvCxnSpPr>
            <p:nvPr/>
          </p:nvCxnSpPr>
          <p:spPr>
            <a:xfrm flipH="1" rot="16200000">
              <a:off x="2306880" y="1401480"/>
              <a:ext cx="334800" cy="166176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7" name=""/>
            <p:cNvSpPr/>
            <p:nvPr/>
          </p:nvSpPr>
          <p:spPr>
            <a:xfrm>
              <a:off x="3304800" y="4332240"/>
              <a:ext cx="5455800" cy="61020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eHEP IO str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04800" y="2806920"/>
              <a:ext cx="5455800" cy="14238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eHEP Graphics IO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w-level format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CGM, EMF, PDF and SW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04800" y="2094840"/>
              <a:ext cx="5455800" cy="610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HEP VectorGraph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200" y="1027080"/>
              <a:ext cx="2372760" cy="10382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HE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rtDia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04800" y="1027080"/>
              <a:ext cx="5455800" cy="6102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ava Graphics2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20:03:58Z</dcterms:modified>
  <cp:revision>27</cp:revision>
  <dc:subject/>
  <dc:title>Slide 1</dc:title>
</cp:coreProperties>
</file>