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CA9-4320-497B-AE7A-645C59E6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118-60DE-4250-8D6F-934764BC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415-96A3-4CA6-A024-FA4C9E85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84F-FB6E-4ACC-A49B-75BA18CA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324-CCF9-44C4-B08D-3EB40A9C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A42-361E-4B12-BB91-A8C1AABE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20D-C95D-4611-A67F-0DCEF572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2C4A-57FF-4D73-899D-3DBD3CD5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6DE-A6F3-45A3-94AC-DEFFD3FB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7CB-22E4-47E8-81D3-F2FA6E88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750F-7CF7-4C71-BFD0-92BFFAB5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15B-721E-42FD-AE77-639D35A0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9A68-29E4-4FE6-80D0-8F9C5E65A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419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7240" y="4736160"/>
            <a:ext cx="1969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5410080" cy="1523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5334120"/>
            <a:ext cx="685800" cy="91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4480" y="926280"/>
            <a:ext cx="1384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60160" y="1764360"/>
            <a:ext cx="1753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ctor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3800" y="240480"/>
            <a:ext cx="1093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83480" y="926280"/>
            <a:ext cx="2780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ctorGraphics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5800" y="2515320"/>
            <a:ext cx="2591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Vector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7160" y="358200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3429000"/>
            <a:ext cx="5791320" cy="99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85280" y="4572720"/>
            <a:ext cx="2833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Vector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5334120"/>
            <a:ext cx="4876920" cy="1523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4320" y="389808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320" y="5944320"/>
            <a:ext cx="1845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2080" y="6096600"/>
            <a:ext cx="191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P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62680" y="6260400"/>
            <a:ext cx="195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M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48480" y="6412680"/>
            <a:ext cx="195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N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24640" y="565056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30960" y="5792040"/>
            <a:ext cx="1945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02720" y="5944320"/>
            <a:ext cx="191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44240" y="6085800"/>
            <a:ext cx="17672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45720" y="6249240"/>
            <a:ext cx="1945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V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2080" y="6401520"/>
            <a:ext cx="19713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6" idx="0"/>
            <a:endCxn id="48" idx="2"/>
          </p:cNvCxnSpPr>
          <p:nvPr/>
        </p:nvCxnSpPr>
        <p:spPr>
          <a:xfrm flipV="1" rot="16200000">
            <a:off x="3974760" y="764280"/>
            <a:ext cx="317880" cy="6480"/>
          </a:xfrm>
          <a:prstGeom prst="bentConnector3">
            <a:avLst>
              <a:gd name="adj1" fmla="val 5011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47" idx="0"/>
            <a:endCxn id="46" idx="2"/>
          </p:cNvCxnSpPr>
          <p:nvPr/>
        </p:nvCxnSpPr>
        <p:spPr>
          <a:xfrm rot="16200000">
            <a:off x="3902040" y="1529280"/>
            <a:ext cx="47016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50" idx="0"/>
            <a:endCxn id="47" idx="2"/>
          </p:cNvCxnSpPr>
          <p:nvPr/>
        </p:nvCxnSpPr>
        <p:spPr>
          <a:xfrm flipV="1" rot="16200000">
            <a:off x="3947760" y="2321280"/>
            <a:ext cx="383040" cy="5040"/>
          </a:xfrm>
          <a:prstGeom prst="bentConnector3">
            <a:avLst>
              <a:gd name="adj1" fmla="val 5004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7" idx="0"/>
            <a:endCxn id="49" idx="2"/>
          </p:cNvCxnSpPr>
          <p:nvPr/>
        </p:nvCxnSpPr>
        <p:spPr>
          <a:xfrm flipH="1" flipV="1" rot="5400000">
            <a:off x="5470200" y="-39240"/>
            <a:ext cx="470160" cy="3137400"/>
          </a:xfrm>
          <a:prstGeom prst="bentConnector5">
            <a:avLst>
              <a:gd name="adj1" fmla="val 51111"/>
              <a:gd name="adj2" fmla="val 41817"/>
              <a:gd name="adj3" fmla="val 49042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70" name=""/>
          <p:cNvCxnSpPr>
            <a:stCxn id="51" idx="0"/>
            <a:endCxn id="50" idx="2"/>
          </p:cNvCxnSpPr>
          <p:nvPr/>
        </p:nvCxnSpPr>
        <p:spPr>
          <a:xfrm flipH="1" flipV="1" rot="5400000">
            <a:off x="2603880" y="2044800"/>
            <a:ext cx="698760" cy="2376720"/>
          </a:xfrm>
          <a:prstGeom prst="bentConnector3">
            <a:avLst>
              <a:gd name="adj1" fmla="val 5005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0" idx="2"/>
          </p:cNvCxnSpPr>
          <p:nvPr/>
        </p:nvCxnSpPr>
        <p:spPr>
          <a:xfrm flipV="1" rot="16200000">
            <a:off x="4314600" y="2710440"/>
            <a:ext cx="1014840" cy="1361160"/>
          </a:xfrm>
          <a:prstGeom prst="bentConnector3">
            <a:avLst>
              <a:gd name="adj1" fmla="val 5003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43" idx="0"/>
            <a:endCxn id="51" idx="2"/>
          </p:cNvCxnSpPr>
          <p:nvPr/>
        </p:nvCxnSpPr>
        <p:spPr>
          <a:xfrm flipH="1" flipV="1" rot="5400000">
            <a:off x="1370520" y="4341600"/>
            <a:ext cx="786240" cy="3240"/>
          </a:xfrm>
          <a:prstGeom prst="bentConnector3">
            <a:avLst>
              <a:gd name="adj1" fmla="val 5002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7" idx="0"/>
            <a:endCxn id="43" idx="2"/>
          </p:cNvCxnSpPr>
          <p:nvPr/>
        </p:nvCxnSpPr>
        <p:spPr>
          <a:xfrm flipH="1" flipV="1" rot="5400000">
            <a:off x="1265760" y="5600520"/>
            <a:ext cx="992520" cy="720"/>
          </a:xfrm>
          <a:prstGeom prst="bentConnector3">
            <a:avLst>
              <a:gd name="adj1" fmla="val 5003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53" idx="0"/>
            <a:endCxn id="55" idx="2"/>
          </p:cNvCxnSpPr>
          <p:nvPr/>
        </p:nvCxnSpPr>
        <p:spPr>
          <a:xfrm rot="16200000">
            <a:off x="5349240" y="4419360"/>
            <a:ext cx="30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61" idx="0"/>
            <a:endCxn id="53" idx="2"/>
          </p:cNvCxnSpPr>
          <p:nvPr/>
        </p:nvCxnSpPr>
        <p:spPr>
          <a:xfrm flipV="1" rot="16200000">
            <a:off x="5077440" y="5365800"/>
            <a:ext cx="851400" cy="1800"/>
          </a:xfrm>
          <a:prstGeom prst="bentConnector3">
            <a:avLst>
              <a:gd name="adj1" fmla="val 5004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78840" y="76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94720" y="53341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14640" y="3429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32200" y="9036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41360" y="3886920"/>
            <a:ext cx="22334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ltiPage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2" idx="0"/>
            <a:endCxn id="80" idx="2"/>
          </p:cNvCxnSpPr>
          <p:nvPr/>
        </p:nvCxnSpPr>
        <p:spPr>
          <a:xfrm flipH="1" flipV="1" rot="5400000">
            <a:off x="6165720" y="4251960"/>
            <a:ext cx="1689480" cy="1695960"/>
          </a:xfrm>
          <a:prstGeom prst="bentConnector3">
            <a:avLst>
              <a:gd name="adj1" fmla="val 5002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82" name=""/>
          <p:cNvCxnSpPr>
            <a:stCxn id="63" idx="0"/>
            <a:endCxn id="80" idx="2"/>
          </p:cNvCxnSpPr>
          <p:nvPr/>
        </p:nvCxnSpPr>
        <p:spPr>
          <a:xfrm flipH="1" flipV="1" rot="5400000">
            <a:off x="6377400" y="4605120"/>
            <a:ext cx="1830960" cy="11307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19:37:49Z</dcterms:modified>
  <cp:revision>28</cp:revision>
  <dc:subject/>
  <dc:title>Slide 1</dc:title>
</cp:coreProperties>
</file>