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9D6D-A30A-4A6D-B21C-BDA723E4E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85EF-DB74-4860-8685-FC7DA73BB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B402-6996-4F60-8C1C-7EF8D8315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555D-0CE9-46B0-A749-A80761C4C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3370-5D41-4C5A-B86D-FB4D5E0E0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D10A-21D4-4B5D-8484-05A94A1FC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E973-1243-4BE6-ABCC-4C8491875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56C5-954C-43E7-91D9-8F84D1F87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EFD3-A41B-4E4B-9E45-2A1D37991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3C78-8C64-4AE8-ABFA-E3028613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10AC-8585-42BA-80D8-DFADD71E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DCCA-3800-4246-91FD-BCDEA3BC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76A73-16C9-4A16-89EA-D6E39D720F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523880"/>
            <a:ext cx="9144000" cy="33530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8840" y="7632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aw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320" y="1523880"/>
            <a:ext cx="25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19320" y="5258520"/>
            <a:ext cx="2396880" cy="520920"/>
            <a:chOff x="319320" y="5258520"/>
            <a:chExt cx="2396880" cy="520920"/>
          </a:xfrm>
        </p:grpSpPr>
        <p:sp>
          <p:nvSpPr>
            <p:cNvPr id="47" name=""/>
            <p:cNvSpPr/>
            <p:nvPr/>
          </p:nvSpPr>
          <p:spPr>
            <a:xfrm>
              <a:off x="319320" y="5258520"/>
              <a:ext cx="1742760" cy="368280"/>
            </a:xfrm>
            <a:prstGeom prst="rect">
              <a:avLst/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STagHandl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95240" y="5411160"/>
              <a:ext cx="1920960" cy="368280"/>
            </a:xfrm>
            <a:prstGeom prst="rect">
              <a:avLst/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VGTagHandl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1767240" y="3974400"/>
            <a:ext cx="2288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icTagHand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00" y="2145600"/>
            <a:ext cx="1438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Hand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144920" y="2123280"/>
            <a:ext cx="12992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t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405560" y="240480"/>
            <a:ext cx="7779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75600" y="2145600"/>
            <a:ext cx="1249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stCxn id="47" idx="0"/>
            <a:endCxn id="50" idx="2"/>
          </p:cNvCxnSpPr>
          <p:nvPr/>
        </p:nvCxnSpPr>
        <p:spPr>
          <a:xfrm rot="16200000">
            <a:off x="-181800" y="3886200"/>
            <a:ext cx="274500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5" name=""/>
          <p:cNvCxnSpPr>
            <a:stCxn id="49" idx="0"/>
            <a:endCxn id="50" idx="2"/>
          </p:cNvCxnSpPr>
          <p:nvPr/>
        </p:nvCxnSpPr>
        <p:spPr>
          <a:xfrm flipV="1" rot="16200000">
            <a:off x="1320840" y="2383560"/>
            <a:ext cx="1460880" cy="1721160"/>
          </a:xfrm>
          <a:prstGeom prst="bentConnector3">
            <a:avLst>
              <a:gd name="adj1" fmla="val 5001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6" name=""/>
          <p:cNvCxnSpPr>
            <a:stCxn id="51" idx="0"/>
            <a:endCxn id="52" idx="2"/>
          </p:cNvCxnSpPr>
          <p:nvPr/>
        </p:nvCxnSpPr>
        <p:spPr>
          <a:xfrm rot="16200000">
            <a:off x="7037280" y="1365840"/>
            <a:ext cx="151488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57" name=""/>
          <p:cNvSpPr/>
          <p:nvPr/>
        </p:nvSpPr>
        <p:spPr>
          <a:xfrm>
            <a:off x="4966920" y="2134440"/>
            <a:ext cx="16923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mbolSh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80200" y="240480"/>
            <a:ext cx="866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57" idx="0"/>
            <a:endCxn id="58" idx="2"/>
          </p:cNvCxnSpPr>
          <p:nvPr/>
        </p:nvCxnSpPr>
        <p:spPr>
          <a:xfrm flipH="1" flipV="1" rot="5400000">
            <a:off x="5050080" y="1371600"/>
            <a:ext cx="1526040" cy="720"/>
          </a:xfrm>
          <a:prstGeom prst="bentConnector3">
            <a:avLst>
              <a:gd name="adj1" fmla="val 50023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60" name=""/>
          <p:cNvSpPr/>
          <p:nvPr/>
        </p:nvSpPr>
        <p:spPr>
          <a:xfrm>
            <a:off x="6894720" y="487692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0T01:28:06Z</dcterms:created>
  <dc:creator>duns</dc:creator>
  <dc:description/>
  <dc:language>en-US</dc:language>
  <cp:lastModifiedBy>duns</cp:lastModifiedBy>
  <dcterms:modified xsi:type="dcterms:W3CDTF">2003-03-22T01:18:47Z</dcterms:modified>
  <cp:revision>26</cp:revision>
  <dc:subject/>
  <dc:title>Slide 1</dc:title>
</cp:coreProperties>
</file>