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91.xml" ContentType="application/vnd.openxmlformats-officedocument.presentationml.notesSlide+xml"/>
  <Override PartName="/ppt/notesSlides/notesSlide89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97.xml" ContentType="application/vnd.openxmlformats-officedocument.presentationml.notesSlide+xml"/>
  <Override PartName="/ppt/notesSlides/notesSlide96.xml" ContentType="application/vnd.openxmlformats-officedocument.presentationml.notesSlide+xml"/>
  <Override PartName="/ppt/notesSlides/_rels/notesSlide9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91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97.xml.rels" ContentType="application/vnd.openxmlformats-package.relationships+xml"/>
  <Override PartName="/ppt/notesSlides/_rels/notesSlide94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96.xml.rels" ContentType="application/vnd.openxmlformats-package.relationships+xml"/>
  <Override PartName="/ppt/notesSlides/_rels/notesSlide93.xml.rels" ContentType="application/vnd.openxmlformats-package.relationships+xml"/>
  <Override PartName="/ppt/notesSlides/_rels/notesSlide95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92.xml.rels" ContentType="application/vnd.openxmlformats-package.relationships+xml"/>
  <Override PartName="/ppt/notesSlides/_rels/notesSlide89.xml.rels" ContentType="application/vnd.openxmlformats-package.relationships+xml"/>
  <Override PartName="/ppt/notesSlides/_rels/notesSlide74.xml.rels" ContentType="application/vnd.openxmlformats-package.relationships+xml"/>
  <Override PartName="/ppt/notesSlides/notesSlide95.xml" ContentType="application/vnd.openxmlformats-officedocument.presentationml.notesSlide+xml"/>
  <Override PartName="/ppt/notesSlides/notesSlide94.xml" ContentType="application/vnd.openxmlformats-officedocument.presentationml.notesSlide+xml"/>
  <Override PartName="/ppt/notesSlides/notesSlide93.xml" ContentType="application/vnd.openxmlformats-officedocument.presentationml.notesSlide+xml"/>
  <Override PartName="/ppt/notesSlides/notesSlide92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9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9.jpeg" ContentType="image/jpeg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2.xml.rels" ContentType="application/vnd.openxmlformats-package.relationships+xml"/>
  <Override PartName="/ppt/slides/_rels/slide93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70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8.xml.rels" ContentType="application/vnd.openxmlformats-package.relationships+xml"/>
  <Override PartName="/ppt/slides/_rels/slide95.xml.rels" ContentType="application/vnd.openxmlformats-package.relationships+xml"/>
  <Override PartName="/ppt/slides/_rels/slide11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96.xml.rels" ContentType="application/vnd.openxmlformats-package.relationships+xml"/>
  <Override PartName="/ppt/slides/_rels/slide94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94.xml" ContentType="application/vnd.openxmlformats-officedocument.presentationml.slide+xml"/>
  <Override PartName="/ppt/slides/slide29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62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61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  <p:sldId id="348" r:id="rId97"/>
    <p:sldId id="349" r:id="rId98"/>
    <p:sldId id="350" r:id="rId99"/>
    <p:sldId id="351" r:id="rId100"/>
    <p:sldId id="352" r:id="rId101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slide" Target="slides/slide93.xml"/><Relationship Id="rId98" Type="http://schemas.openxmlformats.org/officeDocument/2006/relationships/slide" Target="slides/slide94.xml"/><Relationship Id="rId99" Type="http://schemas.openxmlformats.org/officeDocument/2006/relationships/slide" Target="slides/slide95.xml"/><Relationship Id="rId100" Type="http://schemas.openxmlformats.org/officeDocument/2006/relationships/slide" Target="slides/slide96.xml"/><Relationship Id="rId101" Type="http://schemas.openxmlformats.org/officeDocument/2006/relationships/slide" Target="slides/slide97.xml"/><Relationship Id="rId10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0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5"/>
          </p:nvPr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912600" y="739800"/>
            <a:ext cx="4927320" cy="369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890280" y="4680000"/>
            <a:ext cx="4971960" cy="451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6"/>
          </p:nvPr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7"/>
          </p:nvPr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BB36B6-0C6A-42E9-AFC7-621DF497135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89.xml.rels><?xml version="1.0" encoding="UTF-8"?>
<Relationships xmlns="http://schemas.openxmlformats.org/package/2006/relationships"><Relationship Id="rId1" Type="http://schemas.openxmlformats.org/officeDocument/2006/relationships/slide" Target="../slides/slide89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_rels/notesSlide91.xml.rels><?xml version="1.0" encoding="UTF-8"?>
<Relationships xmlns="http://schemas.openxmlformats.org/package/2006/relationships"><Relationship Id="rId1" Type="http://schemas.openxmlformats.org/officeDocument/2006/relationships/slide" Target="../slides/slide91.xml"/><Relationship Id="rId2" Type="http://schemas.openxmlformats.org/officeDocument/2006/relationships/notesMaster" Target="../notesMasters/notesMaster1.xml"/>
</Relationships>
</file>

<file path=ppt/notesSlides/_rels/notesSlide92.xml.rels><?xml version="1.0" encoding="UTF-8"?>
<Relationships xmlns="http://schemas.openxmlformats.org/package/2006/relationships"><Relationship Id="rId1" Type="http://schemas.openxmlformats.org/officeDocument/2006/relationships/slide" Target="../slides/slide92.xml"/><Relationship Id="rId2" Type="http://schemas.openxmlformats.org/officeDocument/2006/relationships/notesMaster" Target="../notesMasters/notesMaster1.xml"/>
</Relationships>
</file>

<file path=ppt/notesSlides/_rels/notesSlide93.xml.rels><?xml version="1.0" encoding="UTF-8"?>
<Relationships xmlns="http://schemas.openxmlformats.org/package/2006/relationships"><Relationship Id="rId1" Type="http://schemas.openxmlformats.org/officeDocument/2006/relationships/slide" Target="../slides/slide93.xml"/><Relationship Id="rId2" Type="http://schemas.openxmlformats.org/officeDocument/2006/relationships/notesMaster" Target="../notesMasters/notesMaster1.xml"/>
</Relationships>
</file>

<file path=ppt/notesSlides/_rels/notesSlide94.xml.rels><?xml version="1.0" encoding="UTF-8"?>
<Relationships xmlns="http://schemas.openxmlformats.org/package/2006/relationships"><Relationship Id="rId1" Type="http://schemas.openxmlformats.org/officeDocument/2006/relationships/slide" Target="../slides/slide94.xml"/><Relationship Id="rId2" Type="http://schemas.openxmlformats.org/officeDocument/2006/relationships/notesMaster" Target="../notesMasters/notesMaster1.xml"/>
</Relationships>
</file>

<file path=ppt/notesSlides/_rels/notesSlide95.xml.rels><?xml version="1.0" encoding="UTF-8"?>
<Relationships xmlns="http://schemas.openxmlformats.org/package/2006/relationships"><Relationship Id="rId1" Type="http://schemas.openxmlformats.org/officeDocument/2006/relationships/slide" Target="../slides/slide95.xml"/><Relationship Id="rId2" Type="http://schemas.openxmlformats.org/officeDocument/2006/relationships/notesMaster" Target="../notesMasters/notesMaster1.xml"/>
</Relationships>
</file>

<file path=ppt/notesSlides/_rels/notesSlide96.xml.rels><?xml version="1.0" encoding="UTF-8"?>
<Relationships xmlns="http://schemas.openxmlformats.org/package/2006/relationships"><Relationship Id="rId1" Type="http://schemas.openxmlformats.org/officeDocument/2006/relationships/slide" Target="../slides/slide96.xml"/><Relationship Id="rId2" Type="http://schemas.openxmlformats.org/officeDocument/2006/relationships/notesMaster" Target="../notesMasters/notesMaster1.xml"/>
</Relationships>
</file>

<file path=ppt/notesSlides/_rels/notesSlide97.xml.rels><?xml version="1.0" encoding="UTF-8"?>
<Relationships xmlns="http://schemas.openxmlformats.org/package/2006/relationships"><Relationship Id="rId1" Type="http://schemas.openxmlformats.org/officeDocument/2006/relationships/slide" Target="../slides/slide97.xml"/><Relationship Id="rId2" Type="http://schemas.openxmlformats.org/officeDocument/2006/relationships/notesMaster" Target="../notesMasters/notesMaster1.xml"/>
</Relationship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6FEB95-1945-4FF1-82E6-81C7BADB739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569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AC411C-5AA1-4BBF-8B42-7CB3603B71E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575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6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3E586C-E424-4BD8-AEA5-2FD9A3CE014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581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70F9FA-CE49-4009-98B2-511A0F598B6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587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50CC82-2485-4E52-958D-9F59BBAAD38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593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4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76227F-BD39-4AA8-8644-B9CF6FCB8A9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599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0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81563F-8C2B-4F72-A9EA-6AC66008FDF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605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6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8F6AA8-6997-4240-B637-37F81F6E9B8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611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227378-A59F-41A1-BBD7-1379C716B22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617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8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4A2E68-5BE8-4337-A798-A4C4AD93747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623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4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3C4E3A-C7B8-4EFA-9415-D3C0CDFBD3A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629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0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6F75B5-D2F7-4670-BEFD-6ACF18C6B99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635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B72E5A8-C44F-43AE-BCE0-BF32DF3C319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641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2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F01082-78A7-4013-99D2-5C1D3AAE28E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647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F063C5-D15A-4F33-AF35-529FE8774CE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653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9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4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303FA3-C8C9-4B92-88AE-BA2C433913A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659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9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0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E06235-A292-4A02-8C34-D2BCDC86297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665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9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DD7BD3-A84F-496A-B53D-1731078AB6F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8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671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9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2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99D27A-7FB8-4F0A-8F57-D2CA559FB39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5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677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E8E061-BCE5-4317-84C7-DF0AAF9378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61760" y="3878640"/>
            <a:ext cx="7848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3EF024-CAB9-4C34-BEDB-387CD4AA76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83320" y="13712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61760" y="38786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83320" y="38786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DC15B1-16B3-4EE7-9E58-A652A5367F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252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15320" y="1371240"/>
            <a:ext cx="252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68880" y="1371240"/>
            <a:ext cx="252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61760" y="3878640"/>
            <a:ext cx="252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15320" y="3878640"/>
            <a:ext cx="252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68880" y="3878640"/>
            <a:ext cx="252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374F51-BC4B-468A-A3AC-9D231AC3ED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8296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83320" y="1371240"/>
            <a:ext cx="38296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801720" y="285840"/>
            <a:ext cx="76960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83320" y="1371240"/>
            <a:ext cx="38296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761760" y="38786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1F0BEE-80CB-4561-8778-991421850A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8296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83320" y="13712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83320" y="38786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83320" y="13712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761760" y="3878640"/>
            <a:ext cx="7848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761760" y="3878640"/>
            <a:ext cx="7848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83320" y="13712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761760" y="38786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83320" y="38786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252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415320" y="1371240"/>
            <a:ext cx="252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68880" y="1371240"/>
            <a:ext cx="252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761760" y="3878640"/>
            <a:ext cx="252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415320" y="3878640"/>
            <a:ext cx="252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68880" y="3878640"/>
            <a:ext cx="252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51542C-35AD-4BB3-BDE3-85BC257659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8296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83320" y="1371240"/>
            <a:ext cx="38296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B10CBA-8DFC-48D9-8E82-A70C41386F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FB6CDB-B3BB-4D42-874B-BEB79E42D3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01720" y="285840"/>
            <a:ext cx="76960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362251-2A97-4975-A8D9-B54E0A890B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83320" y="1371240"/>
            <a:ext cx="38296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61760" y="38786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910513-6696-41DD-A91C-7873E216A3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8296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83320" y="13712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83320" y="38786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C9DA06-CE85-4427-A9BF-6280D4EA49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83320" y="13712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61760" y="3878640"/>
            <a:ext cx="7848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C5C534-8760-4204-B301-50B63ADEC1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60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3" marL="1603440" indent="-227160">
              <a:spcBef>
                <a:spcPts val="601"/>
              </a:spcBef>
              <a:buClr>
                <a:srgbClr val="cc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4" marL="1947960" indent="-22860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5" marL="194796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6" marL="194796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5307120" y="6089760"/>
            <a:ext cx="1218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ko-KR" sz="1000" spc="-1" strike="noStrike">
                <a:solidFill>
                  <a:srgbClr val="ffff00"/>
                </a:solidFill>
                <a:latin typeface="Times New Roman"/>
                <a:ea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1000" spc="-1" strike="noStrike">
                <a:solidFill>
                  <a:srgbClr val="ffff00"/>
                </a:solidFill>
                <a:latin typeface="Times New Roman"/>
                <a:ea typeface="굴림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8088480" y="6173640"/>
            <a:ext cx="838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ko-KR" sz="1400" spc="-1" strike="noStrike">
                <a:solidFill>
                  <a:srgbClr val="0000cc"/>
                </a:solidFill>
                <a:latin typeface="Times New Roman"/>
                <a:ea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F766D-DD3C-493A-A171-352BB27FFC47}" type="slidenum">
              <a:rPr b="0" i="1" lang="ko-KR" sz="1400" spc="-1" strike="noStrike">
                <a:solidFill>
                  <a:srgbClr val="0000cc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01640" y="1162080"/>
            <a:ext cx="8226360" cy="60120"/>
          </a:xfrm>
          <a:prstGeom prst="rect">
            <a:avLst/>
          </a:prstGeom>
          <a:gradFill rotWithShape="0">
            <a:gsLst>
              <a:gs pos="0">
                <a:srgbClr val="efeffb"/>
              </a:gs>
              <a:gs pos="100000">
                <a:srgbClr val="0000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14400" bIns="14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58840" y="6246720"/>
            <a:ext cx="258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360" rIns="18360" tIns="46800" bIns="46800" anchor="t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cc"/>
                </a:solidFill>
                <a:latin typeface="Arial"/>
                <a:ea typeface="굴림"/>
              </a:rPr>
              <a:t>Embedded System Software I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ko-KR" sz="1000" spc="-1" strike="noStrike">
                <a:solidFill>
                  <a:srgbClr val="ffff00"/>
                </a:solidFill>
                <a:latin typeface="Times New Roman"/>
                <a:ea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1000" spc="-1" strike="noStrike">
                <a:solidFill>
                  <a:srgbClr val="ffff00"/>
                </a:solidFill>
                <a:latin typeface="Times New Roman"/>
                <a:ea typeface="굴림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ko-KR" sz="1400" spc="-1" strike="noStrike">
                <a:solidFill>
                  <a:srgbClr val="ff0033"/>
                </a:solidFill>
                <a:latin typeface="Times New Roman"/>
                <a:ea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1400" spc="-1" strike="noStrike">
                <a:solidFill>
                  <a:srgbClr val="ff0033"/>
                </a:solidFill>
                <a:latin typeface="Times New Roman"/>
                <a:ea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01640" y="1162080"/>
            <a:ext cx="8226360" cy="60120"/>
          </a:xfrm>
          <a:prstGeom prst="rect">
            <a:avLst/>
          </a:prstGeom>
          <a:gradFill rotWithShape="0">
            <a:gsLst>
              <a:gs pos="0">
                <a:srgbClr val="efeffb"/>
              </a:gs>
              <a:gs pos="100000">
                <a:srgbClr val="0000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14400" bIns="14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857160" algn="ctr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200240" indent="176040" algn="ctr">
              <a:spcBef>
                <a:spcPts val="451"/>
              </a:spcBef>
              <a:buClr>
                <a:srgbClr val="cc33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0" i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4" marL="1542960" indent="176400" algn="ctr"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5" marL="1542960" indent="1764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6" marL="1542960" indent="1764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ucos-ii.com/" TargetMode="External"/><Relationship Id="rId2" Type="http://schemas.openxmlformats.org/officeDocument/2006/relationships/hyperlink" Target="http://www.ucos-ii.com/" TargetMode="External"/><Relationship Id="rId3" Type="http://schemas.openxmlformats.org/officeDocument/2006/relationships/hyperlink" Target="http://www.ucos-ii.com/" TargetMode="External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0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4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96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실시간 운영체제 프로그래밍</a:t>
            </a:r>
            <a:br>
              <a:rPr sz="3200"/>
            </a:b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제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3,4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주차 강의내용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정보통신진흥원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SCM-EM 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교안개발팀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태스크 상태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1155600" y="1676520"/>
          <a:ext cx="7124760" cy="4147920"/>
        </p:xfrm>
        <a:graphic>
          <a:graphicData uri="http://schemas.openxmlformats.org/drawingml/2006/table">
            <a:tbl>
              <a:tblPr/>
              <a:tblGrid>
                <a:gridCol w="3562560"/>
                <a:gridCol w="3562200"/>
              </a:tblGrid>
              <a:tr h="496800">
                <a:tc>
                  <a:txBody>
                    <a:bodyPr lIns="90000" rIns="90000" tIns="57240" bIns="57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상 태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57240" bIns="57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설 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603360">
                <a:tc>
                  <a:txBody>
                    <a:bodyPr lIns="90000" rIns="90000" tIns="57240" bIns="57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DORMANT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(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수면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572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메모리에는 존재하지만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, 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수행될 수 있는 상태는 아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000">
                <a:tc>
                  <a:txBody>
                    <a:bodyPr lIns="90000" rIns="90000" tIns="57240" bIns="57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READY (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준비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572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수행될 수는 있지만 현 태스크보다 우선순위가 낮을 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160">
                <a:tc>
                  <a:txBody>
                    <a:bodyPr lIns="90000" rIns="90000" tIns="57240" bIns="57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RUNNING (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실행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572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CPU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를 실제로 사용하고 있을 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6800">
                <a:tc>
                  <a:txBody>
                    <a:bodyPr lIns="90000" rIns="90000" tIns="57240" bIns="57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DELAYED (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지연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572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얼마의 시간동안 작업이 중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7800">
                <a:tc>
                  <a:txBody>
                    <a:bodyPr lIns="90000" rIns="90000" tIns="57240" bIns="57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WAITING FOR AN EV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(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이벤트에 대한 대기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572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Event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의 발생을 기다릴 때 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(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예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: </a:t>
                      </a: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I/O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의 연산 종료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, 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공유 리소스가 사용 가능해 질  때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, </a:t>
                      </a: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iming pulse 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등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000">
                <a:tc>
                  <a:txBody>
                    <a:bodyPr lIns="90000" rIns="90000" tIns="57240" bIns="57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INTERRUPTED (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중단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572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인터럽트가 일어나고 </a:t>
                      </a: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CPU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가 인터럽트 서비스를 수행할 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C7ECF4-817B-4A6E-922E-16148A3BEEF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태스크들의 상태 전이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787320" y="1625760"/>
            <a:ext cx="7581960" cy="4210920"/>
            <a:chOff x="787320" y="1625760"/>
            <a:chExt cx="7581960" cy="4210920"/>
          </a:xfrm>
        </p:grpSpPr>
        <p:sp>
          <p:nvSpPr>
            <p:cNvPr id="131" name=""/>
            <p:cNvSpPr/>
            <p:nvPr/>
          </p:nvSpPr>
          <p:spPr>
            <a:xfrm>
              <a:off x="3924360" y="1625760"/>
              <a:ext cx="1117440" cy="393480"/>
            </a:xfrm>
            <a:prstGeom prst="ellipse">
              <a:avLst/>
            </a:prstGeom>
            <a:noFill/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038480" y="1689120"/>
              <a:ext cx="952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WAIT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371600" y="1816200"/>
              <a:ext cx="254016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5041800" y="1816200"/>
              <a:ext cx="60984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664240" y="1816200"/>
              <a:ext cx="0" cy="276840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371600" y="1816200"/>
              <a:ext cx="0" cy="280656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517920" y="1828800"/>
              <a:ext cx="0" cy="278136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87320" y="4610160"/>
              <a:ext cx="1117800" cy="393480"/>
            </a:xfrm>
            <a:prstGeom prst="ellipse">
              <a:avLst/>
            </a:prstGeom>
            <a:noFill/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863640" y="4673520"/>
              <a:ext cx="1003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DORMA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933640" y="4597560"/>
              <a:ext cx="1117800" cy="393480"/>
            </a:xfrm>
            <a:prstGeom prst="ellipse">
              <a:avLst/>
            </a:prstGeom>
            <a:noFill/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009960" y="4660920"/>
              <a:ext cx="1003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READ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079960" y="4584600"/>
              <a:ext cx="1117800" cy="393840"/>
            </a:xfrm>
            <a:prstGeom prst="ellipse">
              <a:avLst/>
            </a:prstGeom>
            <a:noFill/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156280" y="4648320"/>
              <a:ext cx="1003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RUNN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251840" y="4584600"/>
              <a:ext cx="1117440" cy="393840"/>
            </a:xfrm>
            <a:prstGeom prst="ellipse">
              <a:avLst/>
            </a:prstGeom>
            <a:noFill/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40760" y="4648320"/>
              <a:ext cx="1003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IS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651640" y="4978440"/>
              <a:ext cx="0" cy="54612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H="1">
              <a:off x="1371240" y="5524560"/>
              <a:ext cx="42670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V="1">
              <a:off x="1371600" y="4991040"/>
              <a:ext cx="0" cy="53352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905120" y="4788000"/>
              <a:ext cx="10159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064040" y="4788000"/>
              <a:ext cx="10159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210360" y="4775040"/>
              <a:ext cx="10159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>
              <a:off x="1904760" y="4889520"/>
              <a:ext cx="9903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4012920" y="4876920"/>
              <a:ext cx="9903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flipH="1">
              <a:off x="6172200" y="4876920"/>
              <a:ext cx="9907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33440" y="2349360"/>
              <a:ext cx="11556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askDel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765440" y="4165560"/>
              <a:ext cx="1638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askCreateExt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askCreate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879560" y="4940280"/>
              <a:ext cx="11556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askDel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517920" y="1981080"/>
              <a:ext cx="1701720" cy="179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BoxPost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Post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PostFront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SemPost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askResume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imeDlyResume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imetick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286680" y="4927680"/>
              <a:ext cx="11556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IntExit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311880" y="4495680"/>
              <a:ext cx="9651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Interrup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114800" y="4940280"/>
              <a:ext cx="9651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Preempted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924360" y="3975120"/>
              <a:ext cx="1473120" cy="77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Start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IntExit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_TASK_SW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984400" y="5575320"/>
              <a:ext cx="11178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askDel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702400" y="1981080"/>
              <a:ext cx="1574640" cy="12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BoxPend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Pend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askSuspend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imeDly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imeDlyHMSM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C0029D-7022-4547-86C1-8CA49E128FA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Task Control Blocks (1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태스크 생성시 각 태스크 별로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Task control block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인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_TCB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를 할당 받는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_TCB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는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RAM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에 상주하면서 태스크의 상태를 관리한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TCBStkPtr :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태스크의 스택 꼭대기를 가리키는 포인터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어셈블리어 코드의 문맥 전환 코드 부분에서 접근하는 유일한 필드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맨 위에 배치하는 것이 어셈블리 언어에서 접근하도록 하는데 좋다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TCBStat :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태스크의 상태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, 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이 값들은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ucos.c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에 있음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TCBPrio :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태스크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priority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값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우선 순위가 높을수록 작은 값을 가짐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TCBDly :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태스크가 지연될 필요가 있을 때나 일정한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timeout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을 두고 이벤트 발생을 기다릴 때 사용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지연 혹은 기다릴 시간을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lock tick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수로 나타낸 것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0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일 때에는 지연되지 않거나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imeout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 없는 상태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675DB4-86FE-4341-9A1B-4E3B3EB520C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Task Control Blocks 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TCBX, OSTCBY, OSTCBBitX, OSTCBBitY :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태스크가 생성되거나 우선순위가 바뀔 때 사용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TCBNext, OSTCBPrev : OS_TCB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를 양방향으로 링크하는데 사용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imeTick(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 각 태스크의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CBDly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필드 값을 갱신하는데 사용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는 태스크 생성시 링크되고 태스크가 제거될 때 링크도 제거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TCBEventPtr : Event control block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의 포인터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714680" y="2209680"/>
            <a:ext cx="4863960" cy="1409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765440" y="2260440"/>
            <a:ext cx="4749840" cy="12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TCBX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	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= priority &amp; 0x07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TCBBitX = OSMapTbl[priority &amp; 0x07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TCBY = priority &gt;&gt;3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TCBBitY = OSMapTbl[priority &gt;&gt;3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CC9116-71FC-4DE6-A4E0-ECEDF9001BD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OSTCBFreeLis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7657920" cy="24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_TCB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는 태스크 상태를 저장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스택의 위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의 상태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Running, Waiting, Dormant, 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들의 이중 연결 리스트의 이전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다음 태스크의 포인터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가 받은 이벤트나 메시지에 대한 포인터 등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_TCBTbl[ ]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에 위치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C/OS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가 초기화 될 때 모든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_TCB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들은 하나의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TCBFreeList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에 연결되어 관리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216000" y="2857320"/>
            <a:ext cx="8839080" cy="3340440"/>
            <a:chOff x="216000" y="2857320"/>
            <a:chExt cx="8839080" cy="3340440"/>
          </a:xfrm>
        </p:grpSpPr>
        <p:sp>
          <p:nvSpPr>
            <p:cNvPr id="174" name=""/>
            <p:cNvSpPr/>
            <p:nvPr/>
          </p:nvSpPr>
          <p:spPr>
            <a:xfrm>
              <a:off x="1359000" y="4673520"/>
              <a:ext cx="1231920" cy="152424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359000" y="5105520"/>
              <a:ext cx="12319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346040" y="4356000"/>
              <a:ext cx="1295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CBTbl[0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111480" y="4673520"/>
              <a:ext cx="1231920" cy="152424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111480" y="5105520"/>
              <a:ext cx="12319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098880" y="4356000"/>
              <a:ext cx="129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CBTbl[1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863960" y="4673520"/>
              <a:ext cx="1231920" cy="152424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863960" y="5105520"/>
              <a:ext cx="12319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851360" y="4356000"/>
              <a:ext cx="129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CBTbl[2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048440" y="4673520"/>
              <a:ext cx="1231920" cy="152424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048440" y="5105520"/>
              <a:ext cx="12319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591240" y="4229280"/>
              <a:ext cx="2286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CBTbl[OS_MAX_TASKS+OS_N_SYS_TASKS-1]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590920" y="4902120"/>
              <a:ext cx="5205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356000" y="4915080"/>
              <a:ext cx="5209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292960" y="4902120"/>
              <a:ext cx="3430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095880" y="4902120"/>
              <a:ext cx="952560" cy="0"/>
            </a:xfrm>
            <a:prstGeom prst="line">
              <a:avLst/>
            </a:prstGeom>
            <a:ln w="9360">
              <a:solidFill>
                <a:srgbClr val="000099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8508960" y="4749840"/>
              <a:ext cx="546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16000" y="3886200"/>
              <a:ext cx="2006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CBFreeLis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 flipV="1">
              <a:off x="774360" y="2856960"/>
              <a:ext cx="1141920" cy="274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359000" y="4673520"/>
              <a:ext cx="1231920" cy="4320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111480" y="4673520"/>
              <a:ext cx="1231920" cy="4320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863960" y="4673520"/>
              <a:ext cx="1231920" cy="4320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048440" y="4673520"/>
              <a:ext cx="1231920" cy="4320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371600" y="4749840"/>
              <a:ext cx="1206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CBNex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111480" y="4737240"/>
              <a:ext cx="1219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CBNex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838760" y="4737240"/>
              <a:ext cx="129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CBNex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023240" y="4737240"/>
              <a:ext cx="129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CBNex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D476F9-8D71-4BEE-AF53-980A8C356EF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태스크 준비 리스트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1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두개의 변수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RdyGrp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과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RdyTbl[ ]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로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Ready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상태의 태스크를 관리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현재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ready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상태인 태스크를 효율적을 검색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RdyGr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태스크의 우선순위에 의해 그룹화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한 그룹 당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8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개의 우선순위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Task ID)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를 가짐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RdyGrp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내의 각 비트는 해당 그룹의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Ready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여부를 표시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RdyTbl[ ]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지정된 우선순위의 각 태스크가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Ready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인지 여부를 표시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D05D6D-AD97-4D5F-A1EA-E28BE6FFE15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태스크 준비 리스트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787320" y="1206360"/>
            <a:ext cx="7925040" cy="5189400"/>
            <a:chOff x="787320" y="1206360"/>
            <a:chExt cx="7925040" cy="5189400"/>
          </a:xfrm>
        </p:grpSpPr>
        <p:grpSp>
          <p:nvGrpSpPr>
            <p:cNvPr id="205" name=""/>
            <p:cNvGrpSpPr/>
            <p:nvPr/>
          </p:nvGrpSpPr>
          <p:grpSpPr>
            <a:xfrm>
              <a:off x="4851360" y="2249640"/>
              <a:ext cx="3139920" cy="2849040"/>
              <a:chOff x="4851360" y="2249640"/>
              <a:chExt cx="3139920" cy="2849040"/>
            </a:xfrm>
          </p:grpSpPr>
          <p:sp>
            <p:nvSpPr>
              <p:cNvPr id="206" name=""/>
              <p:cNvSpPr/>
              <p:nvPr/>
            </p:nvSpPr>
            <p:spPr>
              <a:xfrm>
                <a:off x="7597800" y="4741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7205400" y="4741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6812640" y="474120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6420600" y="4741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6028200" y="4741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5635800" y="4741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5243400" y="4741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4851360" y="4741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7597800" y="43851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7205400" y="43851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6812640" y="438516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6420600" y="43851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6028200" y="43851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5635800" y="43851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5243400" y="43851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851360" y="43851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7597800" y="40294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205400" y="40294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6812640" y="402948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6420600" y="40294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6028200" y="40294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5635800" y="40294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5243400" y="40294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4851360" y="40294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7597800" y="3673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7205400" y="3673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6812640" y="367344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6420600" y="3673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6028200" y="3673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5635800" y="3673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5243400" y="3673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4851360" y="3673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7597800" y="3317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7205400" y="3317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6812640" y="331740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6420600" y="3317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6028200" y="3317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5635800" y="3317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5243400" y="3317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4851360" y="3317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7597800" y="2961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7205400" y="2961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6812640" y="296136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6420600" y="2961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6028200" y="2961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5635800" y="2961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5243400" y="2961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4851360" y="2961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7597800" y="2605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7205400" y="2605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6812640" y="260532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6420600" y="2605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6028200" y="2605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5635800" y="2605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5243400" y="2605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4851360" y="2605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7597800" y="22496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7205400" y="22496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6812640" y="224964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6420600" y="22496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6028200" y="22496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5635800" y="22496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5243400" y="22496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4851360" y="22496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4851360" y="2249640"/>
                <a:ext cx="3138840" cy="144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4851360" y="260532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4851360" y="296136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4851360" y="331740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4851360" y="367344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4851360" y="402948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4851360" y="438516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4851360" y="474120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4851360" y="5097240"/>
                <a:ext cx="3138840" cy="144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4851360" y="2249640"/>
                <a:ext cx="1440" cy="284760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5243400" y="2249640"/>
                <a:ext cx="1440" cy="28476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5635800" y="2249640"/>
                <a:ext cx="1440" cy="28476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6028200" y="2249640"/>
                <a:ext cx="1440" cy="28476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6420600" y="2249640"/>
                <a:ext cx="1440" cy="28476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6812640" y="2249640"/>
                <a:ext cx="1440" cy="28476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7205400" y="2249640"/>
                <a:ext cx="1080" cy="28476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7597800" y="2249640"/>
                <a:ext cx="1080" cy="28476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7990200" y="2249640"/>
                <a:ext cx="1080" cy="284760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8" name=""/>
            <p:cNvGrpSpPr/>
            <p:nvPr/>
          </p:nvGrpSpPr>
          <p:grpSpPr>
            <a:xfrm>
              <a:off x="1028880" y="1487520"/>
              <a:ext cx="2949480" cy="306360"/>
              <a:chOff x="1028880" y="1487520"/>
              <a:chExt cx="2949480" cy="306360"/>
            </a:xfrm>
          </p:grpSpPr>
          <p:sp>
            <p:nvSpPr>
              <p:cNvPr id="289" name=""/>
              <p:cNvSpPr/>
              <p:nvPr/>
            </p:nvSpPr>
            <p:spPr>
              <a:xfrm>
                <a:off x="3609360" y="1487520"/>
                <a:ext cx="368640" cy="30636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3240720" y="1487520"/>
                <a:ext cx="368280" cy="30636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2872080" y="1487520"/>
                <a:ext cx="368640" cy="30636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2503440" y="1487520"/>
                <a:ext cx="368280" cy="30636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2134440" y="1487520"/>
                <a:ext cx="368640" cy="30636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1766160" y="1487520"/>
                <a:ext cx="368280" cy="30636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1397160" y="1487520"/>
                <a:ext cx="368640" cy="30636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1028880" y="1487520"/>
                <a:ext cx="368280" cy="30636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1028880" y="1487520"/>
                <a:ext cx="2949480" cy="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1028880" y="1793880"/>
                <a:ext cx="2949480" cy="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1028880" y="1487520"/>
                <a:ext cx="0" cy="30636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1397160" y="1487520"/>
                <a:ext cx="0" cy="3063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1766160" y="1487520"/>
                <a:ext cx="0" cy="3063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2134440" y="1487520"/>
                <a:ext cx="0" cy="3063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2503440" y="1487520"/>
                <a:ext cx="0" cy="3063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2872080" y="1487520"/>
                <a:ext cx="0" cy="3063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3240720" y="1487520"/>
                <a:ext cx="0" cy="3063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3609360" y="1487520"/>
                <a:ext cx="0" cy="3063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978360" y="1487520"/>
                <a:ext cx="0" cy="30636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8" name=""/>
            <p:cNvSpPr/>
            <p:nvPr/>
          </p:nvSpPr>
          <p:spPr>
            <a:xfrm>
              <a:off x="4243320" y="2190600"/>
              <a:ext cx="507960" cy="29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1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2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3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4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5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6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7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 flipH="1">
              <a:off x="3800160" y="2390760"/>
              <a:ext cx="4683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 flipV="1">
              <a:off x="3787920" y="1780920"/>
              <a:ext cx="0" cy="6094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3446280" y="2752560"/>
              <a:ext cx="83484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 flipV="1">
              <a:off x="3446640" y="1768320"/>
              <a:ext cx="0" cy="9842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flipH="1">
              <a:off x="3104640" y="3116160"/>
              <a:ext cx="11638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105000" y="1781280"/>
              <a:ext cx="0" cy="13348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H="1">
              <a:off x="2724120" y="3456000"/>
              <a:ext cx="15192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flipV="1">
              <a:off x="2711520" y="1768320"/>
              <a:ext cx="0" cy="16876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H="1">
              <a:off x="2331720" y="3808440"/>
              <a:ext cx="191124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2332080" y="1780920"/>
              <a:ext cx="0" cy="20271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>
              <a:off x="1939680" y="4183200"/>
              <a:ext cx="22906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1940040" y="1780920"/>
              <a:ext cx="0" cy="23907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H="1">
              <a:off x="1611000" y="4522680"/>
              <a:ext cx="26067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 flipV="1">
              <a:off x="1598760" y="1780920"/>
              <a:ext cx="0" cy="27414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H="1">
              <a:off x="1244520" y="4886280"/>
              <a:ext cx="29736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1244520" y="1781280"/>
              <a:ext cx="0" cy="30938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028880" y="1206360"/>
              <a:ext cx="2909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RdyG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230720" y="1417680"/>
              <a:ext cx="3949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RdyTbl [ OS_LOWEST_PRIO / 8+1 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863960" y="2050920"/>
              <a:ext cx="0" cy="16380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7978680" y="2062080"/>
              <a:ext cx="0" cy="16344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>
              <a:off x="4876920" y="2108160"/>
              <a:ext cx="1341360" cy="0"/>
            </a:xfrm>
            <a:prstGeom prst="line">
              <a:avLst/>
            </a:prstGeom>
            <a:ln w="93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flipH="1">
              <a:off x="6559200" y="2108160"/>
              <a:ext cx="1406520" cy="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243480" y="1932120"/>
              <a:ext cx="34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8180280" y="2249640"/>
              <a:ext cx="3160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8028000" y="5086440"/>
              <a:ext cx="4428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8345520" y="2260440"/>
              <a:ext cx="0" cy="12542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8345520" y="3808440"/>
              <a:ext cx="0" cy="12780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8193240" y="3479760"/>
              <a:ext cx="315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472080" y="1662120"/>
              <a:ext cx="2240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최상위 우선 순위 태스크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8459640" y="1781280"/>
              <a:ext cx="2397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 flipH="1">
              <a:off x="8002440" y="1781280"/>
              <a:ext cx="696960" cy="5936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5673600" y="5273640"/>
              <a:ext cx="1847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태스크 우선순위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230960" y="5391000"/>
              <a:ext cx="3286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 flipH="1" flipV="1">
              <a:off x="7408440" y="5097240"/>
              <a:ext cx="150840" cy="2934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4902120" y="5530680"/>
              <a:ext cx="2241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최하위 우선순위 태스크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(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IDLE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>
              <a:off x="4547880" y="5659560"/>
              <a:ext cx="39204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flipV="1">
              <a:off x="4548240" y="5086440"/>
              <a:ext cx="430200" cy="5731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987640" y="5219640"/>
              <a:ext cx="314280" cy="2937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673360" y="5219640"/>
              <a:ext cx="314280" cy="2937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359080" y="5219640"/>
              <a:ext cx="314280" cy="2937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44800" y="5219640"/>
              <a:ext cx="314280" cy="29376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730520" y="5219640"/>
              <a:ext cx="314280" cy="29376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415880" y="5219640"/>
              <a:ext cx="314640" cy="29376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1101600" y="5219640"/>
              <a:ext cx="314280" cy="29376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787320" y="5219640"/>
              <a:ext cx="314280" cy="29376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87320" y="5219640"/>
              <a:ext cx="2514600" cy="1800"/>
            </a:xfrm>
            <a:prstGeom prst="line">
              <a:avLst/>
            </a:prstGeom>
            <a:ln cap="sq"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87320" y="5513400"/>
              <a:ext cx="2514600" cy="1440"/>
            </a:xfrm>
            <a:prstGeom prst="line">
              <a:avLst/>
            </a:prstGeom>
            <a:ln cap="sq"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87320" y="5219640"/>
              <a:ext cx="1800" cy="293760"/>
            </a:xfrm>
            <a:prstGeom prst="line">
              <a:avLst/>
            </a:prstGeom>
            <a:ln cap="sq"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101600" y="5219640"/>
              <a:ext cx="1800" cy="2937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415880" y="5219640"/>
              <a:ext cx="1800" cy="2937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730520" y="5219640"/>
              <a:ext cx="1440" cy="2937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044800" y="5219640"/>
              <a:ext cx="1440" cy="2937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359080" y="5219640"/>
              <a:ext cx="1440" cy="2937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2673360" y="5219640"/>
              <a:ext cx="1440" cy="2937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987640" y="5219640"/>
              <a:ext cx="1800" cy="2937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301920" y="5219640"/>
              <a:ext cx="1800" cy="293760"/>
            </a:xfrm>
            <a:prstGeom prst="line">
              <a:avLst/>
            </a:prstGeom>
            <a:ln cap="sq"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193760" y="4940280"/>
              <a:ext cx="1752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태스크 우선순위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2451240" y="5575320"/>
              <a:ext cx="7747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486080" y="5575320"/>
              <a:ext cx="7999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2819520" y="5575320"/>
              <a:ext cx="0" cy="1652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892160" y="5575320"/>
              <a:ext cx="0" cy="4572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1943280" y="5715000"/>
              <a:ext cx="3543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RdyTbl [ OS_LOWEST_PRIO / 8+1 ] </a:t>
              </a:r>
              <a:r>
                <a:rPr b="1" lang="ko-KR" sz="10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에서의 비트위치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1854360" y="5918040"/>
              <a:ext cx="396216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RdyGrp </a:t>
              </a:r>
              <a:r>
                <a:rPr b="1" lang="ko-KR" sz="10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에서의 비트위치와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RdyTbl [OS_LOWEST_PRIO / 8+1 ] </a:t>
              </a:r>
              <a:r>
                <a:rPr b="1" lang="ko-KR" sz="10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에서의 인덱스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671410-AC30-4845-A257-E9A7FEE9251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Task Schedul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항상 가장 높은 우선순위의 태스크를 실행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스케줄러에 의해 가장 높은 우선순위의 태스크와 다음에 실행할 태스크가 결정도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;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ㅁ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Sched( )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호출에 의해 스케줄링을 수행한다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855720" y="2870280"/>
            <a:ext cx="7576920" cy="3262320"/>
            <a:chOff x="855720" y="2870280"/>
            <a:chExt cx="7576920" cy="3262320"/>
          </a:xfrm>
        </p:grpSpPr>
        <p:sp>
          <p:nvSpPr>
            <p:cNvPr id="375" name=""/>
            <p:cNvSpPr/>
            <p:nvPr/>
          </p:nvSpPr>
          <p:spPr>
            <a:xfrm>
              <a:off x="855720" y="2870280"/>
              <a:ext cx="6141960" cy="326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just">
                <a:lnSpc>
                  <a:spcPct val="90000"/>
                </a:lnSpc>
                <a:spcBef>
                  <a:spcPts val="176"/>
                </a:spcBef>
                <a:tabLst>
                  <a:tab algn="l" pos="0"/>
                  <a:tab algn="l" pos="380880"/>
                  <a:tab algn="l" pos="762120"/>
                  <a:tab algn="l" pos="1143000"/>
                  <a:tab algn="l" pos="1523880"/>
                  <a:tab algn="l" pos="1905120"/>
                  <a:tab algn="l" pos="2286000"/>
                  <a:tab algn="l" pos="2666880"/>
                  <a:tab algn="l" pos="3048120"/>
                  <a:tab algn="l" pos="3429000"/>
                  <a:tab algn="l" pos="3809880"/>
                  <a:tab algn="l" pos="4191120"/>
                  <a:tab algn="l" pos="4572000"/>
                  <a:tab algn="l" pos="4952880"/>
                  <a:tab algn="l" pos="5334120"/>
                  <a:tab algn="l" pos="5715000"/>
                  <a:tab algn="l" pos="6095880"/>
                  <a:tab algn="l" pos="6477120"/>
                  <a:tab algn="l" pos="6858000"/>
                  <a:tab algn="l" pos="7238880"/>
                  <a:tab algn="l" pos="762012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void OSSched (void)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76"/>
                </a:spcBef>
                <a:tabLst>
                  <a:tab algn="l" pos="0"/>
                  <a:tab algn="l" pos="380880"/>
                  <a:tab algn="l" pos="762120"/>
                  <a:tab algn="l" pos="1143000"/>
                  <a:tab algn="l" pos="1523880"/>
                  <a:tab algn="l" pos="1905120"/>
                  <a:tab algn="l" pos="2286000"/>
                  <a:tab algn="l" pos="2666880"/>
                  <a:tab algn="l" pos="3048120"/>
                  <a:tab algn="l" pos="3429000"/>
                  <a:tab algn="l" pos="3809880"/>
                  <a:tab algn="l" pos="4191120"/>
                  <a:tab algn="l" pos="4572000"/>
                  <a:tab algn="l" pos="4952880"/>
                  <a:tab algn="l" pos="5334120"/>
                  <a:tab algn="l" pos="5715000"/>
                  <a:tab algn="l" pos="6095880"/>
                  <a:tab algn="l" pos="6477120"/>
                  <a:tab algn="l" pos="6858000"/>
                  <a:tab algn="l" pos="7238880"/>
                  <a:tab algn="l" pos="762012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{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76"/>
                </a:spcBef>
                <a:tabLst>
                  <a:tab algn="l" pos="0"/>
                  <a:tab algn="l" pos="380880"/>
                  <a:tab algn="l" pos="762120"/>
                  <a:tab algn="l" pos="1143000"/>
                  <a:tab algn="l" pos="1523880"/>
                  <a:tab algn="l" pos="1905120"/>
                  <a:tab algn="l" pos="2286000"/>
                  <a:tab algn="l" pos="2666880"/>
                  <a:tab algn="l" pos="3048120"/>
                  <a:tab algn="l" pos="3429000"/>
                  <a:tab algn="l" pos="3809880"/>
                  <a:tab algn="l" pos="4191120"/>
                  <a:tab algn="l" pos="4572000"/>
                  <a:tab algn="l" pos="4952880"/>
                  <a:tab algn="l" pos="5334120"/>
                  <a:tab algn="l" pos="5715000"/>
                  <a:tab algn="l" pos="6095880"/>
                  <a:tab algn="l" pos="6477120"/>
                  <a:tab algn="l" pos="6858000"/>
                  <a:tab algn="l" pos="7238880"/>
                  <a:tab algn="l" pos="762012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   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INT8U y;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76"/>
                </a:spcBef>
                <a:tabLst>
                  <a:tab algn="l" pos="0"/>
                  <a:tab algn="l" pos="380880"/>
                  <a:tab algn="l" pos="762120"/>
                  <a:tab algn="l" pos="1143000"/>
                  <a:tab algn="l" pos="1523880"/>
                  <a:tab algn="l" pos="1905120"/>
                  <a:tab algn="l" pos="2286000"/>
                  <a:tab algn="l" pos="2666880"/>
                  <a:tab algn="l" pos="3048120"/>
                  <a:tab algn="l" pos="3429000"/>
                  <a:tab algn="l" pos="3809880"/>
                  <a:tab algn="l" pos="4191120"/>
                  <a:tab algn="l" pos="4572000"/>
                  <a:tab algn="l" pos="4952880"/>
                  <a:tab algn="l" pos="5334120"/>
                  <a:tab algn="l" pos="5715000"/>
                  <a:tab algn="l" pos="6095880"/>
                  <a:tab algn="l" pos="6477120"/>
                  <a:tab algn="l" pos="6858000"/>
                  <a:tab algn="l" pos="7238880"/>
                  <a:tab algn="l" pos="762012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   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OS_ENTER_CRITICAL();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76"/>
                </a:spcBef>
                <a:tabLst>
                  <a:tab algn="l" pos="0"/>
                  <a:tab algn="l" pos="380880"/>
                  <a:tab algn="l" pos="762120"/>
                  <a:tab algn="l" pos="1143000"/>
                  <a:tab algn="l" pos="1523880"/>
                  <a:tab algn="l" pos="1905120"/>
                  <a:tab algn="l" pos="2286000"/>
                  <a:tab algn="l" pos="2666880"/>
                  <a:tab algn="l" pos="3048120"/>
                  <a:tab algn="l" pos="3429000"/>
                  <a:tab algn="l" pos="3809880"/>
                  <a:tab algn="l" pos="4191120"/>
                  <a:tab algn="l" pos="4572000"/>
                  <a:tab algn="l" pos="4952880"/>
                  <a:tab algn="l" pos="5334120"/>
                  <a:tab algn="l" pos="5715000"/>
                  <a:tab algn="l" pos="6095880"/>
                  <a:tab algn="l" pos="6477120"/>
                  <a:tab algn="l" pos="6858000"/>
                  <a:tab algn="l" pos="7238880"/>
                  <a:tab algn="l" pos="762012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   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if ((OSLockNesting | OSIntNesting) == 0) {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76"/>
                </a:spcBef>
                <a:tabLst>
                  <a:tab algn="l" pos="0"/>
                  <a:tab algn="l" pos="380880"/>
                  <a:tab algn="l" pos="762120"/>
                  <a:tab algn="l" pos="1143000"/>
                  <a:tab algn="l" pos="1523880"/>
                  <a:tab algn="l" pos="1905120"/>
                  <a:tab algn="l" pos="2286000"/>
                  <a:tab algn="l" pos="2666880"/>
                  <a:tab algn="l" pos="3048120"/>
                  <a:tab algn="l" pos="3429000"/>
                  <a:tab algn="l" pos="3809880"/>
                  <a:tab algn="l" pos="4191120"/>
                  <a:tab algn="l" pos="4572000"/>
                  <a:tab algn="l" pos="4952880"/>
                  <a:tab algn="l" pos="5334120"/>
                  <a:tab algn="l" pos="5715000"/>
                  <a:tab algn="l" pos="6095880"/>
                  <a:tab algn="l" pos="6477120"/>
                  <a:tab algn="l" pos="6858000"/>
                  <a:tab algn="l" pos="7238880"/>
                  <a:tab algn="l" pos="762012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        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y = OSUnMapTbl[OSRdyGrp];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76"/>
                </a:spcBef>
                <a:tabLst>
                  <a:tab algn="l" pos="0"/>
                  <a:tab algn="l" pos="380880"/>
                  <a:tab algn="l" pos="762120"/>
                  <a:tab algn="l" pos="1143000"/>
                  <a:tab algn="l" pos="1523880"/>
                  <a:tab algn="l" pos="1905120"/>
                  <a:tab algn="l" pos="2286000"/>
                  <a:tab algn="l" pos="2666880"/>
                  <a:tab algn="l" pos="3048120"/>
                  <a:tab algn="l" pos="3429000"/>
                  <a:tab algn="l" pos="3809880"/>
                  <a:tab algn="l" pos="4191120"/>
                  <a:tab algn="l" pos="4572000"/>
                  <a:tab algn="l" pos="4952880"/>
                  <a:tab algn="l" pos="5334120"/>
                  <a:tab algn="l" pos="5715000"/>
                  <a:tab algn="l" pos="6095880"/>
                  <a:tab algn="l" pos="6477120"/>
                  <a:tab algn="l" pos="6858000"/>
                  <a:tab algn="l" pos="7238880"/>
                  <a:tab algn="l" pos="762012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        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OSPrioHighRdy = (INT8U)((y &lt;&lt; 3) + OSUnMapTbl[OSRdyTbl[y]])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76"/>
                </a:spcBef>
                <a:tabLst>
                  <a:tab algn="l" pos="0"/>
                  <a:tab algn="l" pos="380880"/>
                  <a:tab algn="l" pos="762120"/>
                  <a:tab algn="l" pos="1143000"/>
                  <a:tab algn="l" pos="1523880"/>
                  <a:tab algn="l" pos="1905120"/>
                  <a:tab algn="l" pos="2286000"/>
                  <a:tab algn="l" pos="2666880"/>
                  <a:tab algn="l" pos="3048120"/>
                  <a:tab algn="l" pos="3429000"/>
                  <a:tab algn="l" pos="3809880"/>
                  <a:tab algn="l" pos="4191120"/>
                  <a:tab algn="l" pos="4572000"/>
                  <a:tab algn="l" pos="4952880"/>
                  <a:tab algn="l" pos="5334120"/>
                  <a:tab algn="l" pos="5715000"/>
                  <a:tab algn="l" pos="6095880"/>
                  <a:tab algn="l" pos="6477120"/>
                  <a:tab algn="l" pos="6858000"/>
                  <a:tab algn="l" pos="7238880"/>
                  <a:tab algn="l" pos="762012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        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if (OSPrioHighRdy != OSPrioCur) {           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76"/>
                </a:spcBef>
                <a:tabLst>
                  <a:tab algn="l" pos="0"/>
                  <a:tab algn="l" pos="380880"/>
                  <a:tab algn="l" pos="762120"/>
                  <a:tab algn="l" pos="1143000"/>
                  <a:tab algn="l" pos="1523880"/>
                  <a:tab algn="l" pos="1905120"/>
                  <a:tab algn="l" pos="2286000"/>
                  <a:tab algn="l" pos="2666880"/>
                  <a:tab algn="l" pos="3048120"/>
                  <a:tab algn="l" pos="3429000"/>
                  <a:tab algn="l" pos="3809880"/>
                  <a:tab algn="l" pos="4191120"/>
                  <a:tab algn="l" pos="4572000"/>
                  <a:tab algn="l" pos="4952880"/>
                  <a:tab algn="l" pos="5334120"/>
                  <a:tab algn="l" pos="5715000"/>
                  <a:tab algn="l" pos="6095880"/>
                  <a:tab algn="l" pos="6477120"/>
                  <a:tab algn="l" pos="6858000"/>
                  <a:tab algn="l" pos="7238880"/>
                  <a:tab algn="l" pos="762012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           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OSTCBHighRdy = OSTCBPrioTbl[OSPrioHighRdy];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76"/>
                </a:spcBef>
                <a:tabLst>
                  <a:tab algn="l" pos="0"/>
                  <a:tab algn="l" pos="380880"/>
                  <a:tab algn="l" pos="762120"/>
                  <a:tab algn="l" pos="1143000"/>
                  <a:tab algn="l" pos="1523880"/>
                  <a:tab algn="l" pos="1905120"/>
                  <a:tab algn="l" pos="2286000"/>
                  <a:tab algn="l" pos="2666880"/>
                  <a:tab algn="l" pos="3048120"/>
                  <a:tab algn="l" pos="3429000"/>
                  <a:tab algn="l" pos="3809880"/>
                  <a:tab algn="l" pos="4191120"/>
                  <a:tab algn="l" pos="4572000"/>
                  <a:tab algn="l" pos="4952880"/>
                  <a:tab algn="l" pos="5334120"/>
                  <a:tab algn="l" pos="5715000"/>
                  <a:tab algn="l" pos="6095880"/>
                  <a:tab algn="l" pos="6477120"/>
                  <a:tab algn="l" pos="6858000"/>
                  <a:tab algn="l" pos="7238880"/>
                  <a:tab algn="l" pos="762012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           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OSCtxSwCtr++;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76"/>
                </a:spcBef>
                <a:tabLst>
                  <a:tab algn="l" pos="0"/>
                  <a:tab algn="l" pos="380880"/>
                  <a:tab algn="l" pos="762120"/>
                  <a:tab algn="l" pos="1143000"/>
                  <a:tab algn="l" pos="1523880"/>
                  <a:tab algn="l" pos="1905120"/>
                  <a:tab algn="l" pos="2286000"/>
                  <a:tab algn="l" pos="2666880"/>
                  <a:tab algn="l" pos="3048120"/>
                  <a:tab algn="l" pos="3429000"/>
                  <a:tab algn="l" pos="3809880"/>
                  <a:tab algn="l" pos="4191120"/>
                  <a:tab algn="l" pos="4572000"/>
                  <a:tab algn="l" pos="4952880"/>
                  <a:tab algn="l" pos="5334120"/>
                  <a:tab algn="l" pos="5715000"/>
                  <a:tab algn="l" pos="6095880"/>
                  <a:tab algn="l" pos="6477120"/>
                  <a:tab algn="l" pos="6858000"/>
                  <a:tab algn="l" pos="7238880"/>
                  <a:tab algn="l" pos="762012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           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OS_TASK_SW();        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76"/>
                </a:spcBef>
                <a:tabLst>
                  <a:tab algn="l" pos="0"/>
                  <a:tab algn="l" pos="380880"/>
                  <a:tab algn="l" pos="762120"/>
                  <a:tab algn="l" pos="1143000"/>
                  <a:tab algn="l" pos="1523880"/>
                  <a:tab algn="l" pos="1905120"/>
                  <a:tab algn="l" pos="2286000"/>
                  <a:tab algn="l" pos="2666880"/>
                  <a:tab algn="l" pos="3048120"/>
                  <a:tab algn="l" pos="3429000"/>
                  <a:tab algn="l" pos="3809880"/>
                  <a:tab algn="l" pos="4191120"/>
                  <a:tab algn="l" pos="4572000"/>
                  <a:tab algn="l" pos="4952880"/>
                  <a:tab algn="l" pos="5334120"/>
                  <a:tab algn="l" pos="5715000"/>
                  <a:tab algn="l" pos="6095880"/>
                  <a:tab algn="l" pos="6477120"/>
                  <a:tab algn="l" pos="6858000"/>
                  <a:tab algn="l" pos="7238880"/>
                  <a:tab algn="l" pos="762012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        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}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76"/>
                </a:spcBef>
                <a:tabLst>
                  <a:tab algn="l" pos="0"/>
                  <a:tab algn="l" pos="380880"/>
                  <a:tab algn="l" pos="762120"/>
                  <a:tab algn="l" pos="1143000"/>
                  <a:tab algn="l" pos="1523880"/>
                  <a:tab algn="l" pos="1905120"/>
                  <a:tab algn="l" pos="2286000"/>
                  <a:tab algn="l" pos="2666880"/>
                  <a:tab algn="l" pos="3048120"/>
                  <a:tab algn="l" pos="3429000"/>
                  <a:tab algn="l" pos="3809880"/>
                  <a:tab algn="l" pos="4191120"/>
                  <a:tab algn="l" pos="4572000"/>
                  <a:tab algn="l" pos="4952880"/>
                  <a:tab algn="l" pos="5334120"/>
                  <a:tab algn="l" pos="5715000"/>
                  <a:tab algn="l" pos="6095880"/>
                  <a:tab algn="l" pos="6477120"/>
                  <a:tab algn="l" pos="6858000"/>
                  <a:tab algn="l" pos="7238880"/>
                  <a:tab algn="l" pos="762012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   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}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76"/>
                </a:spcBef>
                <a:tabLst>
                  <a:tab algn="l" pos="0"/>
                  <a:tab algn="l" pos="380880"/>
                  <a:tab algn="l" pos="762120"/>
                  <a:tab algn="l" pos="1143000"/>
                  <a:tab algn="l" pos="1523880"/>
                  <a:tab algn="l" pos="1905120"/>
                  <a:tab algn="l" pos="2286000"/>
                  <a:tab algn="l" pos="2666880"/>
                  <a:tab algn="l" pos="3048120"/>
                  <a:tab algn="l" pos="3429000"/>
                  <a:tab algn="l" pos="3809880"/>
                  <a:tab algn="l" pos="4191120"/>
                  <a:tab algn="l" pos="4572000"/>
                  <a:tab algn="l" pos="4952880"/>
                  <a:tab algn="l" pos="5334120"/>
                  <a:tab algn="l" pos="5715000"/>
                  <a:tab algn="l" pos="6095880"/>
                  <a:tab algn="l" pos="6477120"/>
                  <a:tab algn="l" pos="6858000"/>
                  <a:tab algn="l" pos="7238880"/>
                  <a:tab algn="l" pos="762012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   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OS_EXIT_CRITICAL();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76"/>
                </a:spcBef>
                <a:tabLst>
                  <a:tab algn="l" pos="0"/>
                  <a:tab algn="l" pos="380880"/>
                  <a:tab algn="l" pos="762120"/>
                  <a:tab algn="l" pos="1143000"/>
                  <a:tab algn="l" pos="1523880"/>
                  <a:tab algn="l" pos="1905120"/>
                  <a:tab algn="l" pos="2286000"/>
                  <a:tab algn="l" pos="2666880"/>
                  <a:tab algn="l" pos="3048120"/>
                  <a:tab algn="l" pos="3429000"/>
                  <a:tab algn="l" pos="3809880"/>
                  <a:tab algn="l" pos="4191120"/>
                  <a:tab algn="l" pos="4572000"/>
                  <a:tab algn="l" pos="4952880"/>
                  <a:tab algn="l" pos="5334120"/>
                  <a:tab algn="l" pos="5715000"/>
                  <a:tab algn="l" pos="6095880"/>
                  <a:tab algn="l" pos="6477120"/>
                  <a:tab algn="l" pos="6858000"/>
                  <a:tab algn="l" pos="7238880"/>
                  <a:tab algn="l" pos="762012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}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855720" y="2870280"/>
              <a:ext cx="614196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855720" y="6132600"/>
              <a:ext cx="614196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855720" y="2870280"/>
              <a:ext cx="0" cy="326232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7680" y="2870280"/>
              <a:ext cx="0" cy="326232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5259240" y="3073320"/>
              <a:ext cx="2271960" cy="459000"/>
            </a:xfrm>
            <a:prstGeom prst="rect">
              <a:avLst/>
            </a:prstGeom>
            <a:solidFill>
              <a:srgbClr val="cc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ISR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로부터의 호출 또는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스케줄링 불능 상태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고딕"/>
                </a:rPr>
                <a:t> 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여부 확인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7329600" y="3657600"/>
              <a:ext cx="1039680" cy="441360"/>
            </a:xfrm>
            <a:prstGeom prst="rect">
              <a:avLst/>
            </a:prstGeom>
            <a:solidFill>
              <a:srgbClr val="cc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가장 높은 우선순위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태스크 결정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6402240" y="4876920"/>
              <a:ext cx="2030400" cy="624600"/>
            </a:xfrm>
            <a:prstGeom prst="rect">
              <a:avLst/>
            </a:prstGeom>
            <a:solidFill>
              <a:srgbClr val="cc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9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현재 실행중인 태스크가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가장 높은 태스크인지 확인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 – 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필요 없는 문맥교환 방지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265560" y="4851360"/>
              <a:ext cx="1306440" cy="441360"/>
            </a:xfrm>
            <a:prstGeom prst="rect">
              <a:avLst/>
            </a:prstGeom>
            <a:solidFill>
              <a:srgbClr val="cc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9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실제 문맥 교환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수행 매크로 호출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584360" y="4394160"/>
              <a:ext cx="2975040" cy="21600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85" name=""/>
            <p:cNvCxnSpPr>
              <a:stCxn id="384" idx="3"/>
              <a:endCxn id="382" idx="0"/>
            </p:cNvCxnSpPr>
            <p:nvPr/>
          </p:nvCxnSpPr>
          <p:spPr>
            <a:xfrm>
              <a:off x="4573080" y="4501800"/>
              <a:ext cx="2845800" cy="3754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86" name=""/>
            <p:cNvCxnSpPr>
              <a:stCxn id="383" idx="1"/>
              <a:endCxn id="383" idx="1"/>
            </p:cNvCxnSpPr>
            <p:nvPr/>
          </p:nvCxnSpPr>
          <p:spPr>
            <a:xfrm flipH="1" flipV="1" rot="10800000">
              <a:off x="3265200" y="5153400"/>
              <a:ext cx="2160" cy="2520"/>
            </a:xfrm>
            <a:prstGeom prst="bentConnector3">
              <a:avLst>
                <a:gd name="adj1" fmla="val -1440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387" name=""/>
            <p:cNvSpPr/>
            <p:nvPr/>
          </p:nvSpPr>
          <p:spPr>
            <a:xfrm>
              <a:off x="1114560" y="3759120"/>
              <a:ext cx="3635280" cy="20340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88" name=""/>
            <p:cNvCxnSpPr>
              <a:stCxn id="387" idx="3"/>
              <a:endCxn id="380" idx="1"/>
            </p:cNvCxnSpPr>
            <p:nvPr/>
          </p:nvCxnSpPr>
          <p:spPr>
            <a:xfrm flipV="1">
              <a:off x="4763880" y="3301920"/>
              <a:ext cx="495720" cy="559080"/>
            </a:xfrm>
            <a:prstGeom prst="bentConnector3">
              <a:avLst>
                <a:gd name="adj1" fmla="val 4832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89" name=""/>
            <p:cNvCxnSpPr/>
            <p:nvPr/>
          </p:nvCxnSpPr>
          <p:spPr>
            <a:xfrm flipV="1">
              <a:off x="6935760" y="3890520"/>
              <a:ext cx="381600" cy="396000"/>
            </a:xfrm>
            <a:prstGeom prst="bentConnector3">
              <a:avLst>
                <a:gd name="adj1" fmla="val 47875"/>
              </a:avLst>
            </a:prstGeom>
            <a:ln w="28440">
              <a:solidFill>
                <a:srgbClr val="000000"/>
              </a:solidFill>
              <a:miter/>
            </a:ln>
          </p:spPr>
        </p:cxn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08E4B8-86C7-4F78-A81D-DAB6BD890E3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Idle task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와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Statistics task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Idle task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Ready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상태인 태스크가 없을 경우 시스템이 자동 실행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가장 낮은 우선순위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LOWEST_PRIO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로 실행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응용 소프트웨어에 의해 절대로 삭제될 수 없음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Statistics task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의 실행 중 통계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PU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사용 백분율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제공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LOWEST_PRIO –1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우선순위로 실행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392" name=""/>
          <p:cNvGraphicFramePr/>
          <p:nvPr/>
        </p:nvGraphicFramePr>
        <p:xfrm>
          <a:off x="1351080" y="3949560"/>
          <a:ext cx="5634000" cy="1814400"/>
        </p:xfrm>
        <a:graphic>
          <a:graphicData uri="http://schemas.openxmlformats.org/drawingml/2006/table">
            <a:tbl>
              <a:tblPr/>
              <a:tblGrid>
                <a:gridCol w="5634000"/>
              </a:tblGrid>
              <a:tr h="181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void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TaskIdle (void *pdata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{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   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pdata = pdata;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   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for( ; ;) {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        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OS_ENTER_CRITICAL();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        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OSIdleCtr++;                 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/*</a:t>
                      </a:r>
                      <a:r>
                        <a:rPr b="1" lang="ko-KR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시스템의 실행 통계를 위한 카운터</a:t>
                      </a:r>
                      <a:r>
                        <a:rPr b="1" lang="ko-KR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        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OS_EXIT_CRITICAL()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r>
                        <a:rPr b="1" lang="ko-KR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}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CAF25F-2BA7-4DFC-A284-0C1430D6FD5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Task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생성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1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Multitasking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시작 전이나 실행 중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TaskCreate()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호출에 의해 생성 가능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ISR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에 의한 생성은 불가능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TaskCreate( )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의 인자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*task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실행할 태스크 코드에 대한 포인터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*pdata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에 전달될 인자의 포인터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*ptos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에서 사용할 스택의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op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을 가리키는 포인터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rio :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사용자가 요구하는 태스크의 우선순위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스택 검사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태스크 생성되기 전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TaskCreate()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는 해당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priority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의 태스크가 이미 있는지 확인 </a:t>
            </a:r>
            <a:r>
              <a:rPr b="1" lang="ko-KR" sz="20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사용 가능하면 인터럽트가 발생한 것처럼 스택을 초기화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CPU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레지스터를 저장한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B3F170-6D59-4E64-BCFB-5B2D2EDF4A4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주요내용 및 방향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주요내용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C/OS-II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운영체제 개요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C/OS-II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운영체제 이해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C/OS-II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포팅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C/OS-II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예제 프로그램 작성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방향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실시간 운영체제에 대한 기본이해로부터 간단한 프로그래밍까지를 실습할 수 있는 기회 제공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운영체제 전체를 파악하기 보다는 예제 프로그램을 분석하는 데 요구되는 함수나 구조를 중심으로 접근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VxWorks, Nucleus 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같은 다른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RTOS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를 사용해서 진행하는 방법도 가능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2F875F-F1DB-495F-8DBB-E16FA5B9C41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Task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생성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TaskCreate()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의 실행 과정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요구하는 우선순위의 타당성 검사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합당하면 우선순위 할당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같은 우선순위를 가지는 태스크가 없음을 보장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의 스택을 생성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askStkInit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의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초기화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CBInit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CB pool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서 새로운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얻어와 초기화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의 카운터를 증가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의 기타 초기화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/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설정 작업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askCreateHook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부동 소수점 레지스터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MMU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레지스터의 값을 초기화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저장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스케줄러를 호출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다른 태스크로부터 생성된 경우만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새롭게 생성된 태스크가 가장 우선순위가 높은 태스크이면 문맥교환 발생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89FA1B-3D67-4DA9-89E4-DC82B5517E2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Task Stack (1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각각의 태스크는 스택을 가지게 된다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STK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타입으로 선언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연속적인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ontiguous)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공간을 할당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정적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동적인 방법으로 생성 가능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스택의 단편화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fragmentation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단편화 발생시 힙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heap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공간의 낭비 발생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9" name=""/>
          <p:cNvGrpSpPr/>
          <p:nvPr/>
        </p:nvGrpSpPr>
        <p:grpSpPr>
          <a:xfrm>
            <a:off x="1739880" y="3479760"/>
            <a:ext cx="4927680" cy="2171520"/>
            <a:chOff x="1739880" y="3479760"/>
            <a:chExt cx="4927680" cy="2171520"/>
          </a:xfrm>
        </p:grpSpPr>
        <p:sp>
          <p:nvSpPr>
            <p:cNvPr id="400" name=""/>
            <p:cNvSpPr/>
            <p:nvPr/>
          </p:nvSpPr>
          <p:spPr>
            <a:xfrm>
              <a:off x="3543120" y="3479760"/>
              <a:ext cx="1231920" cy="156240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543120" y="4000680"/>
              <a:ext cx="1231920" cy="52056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43120" y="3479760"/>
              <a:ext cx="1231920" cy="52092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3543120" y="4521240"/>
              <a:ext cx="1231920" cy="52092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1739880" y="3479760"/>
              <a:ext cx="1231920" cy="156240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321160" y="3479760"/>
              <a:ext cx="1231920" cy="156240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321160" y="4000680"/>
              <a:ext cx="1231920" cy="52056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321160" y="3479760"/>
              <a:ext cx="1231920" cy="52092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5321160" y="4521240"/>
              <a:ext cx="1231920" cy="52092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1828800" y="3949920"/>
              <a:ext cx="1079280" cy="63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Free hea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(3Kb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3644640" y="3568680"/>
              <a:ext cx="102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A (1Kb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644640" y="4102200"/>
              <a:ext cx="102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B (1Kb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3644640" y="4622760"/>
              <a:ext cx="102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C (1Kb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5422680" y="3568680"/>
              <a:ext cx="102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Free(1Kb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422680" y="4089600"/>
              <a:ext cx="102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B (1Kb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422680" y="4622760"/>
              <a:ext cx="102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Free(1Kb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930320" y="5131080"/>
              <a:ext cx="91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할당 전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695760" y="5143680"/>
              <a:ext cx="91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할당 후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5219640" y="5131080"/>
              <a:ext cx="14479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A, C </a:t>
              </a: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반환 후 </a:t>
              </a: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(</a:t>
              </a: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단편화 발생</a:t>
              </a: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9" name=""/>
          <p:cNvSpPr/>
          <p:nvPr/>
        </p:nvSpPr>
        <p:spPr>
          <a:xfrm>
            <a:off x="2809800" y="5438880"/>
            <a:ext cx="971640" cy="352440"/>
          </a:xfrm>
          <a:custGeom>
            <a:avLst/>
            <a:gdLst>
              <a:gd name="textAreaLeft" fmla="*/ 169920 w 971640"/>
              <a:gd name="textAreaRight" fmla="*/ 704520 w 971640"/>
              <a:gd name="textAreaTop" fmla="*/ 47160 h 352440"/>
              <a:gd name="textAreaBottom" fmla="*/ 305280 h 352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ccff33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438800" y="5467320"/>
            <a:ext cx="971280" cy="352440"/>
          </a:xfrm>
          <a:custGeom>
            <a:avLst/>
            <a:gdLst>
              <a:gd name="textAreaLeft" fmla="*/ 169920 w 971280"/>
              <a:gd name="textAreaRight" fmla="*/ 704160 w 971280"/>
              <a:gd name="textAreaTop" fmla="*/ 47160 h 352440"/>
              <a:gd name="textAreaBottom" fmla="*/ 305280 h 352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ccff33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04D29D-A33B-433B-A8BB-F50FF3901D4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Task Stack 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스택의 증가 방향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CPU.H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 정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STK_GROWTH == 0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3" marL="1603440" indent="-227160">
              <a:spcBef>
                <a:spcPts val="400"/>
              </a:spcBef>
              <a:buClr>
                <a:srgbClr val="cc33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낮은 메모리 주소에서 높은 메모리 주소로 증가</a:t>
            </a:r>
            <a:endParaRPr b="0" i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STK_GROWTH == 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3" marL="1603440" indent="-227160">
              <a:spcBef>
                <a:spcPts val="400"/>
              </a:spcBef>
              <a:buClr>
                <a:srgbClr val="cc33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높은 메모리 주소에서 낮은 메모리 주소로 증가</a:t>
            </a:r>
            <a:endParaRPr b="0" i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3" marL="1603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3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3" name=""/>
          <p:cNvGrpSpPr/>
          <p:nvPr/>
        </p:nvGrpSpPr>
        <p:grpSpPr>
          <a:xfrm>
            <a:off x="1600200" y="2781360"/>
            <a:ext cx="6095880" cy="3035160"/>
            <a:chOff x="1600200" y="2781360"/>
            <a:chExt cx="6095880" cy="3035160"/>
          </a:xfrm>
        </p:grpSpPr>
        <p:sp>
          <p:nvSpPr>
            <p:cNvPr id="424" name=""/>
            <p:cNvSpPr/>
            <p:nvPr/>
          </p:nvSpPr>
          <p:spPr>
            <a:xfrm>
              <a:off x="1600200" y="2781360"/>
              <a:ext cx="6095880" cy="939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1600200" y="4686480"/>
              <a:ext cx="6095880" cy="1130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1650960" y="2882880"/>
              <a:ext cx="5994360" cy="70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_STK TaskStack[Task_STACK_SIZE]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askCreate(task, pdata, &amp;TaskStack[0], prio)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1638360" y="4762440"/>
              <a:ext cx="5994360" cy="95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_STK TaskStack[Task_STACK_SIZE]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askCreate(task, pdata, </a:t>
              </a: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	</a:t>
              </a: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&amp;TaskStack[TASK_STACK_SIZE-1], prio)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4327560" y="3289320"/>
              <a:ext cx="1501920" cy="27936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587680" y="5423040"/>
              <a:ext cx="3495600" cy="27936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3BEED9-56E3-41BA-9694-8007C230CAA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태스크 스택 검사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태스크의 실제 사용 스택 공간 크기를 검사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NT8U OSTaskStkChk (INT8U prio, OS_STK_DATA *pdata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rio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스택의 정보를 얻고자 하는 태스크의 우선순위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data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스택의 정보를 담고 있는 자료구조에 대한 포인터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 스택 검사를 사용하기 위한 방법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ASK_CREATE_EXT = 1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로 설정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를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askCreateExt( 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로 생성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3" marL="1603440" indent="-227160">
              <a:lnSpc>
                <a:spcPct val="90000"/>
              </a:lnSpc>
              <a:spcBef>
                <a:spcPts val="400"/>
              </a:spcBef>
              <a:buClr>
                <a:srgbClr val="cc33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옵션 설정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	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ASK_OPT_STK_CHK,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	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	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	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	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	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ASK_OPT_STK_CLR</a:t>
            </a:r>
            <a:endParaRPr b="0" i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askStkChk( )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호출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응용을 반복 수행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스택이 가장 깊게 성장했을 때의 깊이를 측정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응용의 적절한 스택 크기를 결정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32" name=""/>
          <p:cNvGrpSpPr/>
          <p:nvPr/>
        </p:nvGrpSpPr>
        <p:grpSpPr>
          <a:xfrm>
            <a:off x="1994040" y="2603520"/>
            <a:ext cx="5384520" cy="711360"/>
            <a:chOff x="1994040" y="2603520"/>
            <a:chExt cx="5384520" cy="711360"/>
          </a:xfrm>
        </p:grpSpPr>
        <p:sp>
          <p:nvSpPr>
            <p:cNvPr id="433" name=""/>
            <p:cNvSpPr/>
            <p:nvPr/>
          </p:nvSpPr>
          <p:spPr>
            <a:xfrm>
              <a:off x="1994040" y="2616120"/>
              <a:ext cx="5384520" cy="698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057040" y="2603520"/>
              <a:ext cx="5257440" cy="70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INT32U OSFree;</a:t>
              </a: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	</a:t>
              </a: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/*</a:t>
              </a: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스택에 남아 잇는 바이트의 수</a:t>
              </a: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*/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INT32U OSUsed;</a:t>
              </a: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	</a:t>
              </a: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/*</a:t>
              </a: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스택에서 사용된 바이트의 수</a:t>
              </a: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*/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357747-9FD6-4D50-86EA-149B2B7F210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스택 공간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36" name=""/>
          <p:cNvGrpSpPr/>
          <p:nvPr/>
        </p:nvGrpSpPr>
        <p:grpSpPr>
          <a:xfrm>
            <a:off x="800280" y="1955880"/>
            <a:ext cx="7683480" cy="4025520"/>
            <a:chOff x="800280" y="1955880"/>
            <a:chExt cx="7683480" cy="4025520"/>
          </a:xfrm>
        </p:grpSpPr>
        <p:sp>
          <p:nvSpPr>
            <p:cNvPr id="437" name=""/>
            <p:cNvSpPr/>
            <p:nvPr/>
          </p:nvSpPr>
          <p:spPr>
            <a:xfrm>
              <a:off x="2616120" y="2324160"/>
              <a:ext cx="162576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616120" y="2108160"/>
              <a:ext cx="0" cy="303552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254480" y="2095560"/>
              <a:ext cx="0" cy="303516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 flipV="1">
              <a:off x="2616120" y="3593880"/>
              <a:ext cx="1650960" cy="1260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629080" y="4788000"/>
              <a:ext cx="1625400" cy="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3263760" y="2273400"/>
              <a:ext cx="279720" cy="13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00.</a:t>
              </a: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2616120" y="3581280"/>
              <a:ext cx="1625760" cy="12067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679840" y="4851360"/>
              <a:ext cx="1485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상위 메모리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692440" y="1955880"/>
              <a:ext cx="1485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하위 메모리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 flipH="1">
              <a:off x="4241520" y="2311560"/>
              <a:ext cx="9903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 flipH="1">
              <a:off x="4254480" y="3568680"/>
              <a:ext cx="9907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 flipH="1">
              <a:off x="4241520" y="4788000"/>
              <a:ext cx="9903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 flipV="1">
              <a:off x="4432320" y="3835080"/>
              <a:ext cx="0" cy="74916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330800" y="4127400"/>
              <a:ext cx="1803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스택이 확장되는 방향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232240" y="3263760"/>
              <a:ext cx="1359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실제로 스택이 최대로 확장될 위치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067360" y="2158920"/>
              <a:ext cx="1905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CBStkBotto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6769080" y="2324160"/>
              <a:ext cx="2541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730920" y="4788000"/>
              <a:ext cx="2541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896160" y="2324160"/>
              <a:ext cx="0" cy="24508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858000" y="3276720"/>
              <a:ext cx="162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CBStkSiz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5283360" y="4635360"/>
              <a:ext cx="10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초기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TO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1917720" y="2311560"/>
              <a:ext cx="16524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930320" y="3568680"/>
              <a:ext cx="16524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2006640" y="2286000"/>
              <a:ext cx="0" cy="12952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930320" y="4788000"/>
              <a:ext cx="165240" cy="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2006640" y="3556080"/>
              <a:ext cx="0" cy="12189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1015920" y="2616120"/>
              <a:ext cx="10414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이용 가능한 스택 공간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015920" y="3746520"/>
              <a:ext cx="1003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사용중인 스택 공간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00280" y="5118120"/>
              <a:ext cx="1549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SP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의 현재 위치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 flipH="1">
              <a:off x="1384200" y="4178160"/>
              <a:ext cx="2412720" cy="1803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E719DE-B929-436A-98D7-7FE4C7BBCB9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Task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삭제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1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태스크의 상태를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Dormant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상태로 변경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NT8U OSTaskDel (INT8U prio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rio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삭제할 태스크의 우선순위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스케줄러에 의해 스케줄 되지 않는다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다른 태스크나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SR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askResume(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으로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ready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상태가 되게 할 수 없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askDel()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실행 과정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조건 검사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dle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 삭제 시도 여부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삭제 태스크의 존재 여부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CB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삭제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3" marL="1603440" indent="-227160">
              <a:spcBef>
                <a:spcPts val="4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Ready list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로부터 삭제</a:t>
            </a:r>
            <a:endParaRPr b="0" i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3" marL="1603440" indent="-227160">
              <a:spcBef>
                <a:spcPts val="4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일 박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큐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세마포어에 대기중인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CB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삭제</a:t>
            </a:r>
            <a:endParaRPr b="0" i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지연 카운트를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0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으로 설정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가 인터럽트 재개시까지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ick ISR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 준비되지 않게 하기 위해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CBStat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플래그를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STAT_RDY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로 설정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7CC5F9-B56C-415E-9258-48785805C27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Task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삭제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사용자 정의 확장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반납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askDelHook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 카운터 감소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CB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삭제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3" marL="1603440" indent="-227160">
              <a:spcBef>
                <a:spcPts val="4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우선 순위 테이블에서 삭제</a:t>
            </a:r>
            <a:endParaRPr b="0" i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3" marL="1603440" indent="-227160">
              <a:spcBef>
                <a:spcPts val="4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CBList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서 시작하는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리스트에서 삭제</a:t>
            </a:r>
            <a:endParaRPr b="0" i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3" marL="1603440" indent="-227160">
              <a:spcBef>
                <a:spcPts val="4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free OS_TCB list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로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CB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반환</a:t>
            </a:r>
            <a:endParaRPr b="0" i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스케줄러를 호출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askDel()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실행 중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SR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 의해 생성된 높은 우선순위의 태스크가 있을 시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3F7F23-EC79-43C0-A2DF-114B4B42EDAB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Task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우선순위 변경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TaskChangePrio()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호출에 의해 이루어진다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이때 요구된 우선 순위 값은 할당되어 있지 않은 상태이어야 한다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우선순위 변화 과정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태스크가 실행 준비가 되면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ready list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에서 제거되고 태스크가 새 우선 순위를 할당 받으면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ready list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에 놓여진다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태스크가 실행 준비가 되지 않으면 태스크는 새 우선 순위에서 실행될 준비가 되지 않는다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태스크가 이벤트 발생을 기다리면 태스크는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event waiting list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에서 제거되고 새 우선 순위의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waiting list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에 놓여진다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태스크가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_TCB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체인에서 제거되어 새 우선 순위를 받는 동안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TimeTick()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에 의하여 태스크가 실행 준비가 되는 것을 방지한다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인터럽트가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enabled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면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_TCB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TCBX, OSTCBBitX, OSTCBY, OSTCBBitY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가 재계산 된다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2793EE-62E1-4F40-91F4-4710C34AAE03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Task Suspend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실행중인 태스크를 명시적으로 일시 중지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INT8U OSTaskSuspend(INT8U prio);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rio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중지시킬 태스크의 우선순위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TaskResume()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을 사용하여 실행을 재개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시간 종료를 기다리는 태스크는 중지시키지 않는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TaskSuspend()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실행 과정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해당 태스크가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dle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상태인지 검사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해당 태스크의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riority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가 유효한지 검사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해당 태스크가 존재하면 실행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Ready List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서 삭제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실행 준비 리스트에 존재하지 않으면 이벤트나 시간 종료를 기다리는 태스크이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STAT_SUSPEND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플래그를 설정한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스케줄러를 호출한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C168D2-7B53-43B7-9BF4-C5FCF626411F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Task Resuming &amp; Task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의 정보 획득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013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Task Resuming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 (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중지된 태스크를 실행 재개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NT8U OSTaskResume(INT8U prio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rio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실행 재개할 태스크의 우선순위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askResume()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실행 과정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해당 태스크가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dle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상태인지 검사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CBStat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필드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CB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STAT_SUSPEND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해제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CBDly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0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으로 설정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시간 종료를 기다리고 있지 않은 태스크이므로 재개된 태스크가 현재 태스크보다 더 높은 우선순위를 가지면 스케줄러를 호출한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Task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정보 획득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태스크의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TCB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를 복사해 태스크 정보를 얻는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NT8U OSTaskQuery(INT8U prio, OS_TCB *pdata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rio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정보를 얻을 태스크의 우선순위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data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의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복사할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CB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타입의 자료구조에 대한 포인터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임의의 시점에서의 태스크의 실행 단편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napshot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을 보여준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디버깅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debugging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용도로 사용한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1BAE5F-F149-4365-8E0E-5886B7F478CE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실시간 운영체제 프로그래밍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1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C/OS-II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시작하기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C/OS-II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의 특징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멀티태스킹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선점형 커널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Critical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섹션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재진입 함수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동기화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C/OS-II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의 커널 구조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uC/OS-II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파일 구조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태스크 관리  및 스택 공간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메모리 관리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인터럽트 처리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uC/OS-II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초기화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이벤트 관리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통신과 동기화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410003-CB8B-482B-BC1B-5AB14726589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동적 메모리 관리 및 할당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0899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프로그램 실행시간에 필요한 만큼의 메모리 블록을 할당 받고 해제하는 기법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malloc(), free()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은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Fragmentation(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단편화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)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비연속적인 자유 메모리 블록 현상 발생 가능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Non-deterministic (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비결정적인 수행 속도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) </a:t>
            </a:r>
            <a:r>
              <a:rPr b="1" lang="ko-KR" sz="16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실시간 시스템에 부적당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C/OS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의 동적 메모리 할당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연속적인 메모리 공간에서 파티션을 할당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하나의 파티션은 고정된 크기의 블록들로 구성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결정적인 수행속도 보장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79" name=""/>
          <p:cNvGrpSpPr/>
          <p:nvPr/>
        </p:nvGrpSpPr>
        <p:grpSpPr>
          <a:xfrm>
            <a:off x="2222640" y="4292280"/>
            <a:ext cx="4825800" cy="2045160"/>
            <a:chOff x="2222640" y="4292280"/>
            <a:chExt cx="4825800" cy="2045160"/>
          </a:xfrm>
        </p:grpSpPr>
        <p:sp>
          <p:nvSpPr>
            <p:cNvPr id="480" name=""/>
            <p:cNvSpPr/>
            <p:nvPr/>
          </p:nvSpPr>
          <p:spPr>
            <a:xfrm>
              <a:off x="4483080" y="4292640"/>
              <a:ext cx="1117800" cy="204480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483080" y="4648320"/>
              <a:ext cx="110484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483080" y="4991040"/>
              <a:ext cx="110484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495680" y="5334120"/>
              <a:ext cx="11052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4495680" y="5689440"/>
              <a:ext cx="11052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4495680" y="6019920"/>
              <a:ext cx="11052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5651640" y="4292640"/>
              <a:ext cx="3301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5651640" y="6337440"/>
              <a:ext cx="3427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829480" y="4292640"/>
              <a:ext cx="0" cy="20448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089240" y="6019920"/>
              <a:ext cx="3430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102200" y="5689440"/>
              <a:ext cx="3301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4292640" y="5689440"/>
              <a:ext cx="0" cy="3175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5689440"/>
              <a:ext cx="113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bloc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867280" y="5003640"/>
              <a:ext cx="1181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parti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 flipV="1">
              <a:off x="3530520" y="4292280"/>
              <a:ext cx="901800" cy="4064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2222640" y="4597560"/>
              <a:ext cx="1562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시작주소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98A29A-1F52-4A6F-B797-A73BD3DB175F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메모리 제어 블록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MCB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8064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각 메모리 파티션의 시행 시간 정보를 관리하는 자료구조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MemAddr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파티션의 시작 주소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MemFreeList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다음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Free MCB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또는 다음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Free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모리 블록의 주소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MemBlkSize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모리 블록의 크기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MemNBlks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모리 블록의 갯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MemNFree : Free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모리 블록의 갯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메모리 관리자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M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초기화하고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파티션의 생성 및 메모리 블록의 할당 및 해제를 담당한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void OSMemInit(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072800" indent="-267120">
              <a:lnSpc>
                <a:spcPct val="9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Init(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에서 호출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사용자는 호출 불가능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072800" indent="-267120">
              <a:lnSpc>
                <a:spcPct val="9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&lt;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_CFG.H&gt; OS_MEM_EN = 1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로 세팅되어 있어야 한다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4" marL="1830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            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_MAX_MEME_PART :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파티션의 최대 갯수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304920" y="3048120"/>
            <a:ext cx="8610480" cy="1830960"/>
            <a:chOff x="304920" y="3048120"/>
            <a:chExt cx="8610480" cy="1830960"/>
          </a:xfrm>
        </p:grpSpPr>
        <p:sp>
          <p:nvSpPr>
            <p:cNvPr id="499" name=""/>
            <p:cNvSpPr/>
            <p:nvPr/>
          </p:nvSpPr>
          <p:spPr>
            <a:xfrm>
              <a:off x="1778040" y="3073320"/>
              <a:ext cx="1562040" cy="27144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1816200" y="3073320"/>
              <a:ext cx="1447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Add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1778040" y="3340080"/>
              <a:ext cx="1562040" cy="27144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1816200" y="3340080"/>
              <a:ext cx="1447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FreeLis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1778040" y="3606840"/>
              <a:ext cx="1562040" cy="27144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1816200" y="3606840"/>
              <a:ext cx="1447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BlkSiz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1778040" y="3873600"/>
              <a:ext cx="1562040" cy="27144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1816200" y="3873600"/>
              <a:ext cx="1447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NBlk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1778040" y="4140360"/>
              <a:ext cx="1562040" cy="27144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1816200" y="4140360"/>
              <a:ext cx="1447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NFre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3708360" y="3073320"/>
              <a:ext cx="1562040" cy="27144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3746520" y="3073320"/>
              <a:ext cx="144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Add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3708360" y="3340080"/>
              <a:ext cx="1562040" cy="27144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3746520" y="3340080"/>
              <a:ext cx="144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FreeLis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3708360" y="3606840"/>
              <a:ext cx="1562040" cy="27144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3746520" y="3606840"/>
              <a:ext cx="144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BlkSiz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708360" y="3873600"/>
              <a:ext cx="1562040" cy="27144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3746520" y="3873600"/>
              <a:ext cx="144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NBlk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3708360" y="4140360"/>
              <a:ext cx="1562040" cy="27144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3746520" y="4140360"/>
              <a:ext cx="144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NFre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6603840" y="3073320"/>
              <a:ext cx="1562400" cy="27144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6642000" y="3073320"/>
              <a:ext cx="144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Add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6603840" y="3340080"/>
              <a:ext cx="1562400" cy="27144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6642000" y="3340080"/>
              <a:ext cx="144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FreeLis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6603840" y="3606840"/>
              <a:ext cx="1562400" cy="27144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6642000" y="3606840"/>
              <a:ext cx="144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BlkSiz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6603840" y="3873600"/>
              <a:ext cx="1562400" cy="27144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6642000" y="3873600"/>
              <a:ext cx="144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NBlk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603840" y="4140360"/>
              <a:ext cx="1562400" cy="27144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642000" y="4140360"/>
              <a:ext cx="144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NFre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1104840" y="3467160"/>
              <a:ext cx="64764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04920" y="3048120"/>
              <a:ext cx="1447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FreeLis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 flipV="1">
              <a:off x="1104840" y="3301560"/>
              <a:ext cx="0" cy="1652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378240" y="3479760"/>
              <a:ext cx="3427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270400" y="3479760"/>
              <a:ext cx="3430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6261120" y="3479760"/>
              <a:ext cx="3427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8178840" y="3492360"/>
              <a:ext cx="3427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8508960" y="3378240"/>
              <a:ext cx="406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1778040" y="4444920"/>
              <a:ext cx="0" cy="2793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8166240" y="4444920"/>
              <a:ext cx="0" cy="2541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1778040" y="4572000"/>
              <a:ext cx="63882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3733920" y="4572000"/>
              <a:ext cx="245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_MAX_MEM_PAR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613480" y="3301920"/>
              <a:ext cx="78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…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3BB3B4-440E-49A3-BD30-48F9547F00FB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메모리 관련 함수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1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_MEM OSMemCreate(void *addr, INT32U nblks, INT32U blksize, INT8U *err);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모리 파티션의 생성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addr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파티션의 시작 주소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nblks / blksize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파티션 내의 블록 개수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/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모리 블록의 크기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Err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러 코드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반환값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할당된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M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주소 또는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null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4" name=""/>
          <p:cNvGrpSpPr/>
          <p:nvPr/>
        </p:nvGrpSpPr>
        <p:grpSpPr>
          <a:xfrm>
            <a:off x="888840" y="3784680"/>
            <a:ext cx="7531200" cy="2072160"/>
            <a:chOff x="888840" y="3784680"/>
            <a:chExt cx="7531200" cy="2072160"/>
          </a:xfrm>
        </p:grpSpPr>
        <p:sp>
          <p:nvSpPr>
            <p:cNvPr id="545" name=""/>
            <p:cNvSpPr/>
            <p:nvPr/>
          </p:nvSpPr>
          <p:spPr>
            <a:xfrm>
              <a:off x="5384880" y="3822480"/>
              <a:ext cx="1031760" cy="30456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5334120" y="3784680"/>
              <a:ext cx="1155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……………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384880" y="4127400"/>
              <a:ext cx="1031760" cy="30420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5334120" y="4089240"/>
              <a:ext cx="1155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……………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5384880" y="4431960"/>
              <a:ext cx="1031760" cy="30456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5334120" y="4394160"/>
              <a:ext cx="1155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……………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5384880" y="4736880"/>
              <a:ext cx="1031760" cy="30456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334120" y="4698720"/>
              <a:ext cx="1155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……………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384880" y="5041800"/>
              <a:ext cx="1031760" cy="30420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5334120" y="5003640"/>
              <a:ext cx="1155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……………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5384880" y="5346360"/>
              <a:ext cx="1031760" cy="30456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5334120" y="5308560"/>
              <a:ext cx="1155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……………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flipH="1">
              <a:off x="6895800" y="3822480"/>
              <a:ext cx="5713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175520" y="4470120"/>
              <a:ext cx="1244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Contiguous Memo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59" name=""/>
            <p:cNvCxnSpPr/>
            <p:nvPr/>
          </p:nvCxnSpPr>
          <p:spPr>
            <a:xfrm>
              <a:off x="6413040" y="4165200"/>
              <a:ext cx="2520" cy="304920"/>
            </a:xfrm>
            <a:prstGeom prst="bentConnector3">
              <a:avLst>
                <a:gd name="adj1" fmla="val 9600000"/>
              </a:avLst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</p:cxnSp>
        <p:cxnSp>
          <p:nvCxnSpPr>
            <p:cNvPr id="560" name=""/>
            <p:cNvCxnSpPr/>
            <p:nvPr/>
          </p:nvCxnSpPr>
          <p:spPr>
            <a:xfrm>
              <a:off x="6413040" y="4495680"/>
              <a:ext cx="2520" cy="305280"/>
            </a:xfrm>
            <a:prstGeom prst="bentConnector3">
              <a:avLst>
                <a:gd name="adj1" fmla="val 9600000"/>
              </a:avLst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</p:cxnSp>
        <p:cxnSp>
          <p:nvCxnSpPr>
            <p:cNvPr id="561" name=""/>
            <p:cNvCxnSpPr/>
            <p:nvPr/>
          </p:nvCxnSpPr>
          <p:spPr>
            <a:xfrm>
              <a:off x="6413040" y="4825800"/>
              <a:ext cx="2520" cy="305280"/>
            </a:xfrm>
            <a:prstGeom prst="bentConnector3">
              <a:avLst>
                <a:gd name="adj1" fmla="val 11200000"/>
              </a:avLst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</p:cxnSp>
        <p:cxnSp>
          <p:nvCxnSpPr>
            <p:cNvPr id="562" name=""/>
            <p:cNvCxnSpPr/>
            <p:nvPr/>
          </p:nvCxnSpPr>
          <p:spPr>
            <a:xfrm>
              <a:off x="6413040" y="5155920"/>
              <a:ext cx="2520" cy="305280"/>
            </a:xfrm>
            <a:prstGeom prst="bentConnector3">
              <a:avLst>
                <a:gd name="adj1" fmla="val 11200000"/>
              </a:avLst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</p:cxnSp>
        <p:sp>
          <p:nvSpPr>
            <p:cNvPr id="563" name=""/>
            <p:cNvSpPr/>
            <p:nvPr/>
          </p:nvSpPr>
          <p:spPr>
            <a:xfrm>
              <a:off x="6286680" y="5422680"/>
              <a:ext cx="469800" cy="1774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6591240" y="5549760"/>
              <a:ext cx="495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2235240" y="4152600"/>
              <a:ext cx="1562040" cy="27108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2273400" y="4152600"/>
              <a:ext cx="1447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Add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235240" y="4419360"/>
              <a:ext cx="1562040" cy="27108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273400" y="4419360"/>
              <a:ext cx="1447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FreeLis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2235240" y="4686120"/>
              <a:ext cx="1562040" cy="27108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273400" y="4686120"/>
              <a:ext cx="1447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BlkSiz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2235240" y="4952880"/>
              <a:ext cx="1562040" cy="27108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2273400" y="4952880"/>
              <a:ext cx="1447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NBlk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2235240" y="5219640"/>
              <a:ext cx="1562040" cy="27108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273400" y="5219640"/>
              <a:ext cx="1447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NFre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2413080" y="3809880"/>
              <a:ext cx="11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MC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 flipV="1">
              <a:off x="3683160" y="3898800"/>
              <a:ext cx="1689120" cy="4060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 flipV="1">
              <a:off x="3708360" y="3974760"/>
              <a:ext cx="1663920" cy="5839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1638360" y="4279680"/>
              <a:ext cx="6094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888840" y="4114800"/>
              <a:ext cx="812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pme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 flipH="1">
              <a:off x="6908760" y="5613120"/>
              <a:ext cx="5716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 flipV="1">
              <a:off x="7099200" y="3822120"/>
              <a:ext cx="0" cy="17902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82" name=""/>
            <p:cNvCxnSpPr/>
            <p:nvPr/>
          </p:nvCxnSpPr>
          <p:spPr>
            <a:xfrm>
              <a:off x="6413040" y="3860640"/>
              <a:ext cx="2520" cy="305280"/>
            </a:xfrm>
            <a:prstGeom prst="bentConnector3">
              <a:avLst>
                <a:gd name="adj1" fmla="val 9600000"/>
              </a:avLst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</p:cxn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AD8C35-A26A-4F15-9652-1FD551D95D2D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메모리 관련 함수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void *OSMemGet(OS_MEM *pmem, INT8U *err);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모리 블록 할당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mem : M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주소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err :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러코드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Return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값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할당된 메모리 블록의 주소 또는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null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INT8U OSMemPut(OS_MEM *pmem, void *pblk);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모리 블록 해제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blk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모리 블록의 주소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Return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값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NO_ERR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또는 에러 코드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431640" y="4216320"/>
            <a:ext cx="8712360" cy="2135880"/>
            <a:chOff x="431640" y="4216320"/>
            <a:chExt cx="8712360" cy="2135880"/>
          </a:xfrm>
        </p:grpSpPr>
        <p:sp>
          <p:nvSpPr>
            <p:cNvPr id="586" name=""/>
            <p:cNvSpPr/>
            <p:nvPr/>
          </p:nvSpPr>
          <p:spPr>
            <a:xfrm>
              <a:off x="1790640" y="4699080"/>
              <a:ext cx="2514600" cy="116820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181160" y="4889520"/>
              <a:ext cx="6094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431640" y="4724280"/>
              <a:ext cx="812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pme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790640" y="5067360"/>
              <a:ext cx="25146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1790640" y="5460840"/>
              <a:ext cx="25146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2629080" y="4317840"/>
              <a:ext cx="812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MC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2527200" y="4762440"/>
              <a:ext cx="105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…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2527200" y="5524560"/>
              <a:ext cx="105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…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1828800" y="5118120"/>
              <a:ext cx="2400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FreeList = add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 flipV="1">
              <a:off x="4076640" y="4610160"/>
              <a:ext cx="1447920" cy="6602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5537160" y="4254480"/>
              <a:ext cx="1031760" cy="30492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5486400" y="4216320"/>
              <a:ext cx="1155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……………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5537160" y="4559400"/>
              <a:ext cx="1031760" cy="30456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5486400" y="4521240"/>
              <a:ext cx="1155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……………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5537160" y="4863960"/>
              <a:ext cx="1031760" cy="30492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5486400" y="4826160"/>
              <a:ext cx="1155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……………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5537160" y="5168880"/>
              <a:ext cx="1031760" cy="30492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5486400" y="5130720"/>
              <a:ext cx="1155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……………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5537160" y="5473800"/>
              <a:ext cx="1031760" cy="30456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486400" y="5435640"/>
              <a:ext cx="1155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……………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537160" y="5778360"/>
              <a:ext cx="1031760" cy="30492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5486400" y="5740560"/>
              <a:ext cx="1155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……………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 flipH="1" flipV="1">
              <a:off x="6603480" y="4267080"/>
              <a:ext cx="876600" cy="1526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340760" y="4280040"/>
              <a:ext cx="1803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할당된 메모리 블록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10" name=""/>
            <p:cNvCxnSpPr/>
            <p:nvPr/>
          </p:nvCxnSpPr>
          <p:spPr>
            <a:xfrm>
              <a:off x="6566040" y="4597560"/>
              <a:ext cx="2160" cy="305280"/>
            </a:xfrm>
            <a:prstGeom prst="bentConnector3">
              <a:avLst>
                <a:gd name="adj1" fmla="val 9600000"/>
              </a:avLst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</p:cxnSp>
        <p:cxnSp>
          <p:nvCxnSpPr>
            <p:cNvPr id="611" name=""/>
            <p:cNvCxnSpPr/>
            <p:nvPr/>
          </p:nvCxnSpPr>
          <p:spPr>
            <a:xfrm>
              <a:off x="6566040" y="4927680"/>
              <a:ext cx="2160" cy="305280"/>
            </a:xfrm>
            <a:prstGeom prst="bentConnector3">
              <a:avLst>
                <a:gd name="adj1" fmla="val 9600000"/>
              </a:avLst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</p:cxnSp>
        <p:cxnSp>
          <p:nvCxnSpPr>
            <p:cNvPr id="612" name=""/>
            <p:cNvCxnSpPr/>
            <p:nvPr/>
          </p:nvCxnSpPr>
          <p:spPr>
            <a:xfrm>
              <a:off x="6566040" y="5257440"/>
              <a:ext cx="2160" cy="305640"/>
            </a:xfrm>
            <a:prstGeom prst="bentConnector3">
              <a:avLst>
                <a:gd name="adj1" fmla="val 11200000"/>
              </a:avLst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</p:cxnSp>
        <p:cxnSp>
          <p:nvCxnSpPr>
            <p:cNvPr id="613" name=""/>
            <p:cNvCxnSpPr/>
            <p:nvPr/>
          </p:nvCxnSpPr>
          <p:spPr>
            <a:xfrm>
              <a:off x="6566040" y="5587560"/>
              <a:ext cx="2160" cy="305640"/>
            </a:xfrm>
            <a:prstGeom prst="bentConnector3">
              <a:avLst>
                <a:gd name="adj1" fmla="val 11200000"/>
              </a:avLst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</p:cxnSp>
        <p:sp>
          <p:nvSpPr>
            <p:cNvPr id="614" name=""/>
            <p:cNvSpPr/>
            <p:nvPr/>
          </p:nvSpPr>
          <p:spPr>
            <a:xfrm>
              <a:off x="6438960" y="5854680"/>
              <a:ext cx="1054080" cy="2793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7378560" y="6045120"/>
              <a:ext cx="495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D7E2BB-B60A-42B3-80BC-9E3310FFB59F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메모리 관련 함수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3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3911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INT8U OSMemQuery (OS_MEM *pmem,    OS_MEM_DATA *pdata);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모리 제어 블록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MCB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으로부터 얻어내는 파티션 정보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data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반환되는 파티션 정보의 구조체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Return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값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항상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NO_ER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MEM_DATA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정보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파티션의 시작 주소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Free memory block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주소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Memory block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크기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Memory block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개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Free memory block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개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사용된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memory block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개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E15162-D7DE-4EBB-B78E-50EBD026B381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세마포어를 통한 메모리 공유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태스크간 메모리 블록 공유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Mutual exclusion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 :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세마포어를 사용하여 메모리 블록에 대한 공유를 상호 배제 시킨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1346040" y="2806560"/>
            <a:ext cx="4597560" cy="193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1409760" y="2870280"/>
            <a:ext cx="4424400" cy="18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SemPend(SemaphorePtr, 0, &amp;err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block = OSMemGet(PartitionPtr, &amp;err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    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/*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모리 블록을 사용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MemPut(PartitionPtr, pblock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SemPost(SemaphorePtr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FBD961-7551-40FA-9A1D-F2EF2B18A19F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인터럽트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인터럽트 발생이 확인되면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CPU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는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context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를 저장하고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interrupt Service Routine(ISR)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으로 분기한다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ISR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이 완료되면 프로그램은 실행 준비가 된 태스크 중 가장 우선 순위가 높은 것으로 돌아간다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인터럽트 중첩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Interrupt Nesting)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ISR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진행 도중 다시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Interrupt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발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Lock/Unlock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SchedLock( )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은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SchedUnlock( )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이 호출될 때까지 태스크 스케줄링을 막는 역할을 하며 두 함수는 함께 쓰인다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LockNesting :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중첩을 위해서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SchedLock()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이 호출된 횟수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SchedUnlock()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은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LockNesting =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0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일 때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스케줄러를 호출한다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844DC1-1CAE-4A0B-9E91-C792ED2097B3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인터럽트 중첩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5" name=""/>
          <p:cNvGrpSpPr/>
          <p:nvPr/>
        </p:nvGrpSpPr>
        <p:grpSpPr>
          <a:xfrm>
            <a:off x="1460520" y="1676520"/>
            <a:ext cx="6134040" cy="3705480"/>
            <a:chOff x="1460520" y="1676520"/>
            <a:chExt cx="6134040" cy="3705480"/>
          </a:xfrm>
        </p:grpSpPr>
        <p:sp>
          <p:nvSpPr>
            <p:cNvPr id="626" name=""/>
            <p:cNvSpPr/>
            <p:nvPr/>
          </p:nvSpPr>
          <p:spPr>
            <a:xfrm>
              <a:off x="1460520" y="1981080"/>
              <a:ext cx="6134040" cy="1296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2273400" y="2260440"/>
              <a:ext cx="0" cy="23115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3390840" y="2260440"/>
              <a:ext cx="0" cy="2095560"/>
            </a:xfrm>
            <a:prstGeom prst="line">
              <a:avLst/>
            </a:prstGeom>
            <a:ln w="9360">
              <a:solidFill>
                <a:srgbClr val="0000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4076640" y="2247840"/>
              <a:ext cx="0" cy="2108160"/>
            </a:xfrm>
            <a:prstGeom prst="line">
              <a:avLst/>
            </a:prstGeom>
            <a:ln w="9360">
              <a:solidFill>
                <a:srgbClr val="0000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4533840" y="2247840"/>
              <a:ext cx="0" cy="2121120"/>
            </a:xfrm>
            <a:prstGeom prst="line">
              <a:avLst/>
            </a:prstGeom>
            <a:ln w="9360">
              <a:solidFill>
                <a:srgbClr val="0000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181480" y="2247840"/>
              <a:ext cx="0" cy="2095560"/>
            </a:xfrm>
            <a:prstGeom prst="line">
              <a:avLst/>
            </a:prstGeom>
            <a:ln w="9360">
              <a:solidFill>
                <a:srgbClr val="0000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626080" y="2247840"/>
              <a:ext cx="0" cy="2095560"/>
            </a:xfrm>
            <a:prstGeom prst="line">
              <a:avLst/>
            </a:prstGeom>
            <a:ln w="9360">
              <a:solidFill>
                <a:srgbClr val="0000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6350040" y="2247840"/>
              <a:ext cx="0" cy="2121120"/>
            </a:xfrm>
            <a:prstGeom prst="line">
              <a:avLst/>
            </a:prstGeom>
            <a:ln w="9360">
              <a:solidFill>
                <a:srgbClr val="0000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2273400" y="2540160"/>
              <a:ext cx="1117440" cy="0"/>
            </a:xfrm>
            <a:prstGeom prst="line">
              <a:avLst/>
            </a:prstGeom>
            <a:ln w="572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3378240" y="2857680"/>
              <a:ext cx="698400" cy="0"/>
            </a:xfrm>
            <a:prstGeom prst="line">
              <a:avLst/>
            </a:prstGeom>
            <a:ln w="572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4076640" y="3276720"/>
              <a:ext cx="469800" cy="0"/>
            </a:xfrm>
            <a:prstGeom prst="line">
              <a:avLst/>
            </a:prstGeom>
            <a:ln w="572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4521240" y="3683160"/>
              <a:ext cx="660240" cy="0"/>
            </a:xfrm>
            <a:prstGeom prst="line">
              <a:avLst/>
            </a:prstGeom>
            <a:ln w="572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5168880" y="3289320"/>
              <a:ext cx="469800" cy="0"/>
            </a:xfrm>
            <a:prstGeom prst="line">
              <a:avLst/>
            </a:prstGeom>
            <a:ln w="572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5651640" y="2882880"/>
              <a:ext cx="698400" cy="0"/>
            </a:xfrm>
            <a:prstGeom prst="line">
              <a:avLst/>
            </a:prstGeom>
            <a:ln w="572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6362640" y="2540160"/>
              <a:ext cx="990720" cy="0"/>
            </a:xfrm>
            <a:prstGeom prst="line">
              <a:avLst/>
            </a:prstGeom>
            <a:ln w="572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4305240" y="1676520"/>
              <a:ext cx="1143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시 간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473120" y="2387520"/>
              <a:ext cx="939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태스크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486080" y="2730600"/>
              <a:ext cx="939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ISR-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1486080" y="3149640"/>
              <a:ext cx="939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ISR-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486080" y="3556080"/>
              <a:ext cx="939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ISR-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2590920" y="4673520"/>
              <a:ext cx="990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인터럽트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-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556080" y="4889520"/>
              <a:ext cx="990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인터럽트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-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4597560" y="5105520"/>
              <a:ext cx="990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인터럽트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-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 flipV="1">
              <a:off x="3200400" y="4432320"/>
              <a:ext cx="165240" cy="2412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 flipV="1">
              <a:off x="4076640" y="4432320"/>
              <a:ext cx="0" cy="4190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 flipV="1">
              <a:off x="4533840" y="4419720"/>
              <a:ext cx="419040" cy="6602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2EDE07-699D-4820-AC1B-5FFA4524B882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굴림"/>
              </a:rPr>
              <a:t>ISR (Interrupt Service Routine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보통 어셈블리어로 작성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구성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모든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CPU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레지스터를 현재 태스크 스택에 저장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IntEnter( )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를 호출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ISR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서비스를 위한 사용자 코드 실행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IntExit( )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호출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모든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CPU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레지스터를 복원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인터럽트된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instruction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으로부터 복귀를 수행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F51D1D-D2D0-403D-8828-AD2CC9F1A120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ISR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로부터의 복귀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"/>
          <p:cNvGrpSpPr/>
          <p:nvPr/>
        </p:nvGrpSpPr>
        <p:grpSpPr>
          <a:xfrm>
            <a:off x="749160" y="1612800"/>
            <a:ext cx="8128080" cy="3619440"/>
            <a:chOff x="749160" y="1612800"/>
            <a:chExt cx="8128080" cy="3619440"/>
          </a:xfrm>
        </p:grpSpPr>
        <p:sp>
          <p:nvSpPr>
            <p:cNvPr id="656" name=""/>
            <p:cNvSpPr/>
            <p:nvPr/>
          </p:nvSpPr>
          <p:spPr>
            <a:xfrm>
              <a:off x="2705040" y="1638360"/>
              <a:ext cx="0" cy="359388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5587920" y="1625760"/>
              <a:ext cx="0" cy="359388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2705040" y="1968480"/>
              <a:ext cx="28828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2705040" y="2298600"/>
              <a:ext cx="28702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2717640" y="2641680"/>
              <a:ext cx="28702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2717640" y="3009960"/>
              <a:ext cx="28576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2717640" y="4000680"/>
              <a:ext cx="28576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2717640" y="4368960"/>
              <a:ext cx="28576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2717640" y="4724280"/>
              <a:ext cx="28576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2806560" y="1994040"/>
              <a:ext cx="2705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IntCtxSw( )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로부터의 리턴 주소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2806560" y="2349360"/>
              <a:ext cx="2705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Processor Status Wor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2819520" y="2692440"/>
              <a:ext cx="2705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IntExit( )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로부터의 리턴 주소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908440" y="3416400"/>
              <a:ext cx="2489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CPU 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레지스터 정보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2921040" y="4051440"/>
              <a:ext cx="2489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인터럽트 복귀 주소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2921040" y="4419720"/>
              <a:ext cx="2489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Processor Status Wor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2908440" y="4788000"/>
              <a:ext cx="2489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상위 메모리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2946240" y="1638360"/>
              <a:ext cx="2489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하위 메모리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 flipV="1">
              <a:off x="2451240" y="4355640"/>
              <a:ext cx="0" cy="8636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49160" y="4648320"/>
              <a:ext cx="1854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스택이 증가하는 방향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626080" y="1955880"/>
              <a:ext cx="393840" cy="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006960" y="1943280"/>
              <a:ext cx="0" cy="109188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 flipH="1">
              <a:off x="5613120" y="3022560"/>
              <a:ext cx="406440" cy="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842080" y="3683160"/>
              <a:ext cx="137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ISR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에 의해 저장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5727600" y="3035160"/>
              <a:ext cx="137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CPU’s SP (after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5638680" y="1612800"/>
              <a:ext cx="1676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CPU’s SP (before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5638680" y="1994040"/>
              <a:ext cx="119160" cy="279360"/>
            </a:xfrm>
            <a:custGeom>
              <a:avLst/>
              <a:gdLst>
                <a:gd name="textAreaLeft" fmla="*/ 0 w 119160"/>
                <a:gd name="textAreaRight" fmla="*/ 83520 w 119160"/>
                <a:gd name="textAreaTop" fmla="*/ 11520 h 279360"/>
                <a:gd name="textAreaBottom" fmla="*/ 267840 h 279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5638680" y="2311560"/>
              <a:ext cx="106560" cy="279360"/>
            </a:xfrm>
            <a:custGeom>
              <a:avLst/>
              <a:gdLst>
                <a:gd name="textAreaLeft" fmla="*/ 0 w 106560"/>
                <a:gd name="textAreaRight" fmla="*/ 74880 w 106560"/>
                <a:gd name="textAreaTop" fmla="*/ 11520 h 279360"/>
                <a:gd name="textAreaBottom" fmla="*/ 267840 h 279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5638680" y="2666880"/>
              <a:ext cx="106560" cy="279360"/>
            </a:xfrm>
            <a:custGeom>
              <a:avLst/>
              <a:gdLst>
                <a:gd name="textAreaLeft" fmla="*/ 0 w 106560"/>
                <a:gd name="textAreaRight" fmla="*/ 74880 w 106560"/>
                <a:gd name="textAreaTop" fmla="*/ 11520 h 279360"/>
                <a:gd name="textAreaBottom" fmla="*/ 267840 h 279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5638680" y="3073320"/>
              <a:ext cx="127080" cy="1650960"/>
            </a:xfrm>
            <a:custGeom>
              <a:avLst/>
              <a:gdLst>
                <a:gd name="textAreaLeft" fmla="*/ 0 w 127080"/>
                <a:gd name="textAreaRight" fmla="*/ 89280 w 127080"/>
                <a:gd name="textAreaTop" fmla="*/ 68760 h 1650960"/>
                <a:gd name="textAreaBottom" fmla="*/ 1582200 h 1650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flipH="1">
              <a:off x="5651280" y="1866960"/>
              <a:ext cx="393480" cy="0"/>
            </a:xfrm>
            <a:prstGeom prst="line">
              <a:avLst/>
            </a:prstGeom>
            <a:ln w="93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5994360" y="2006640"/>
              <a:ext cx="2057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IntCtxSw( )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에 의해 저장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5994360" y="2349360"/>
              <a:ext cx="2882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_ENTER_CRITICAL( )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에 의해 저장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5994360" y="2692440"/>
              <a:ext cx="2057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IntExit( )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에 의해 저장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B9865D-BF82-4BD7-BBE1-6DC5A626B0F0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-II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시작하기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C/OS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는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1992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년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Jean J. Labrosse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가 만든 실시간 운영체제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Micro Controller Operating System Version 2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학교나 개인의 교육과 같은 비상업적 목적에 한해 자유로이 사용 가능한 공개소스로서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소스코드의 수정 및 커널의 내부 구조를 이해하기 용이함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용도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각종 장비 개발이 가능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공식 사이트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  <a:ea typeface="굴림"/>
                <a:hlinkClick r:id="rId1"/>
              </a:rPr>
              <a:t>www.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  <a:ea typeface="굴림"/>
                <a:hlinkClick r:id="rId2"/>
              </a:rPr>
              <a:t>ucos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  <a:ea typeface="굴림"/>
                <a:hlinkClick r:id="rId3"/>
              </a:rPr>
              <a:t>-ii.com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 (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소스 다운로드 가능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상업적인 목적에 사용될 경우 라이센스를 따로 얻어야 함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7FA125-7F67-43F5-AA1A-5ADA0BDBDF6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Clock Tick (1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주기적으로 발생하는 인터럽트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일정 수의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tick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동안 태스크가 실행을 중단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suspend)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하거나 이벤트의 발생을 대기하도록 할 수 있음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주기가 빨라지면 그만큼 오버헤드도 커진다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OSTimeTick()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을 호출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OS_TCB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OSTCBDly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값이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nonzero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값이면 감소시킨다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. 0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이 되면 태스크는 실행될 준비가 된다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Ticker interrupt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는 멀티태스킹이 시작된 후에 가능하게 만들어야 한다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OSStart() 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호출 후 첫 번째 태스크에서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ticker interrupt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를 초기화하여야 한다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B371D4-C07D-4ED7-9274-813428EAD922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Clock Tick 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TimeTick(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기능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imeTickHook( )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실행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응용레벨에서 긴급한 일을 수행할 기회 제공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모든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CBDly field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값을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1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만큼 감소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만일 이 값이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0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 되면 그 태스크를 준비 상태로 바꾼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ime++ : unsigned 32-bit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시간 변수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시스템 시작 후 경과 시간을 계속 증가시킨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실행 시간은 태스크의 수에 비례한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939960" y="1295280"/>
            <a:ext cx="7315200" cy="255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1003320" y="1320840"/>
            <a:ext cx="7200720" cy="24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void OSTickISR (voi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{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save processor register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Call OSIntEnter() or increment OSIntNesting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Call OSTimeTick(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Call OSIntExit(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Restore processor register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Execute a return from interrupt instruction;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60DDE9-C8CE-4F43-ACFD-A05C6E2506A1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Initialization (1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초기화는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Init()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을 호출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단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COS.H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파일에 다음과 같은 것들이 설정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IDLE_TASK_STK_SIZE : idle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의 크기를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byte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로 나타낸 것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MAX_TASKS : uC/OS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가 제어할 수 있는 태스크의 최대 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MAX_EVENTS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응용 프로그램이 생성할 최대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ECB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MAX_QS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응용 프로그램이 생성할 메시지 큐의 최대 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Init()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호출 후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Start()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를 호출하게 되면 멀티태스킹이 시작됨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7" name=""/>
          <p:cNvGrpSpPr/>
          <p:nvPr/>
        </p:nvGrpSpPr>
        <p:grpSpPr>
          <a:xfrm>
            <a:off x="1114560" y="3772080"/>
            <a:ext cx="7124040" cy="2237400"/>
            <a:chOff x="1114560" y="3772080"/>
            <a:chExt cx="7124040" cy="2237400"/>
          </a:xfrm>
        </p:grpSpPr>
        <p:sp>
          <p:nvSpPr>
            <p:cNvPr id="698" name=""/>
            <p:cNvSpPr/>
            <p:nvPr/>
          </p:nvSpPr>
          <p:spPr>
            <a:xfrm>
              <a:off x="1114560" y="3772080"/>
              <a:ext cx="6951240" cy="2234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1177560" y="3772080"/>
              <a:ext cx="7061040" cy="223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Void main (void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{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     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Init();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	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/* 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모든 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uC/OS 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변수들과 자료구조들을 초기화시킴 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*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       …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     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askCreate( ) 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혹은</a:t>
              </a: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askCreateExt( ) 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적어도 하나의 사용중인 태스크를 생성</a:t>
              </a: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;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       …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     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Start( );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	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/*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멀티 태스킹을 시작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, 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Start( )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은 반환하지 않는다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*/</a:t>
              </a: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 </a:t>
              </a: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	</a:t>
              </a: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	</a:t>
              </a: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}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1517400" y="4431960"/>
              <a:ext cx="833040" cy="27900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1530000" y="5714640"/>
              <a:ext cx="1020240" cy="27900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02" name=""/>
            <p:cNvCxnSpPr>
              <a:stCxn id="700" idx="1"/>
              <a:endCxn id="701" idx="1"/>
            </p:cNvCxnSpPr>
            <p:nvPr/>
          </p:nvCxnSpPr>
          <p:spPr>
            <a:xfrm flipH="1" flipV="1" rot="10800000">
              <a:off x="1502640" y="4571280"/>
              <a:ext cx="12960" cy="1283040"/>
            </a:xfrm>
            <a:prstGeom prst="curvedConnector5">
              <a:avLst>
                <a:gd name="adj1" fmla="val -1685714"/>
                <a:gd name="adj2" fmla="val 49985"/>
                <a:gd name="adj3" fmla="val -1685714"/>
              </a:avLst>
            </a:prstGeom>
            <a:ln w="22320">
              <a:solidFill>
                <a:srgbClr val="000000"/>
              </a:solidFill>
              <a:miter/>
              <a:tailEnd len="lg" type="stealth" w="sm"/>
            </a:ln>
          </p:spPr>
        </p:cxn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B0A3C0-24D3-4C62-B7C3-DFCF8756FAB0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Initialization 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Init( 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Idle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태스크인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TaskIdle()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생성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askIdle( )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항상 준비상태에 있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우선순위는 가장 낮음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LOWEST_PRI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선택적으로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TaskStat()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생성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우선순위는 항상 두 번째로 낮다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LOWEST_PRIO-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태스크 제어 블록 리스트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TCBList)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생성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구성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askIdle( 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와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askStat(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중 연결 리스트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4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개의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free data structure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생성 – 포인터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CBFreeList (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길이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MAX_TASK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EventFreeList (OS_MAX_EVENT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QFreeList (OS_MAX_Q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MemFreeList (OS_MAX_MEM_PART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341D63-53FB-4651-B762-769B6F85ED6E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Initialization (3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Start( 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Ready list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서 가장 우선순위가 높은 태스크의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찾아서 그 태스크를 수행시킨다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StartHighRdy( 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종료 후 다시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Start( 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로 돌아오지 않는다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초기화 변수의 설정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CC726D-1488-4396-860B-AD54B9AC736C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Event Control Block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C/OS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에서 공유 데이터의 보호와 태스크간의 통신을 위해 제공하는 세가지 서비스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세마포어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시지 메일 박스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시지 큐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이벤트 제어 블록의 사용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와 인터럽트 서비스 루틴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SR)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혹은 태스크와 태스크간에 어떻게 서로 상호작용 하는지를 보여준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와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SR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은 이벤트 제어 블록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ECB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라고 불리는 커널 객체를 통하여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ignal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을 주고 받는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는 세마포어가 될 수도 있고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시지 메일 박스나 메시지 큐가 될 수도 있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37FE98-1E5F-424B-B6B1-512568DC9C60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의 사용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0" name=""/>
          <p:cNvGrpSpPr/>
          <p:nvPr/>
        </p:nvGrpSpPr>
        <p:grpSpPr>
          <a:xfrm>
            <a:off x="1231920" y="1536840"/>
            <a:ext cx="6426360" cy="4358160"/>
            <a:chOff x="1231920" y="1536840"/>
            <a:chExt cx="6426360" cy="4358160"/>
          </a:xfrm>
        </p:grpSpPr>
        <p:sp>
          <p:nvSpPr>
            <p:cNvPr id="711" name=""/>
            <p:cNvSpPr/>
            <p:nvPr/>
          </p:nvSpPr>
          <p:spPr>
            <a:xfrm>
              <a:off x="1231920" y="1536840"/>
              <a:ext cx="6426360" cy="129528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1574640" y="1676520"/>
              <a:ext cx="1079640" cy="469800"/>
            </a:xfrm>
            <a:prstGeom prst="ellipse">
              <a:avLst/>
            </a:prstGeom>
            <a:solidFill>
              <a:srgbClr val="ccffcc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1587600" y="2235240"/>
              <a:ext cx="1079280" cy="4698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5880240" y="1689120"/>
              <a:ext cx="1079280" cy="4698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892840" y="2260440"/>
              <a:ext cx="1079640" cy="47016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797280" y="1689120"/>
              <a:ext cx="928800" cy="40788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2717640" y="1917720"/>
              <a:ext cx="10288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2717640" y="2476440"/>
              <a:ext cx="10288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75040" y="1917720"/>
              <a:ext cx="106704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4788000" y="2476440"/>
              <a:ext cx="10540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21" name=""/>
            <p:cNvGrpSpPr/>
            <p:nvPr/>
          </p:nvGrpSpPr>
          <p:grpSpPr>
            <a:xfrm>
              <a:off x="4927680" y="1963440"/>
              <a:ext cx="177840" cy="182880"/>
              <a:chOff x="4927680" y="1963440"/>
              <a:chExt cx="177840" cy="182880"/>
            </a:xfrm>
          </p:grpSpPr>
          <p:sp>
            <p:nvSpPr>
              <p:cNvPr id="722" name=""/>
              <p:cNvSpPr/>
              <p:nvPr/>
            </p:nvSpPr>
            <p:spPr>
              <a:xfrm>
                <a:off x="4927680" y="2058120"/>
                <a:ext cx="177840" cy="8820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flipV="1">
                <a:off x="4927680" y="1963080"/>
                <a:ext cx="177840" cy="8820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4" name=""/>
            <p:cNvGrpSpPr/>
            <p:nvPr/>
          </p:nvGrpSpPr>
          <p:grpSpPr>
            <a:xfrm>
              <a:off x="4940280" y="2534760"/>
              <a:ext cx="177840" cy="182880"/>
              <a:chOff x="4940280" y="2534760"/>
              <a:chExt cx="177840" cy="182880"/>
            </a:xfrm>
          </p:grpSpPr>
          <p:sp>
            <p:nvSpPr>
              <p:cNvPr id="725" name=""/>
              <p:cNvSpPr/>
              <p:nvPr/>
            </p:nvSpPr>
            <p:spPr>
              <a:xfrm>
                <a:off x="4940280" y="2629440"/>
                <a:ext cx="177840" cy="8820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 flipV="1">
                <a:off x="4940280" y="2534400"/>
                <a:ext cx="177840" cy="8820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27" name=""/>
            <p:cNvSpPr/>
            <p:nvPr/>
          </p:nvSpPr>
          <p:spPr>
            <a:xfrm>
              <a:off x="3873600" y="1739880"/>
              <a:ext cx="825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EC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1676520" y="1752480"/>
              <a:ext cx="876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IS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1676520" y="2311560"/>
              <a:ext cx="876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2717640" y="1574640"/>
              <a:ext cx="876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Sign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2717640" y="2120760"/>
              <a:ext cx="876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Sign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826160" y="1574640"/>
              <a:ext cx="876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Wa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826160" y="2146320"/>
              <a:ext cx="876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Wa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6006960" y="2336760"/>
              <a:ext cx="876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6006960" y="1765440"/>
              <a:ext cx="876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7188120" y="2019240"/>
              <a:ext cx="381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1231920" y="2895480"/>
              <a:ext cx="6426360" cy="129564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1574640" y="3035160"/>
              <a:ext cx="1079640" cy="470160"/>
            </a:xfrm>
            <a:prstGeom prst="ellipse">
              <a:avLst/>
            </a:prstGeom>
            <a:solidFill>
              <a:srgbClr val="ccffcc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1587600" y="3594240"/>
              <a:ext cx="1079280" cy="4698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880240" y="3048120"/>
              <a:ext cx="1079280" cy="4698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5892840" y="3619440"/>
              <a:ext cx="1079640" cy="4698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692440" y="3289320"/>
              <a:ext cx="1092240" cy="25416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 flipV="1">
              <a:off x="2692440" y="3619440"/>
              <a:ext cx="1092240" cy="21600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 flipV="1">
              <a:off x="4749840" y="3289320"/>
              <a:ext cx="1092240" cy="24120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749840" y="3568680"/>
              <a:ext cx="1092240" cy="25416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1676520" y="3111480"/>
              <a:ext cx="876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IS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1676520" y="3670200"/>
              <a:ext cx="876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717640" y="3022560"/>
              <a:ext cx="876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Sign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717640" y="3772080"/>
              <a:ext cx="876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Sign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4838760" y="3060720"/>
              <a:ext cx="876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Wa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4838760" y="3759120"/>
              <a:ext cx="876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Wa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6006960" y="3695760"/>
              <a:ext cx="876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6006960" y="3124080"/>
              <a:ext cx="876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7188120" y="3378240"/>
              <a:ext cx="381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1231920" y="4254480"/>
              <a:ext cx="6426360" cy="129528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1574640" y="4394160"/>
              <a:ext cx="1079640" cy="4698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1587600" y="4952880"/>
              <a:ext cx="1079280" cy="47016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2654280" y="4648320"/>
              <a:ext cx="1104840" cy="22860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 flipV="1">
              <a:off x="2692440" y="4965480"/>
              <a:ext cx="1066680" cy="21564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1676520" y="4470480"/>
              <a:ext cx="876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1676520" y="5029200"/>
              <a:ext cx="876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2552760" y="4305240"/>
              <a:ext cx="1422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Wait / Sign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7188120" y="4737240"/>
              <a:ext cx="381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797280" y="2260440"/>
              <a:ext cx="928800" cy="4082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873600" y="2311560"/>
              <a:ext cx="825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EC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797280" y="3327480"/>
              <a:ext cx="928800" cy="40788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873600" y="3378240"/>
              <a:ext cx="825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EC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797280" y="4724280"/>
              <a:ext cx="928800" cy="4082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873600" y="4775040"/>
              <a:ext cx="825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EC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70" name=""/>
            <p:cNvGrpSpPr/>
            <p:nvPr/>
          </p:nvGrpSpPr>
          <p:grpSpPr>
            <a:xfrm>
              <a:off x="3594240" y="4566960"/>
              <a:ext cx="177840" cy="182880"/>
              <a:chOff x="3594240" y="4566960"/>
              <a:chExt cx="177840" cy="182880"/>
            </a:xfrm>
          </p:grpSpPr>
          <p:sp>
            <p:nvSpPr>
              <p:cNvPr id="771" name=""/>
              <p:cNvSpPr/>
              <p:nvPr/>
            </p:nvSpPr>
            <p:spPr>
              <a:xfrm>
                <a:off x="3594240" y="4661640"/>
                <a:ext cx="177840" cy="8820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 flipV="1">
                <a:off x="3594240" y="4566600"/>
                <a:ext cx="177840" cy="8820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3" name=""/>
            <p:cNvGrpSpPr/>
            <p:nvPr/>
          </p:nvGrpSpPr>
          <p:grpSpPr>
            <a:xfrm>
              <a:off x="3606840" y="5100480"/>
              <a:ext cx="177840" cy="182520"/>
              <a:chOff x="3606840" y="5100480"/>
              <a:chExt cx="177840" cy="182520"/>
            </a:xfrm>
          </p:grpSpPr>
          <p:sp>
            <p:nvSpPr>
              <p:cNvPr id="774" name=""/>
              <p:cNvSpPr/>
              <p:nvPr/>
            </p:nvSpPr>
            <p:spPr>
              <a:xfrm>
                <a:off x="3606840" y="5194800"/>
                <a:ext cx="177840" cy="8820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 flipV="1">
                <a:off x="3606840" y="5100480"/>
                <a:ext cx="177840" cy="8856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6" name=""/>
            <p:cNvSpPr/>
            <p:nvPr/>
          </p:nvSpPr>
          <p:spPr>
            <a:xfrm>
              <a:off x="2552760" y="5245200"/>
              <a:ext cx="1422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Wait / Sign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77" name=""/>
            <p:cNvGrpSpPr/>
            <p:nvPr/>
          </p:nvGrpSpPr>
          <p:grpSpPr>
            <a:xfrm>
              <a:off x="6311880" y="5646600"/>
              <a:ext cx="177840" cy="182520"/>
              <a:chOff x="6311880" y="5646600"/>
              <a:chExt cx="177840" cy="182520"/>
            </a:xfrm>
          </p:grpSpPr>
          <p:sp>
            <p:nvSpPr>
              <p:cNvPr id="778" name=""/>
              <p:cNvSpPr/>
              <p:nvPr/>
            </p:nvSpPr>
            <p:spPr>
              <a:xfrm>
                <a:off x="6311880" y="5740920"/>
                <a:ext cx="177840" cy="8820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 flipV="1">
                <a:off x="6311880" y="5646600"/>
                <a:ext cx="177840" cy="8856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80" name=""/>
            <p:cNvSpPr/>
            <p:nvPr/>
          </p:nvSpPr>
          <p:spPr>
            <a:xfrm>
              <a:off x="6438960" y="5587920"/>
              <a:ext cx="113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TimeO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2478C3-2BCD-4CE4-9E89-2BD838E0CED0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의 자료구조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1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C/OS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는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의 상태를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COS_II.H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에 기술되어 있는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_EVENT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라는 자료구조에 유지한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783" name=""/>
          <p:cNvGraphicFramePr/>
          <p:nvPr/>
        </p:nvGraphicFramePr>
        <p:xfrm>
          <a:off x="1503360" y="2438280"/>
          <a:ext cx="4910040" cy="2260800"/>
        </p:xfrm>
        <a:graphic>
          <a:graphicData uri="http://schemas.openxmlformats.org/drawingml/2006/table">
            <a:tbl>
              <a:tblPr/>
              <a:tblGrid>
                <a:gridCol w="4910040"/>
              </a:tblGrid>
              <a:tr h="226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typedef struct {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      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void     *OSEventPtr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      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INT8U   OSEventTbl[OS_EVENT_TBL_SIZE]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      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INT16U OSEventCnt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      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INT8U   OSEventType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      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INT8U   OSEventGrp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} OS_EVENT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736EAA-EF39-4837-B965-5D7D7F6BA8E6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의 자료구조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EventPtr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가 메일박스나 큐일 때만 사용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일 박스로 사용 시에는 메시지를 가리키고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큐로 사용 시에는 큐 자료구조를 가리킨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EventCnt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가 세마포어로 사용될 때 세마포어의 카운트를 갖고 있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EventType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와 연관된 타입을 가리킨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여기에는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EVENT_SEM, OS_EVENT_TYPE_MBOX, OS_EVENT_TYPE_Q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라는 값들이 올 수 있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EventTbl[ ]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과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EventGrp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벤트를 기다리는 태스크들의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List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포함한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6D79FA-C63A-4DD0-AA5A-AD034A1A4AE2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Wait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리스트의 구조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761760" y="137160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이벤트가 발생하기를 기다리는 각각의 태스크들은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EventGrp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과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EventTbl[ ]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의 두 변수로 구성된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Wait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리스트에 위치한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태스크의 우선순위는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EventGrp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에 그룹화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한 그룹에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8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개의 태스크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)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되어 있고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EventGrp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의 각각의 비트는 그 그룹의 태스크가 이벤트를 기다리고 있는지를 나타낸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이벤트가 발생했을 때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그 이벤트를 기다리는 태스크 중 우선순위가 가장 높은 태스크가 시작된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F76EE5-EF0E-4DA3-BDE2-C9981472EE27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-II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의 특징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Portable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커널 코드의 대부분이 이식 가능한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ANSI C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기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	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일부 마이크로프로세서에 국한된 부분은  어셈블러로 코딩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ROMable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해당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컴파일러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어셈블러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링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로더가 필요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설정이나 응용프로그램에 따라 메모리의 크기를 자유로이 결정할 수 있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Preemptive Scheduling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높은 우선 순위 작업이 먼저 수행된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Real-Time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빠른 응답성을 갖는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Multitasking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독자적 우선순위를 가지는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64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개의 태스크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6F0B81-AB40-4A3D-B799-8BACC7BBBEF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이벤트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Wait lis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89" name=""/>
          <p:cNvGrpSpPr/>
          <p:nvPr/>
        </p:nvGrpSpPr>
        <p:grpSpPr>
          <a:xfrm>
            <a:off x="787320" y="1206360"/>
            <a:ext cx="8382240" cy="5085000"/>
            <a:chOff x="787320" y="1206360"/>
            <a:chExt cx="8382240" cy="5085000"/>
          </a:xfrm>
        </p:grpSpPr>
        <p:sp>
          <p:nvSpPr>
            <p:cNvPr id="790" name=""/>
            <p:cNvSpPr/>
            <p:nvPr/>
          </p:nvSpPr>
          <p:spPr>
            <a:xfrm>
              <a:off x="4737240" y="5530680"/>
              <a:ext cx="4432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최하위 우선순위 태스크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(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Idle 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태스크로서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, 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wait 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할 수 없다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 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91" name=""/>
            <p:cNvGrpSpPr/>
            <p:nvPr/>
          </p:nvGrpSpPr>
          <p:grpSpPr>
            <a:xfrm>
              <a:off x="4851360" y="2249640"/>
              <a:ext cx="3139920" cy="2849040"/>
              <a:chOff x="4851360" y="2249640"/>
              <a:chExt cx="3139920" cy="2849040"/>
            </a:xfrm>
          </p:grpSpPr>
          <p:sp>
            <p:nvSpPr>
              <p:cNvPr id="792" name=""/>
              <p:cNvSpPr/>
              <p:nvPr/>
            </p:nvSpPr>
            <p:spPr>
              <a:xfrm>
                <a:off x="7597800" y="4741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7205400" y="4741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6812640" y="474120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6420600" y="4741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6028200" y="4741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5635800" y="4741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5243400" y="4741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4851360" y="4741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7597800" y="43851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7205400" y="43851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6812640" y="438516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6420600" y="43851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6028200" y="43851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5635800" y="43851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5243400" y="43851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4851360" y="43851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7597800" y="40294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7205400" y="40294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812640" y="402948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6420600" y="40294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6028200" y="40294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5635800" y="40294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5243400" y="40294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4851360" y="40294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7597800" y="3673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7205400" y="3673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6812640" y="367344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6420600" y="3673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6028200" y="3673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5635800" y="3673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5243400" y="3673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4851360" y="3673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7597800" y="3317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7205400" y="3317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6812640" y="331740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6420600" y="3317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6028200" y="3317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5635800" y="3317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5243400" y="3317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4851360" y="3317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7597800" y="2961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7205400" y="2961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6812640" y="296136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6420600" y="2961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6028200" y="2961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5635800" y="2961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5243400" y="2961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4851360" y="2961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7597800" y="2605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7205400" y="2605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6812640" y="260532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6420600" y="2605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6028200" y="2605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5635800" y="2605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5243400" y="2605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4851360" y="2605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7597800" y="22496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7205400" y="22496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6812640" y="224964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6420600" y="22496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6028200" y="22496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5635800" y="22496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5243400" y="22496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4851360" y="22496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4851360" y="2249640"/>
                <a:ext cx="3138840" cy="144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4851360" y="260532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4851360" y="296136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4851360" y="331740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4851360" y="367344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4851360" y="402948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4851360" y="438516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4851360" y="474120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4851360" y="5097240"/>
                <a:ext cx="3138840" cy="144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4851360" y="2249640"/>
                <a:ext cx="1440" cy="284760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5243400" y="2249640"/>
                <a:ext cx="1440" cy="28476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5635800" y="2249640"/>
                <a:ext cx="1440" cy="28476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6028200" y="2249640"/>
                <a:ext cx="1440" cy="28476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6420600" y="2249640"/>
                <a:ext cx="1440" cy="28476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6812640" y="2249640"/>
                <a:ext cx="1440" cy="28476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7205400" y="2249640"/>
                <a:ext cx="1080" cy="28476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7597800" y="2249640"/>
                <a:ext cx="1080" cy="28476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7990200" y="2249640"/>
                <a:ext cx="1080" cy="284760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74" name=""/>
            <p:cNvSpPr/>
            <p:nvPr/>
          </p:nvSpPr>
          <p:spPr>
            <a:xfrm>
              <a:off x="3610080" y="1487520"/>
              <a:ext cx="368280" cy="30636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3241800" y="1487520"/>
              <a:ext cx="368280" cy="30636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2871720" y="1487520"/>
              <a:ext cx="370080" cy="30636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2503440" y="1487520"/>
              <a:ext cx="368280" cy="30636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2135160" y="1487520"/>
              <a:ext cx="368280" cy="30636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1766880" y="1487520"/>
              <a:ext cx="368280" cy="30636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397160" y="1487520"/>
              <a:ext cx="369720" cy="30636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1028880" y="1487520"/>
              <a:ext cx="368280" cy="30636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1028880" y="1487520"/>
              <a:ext cx="2949480" cy="0"/>
            </a:xfrm>
            <a:prstGeom prst="line">
              <a:avLst/>
            </a:prstGeom>
            <a:ln cap="sq"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1028880" y="1793880"/>
              <a:ext cx="2949480" cy="0"/>
            </a:xfrm>
            <a:prstGeom prst="line">
              <a:avLst/>
            </a:prstGeom>
            <a:ln cap="sq"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028880" y="1487520"/>
              <a:ext cx="0" cy="306360"/>
            </a:xfrm>
            <a:prstGeom prst="line">
              <a:avLst/>
            </a:prstGeom>
            <a:ln cap="sq"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1397160" y="1487520"/>
              <a:ext cx="0" cy="3063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1766880" y="1487520"/>
              <a:ext cx="0" cy="3063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135160" y="1487520"/>
              <a:ext cx="0" cy="3063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2503440" y="1487520"/>
              <a:ext cx="0" cy="3063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2871720" y="1487520"/>
              <a:ext cx="0" cy="3063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3241800" y="1487520"/>
              <a:ext cx="0" cy="3063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3610080" y="1487520"/>
              <a:ext cx="0" cy="3063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3978360" y="1487520"/>
              <a:ext cx="0" cy="306360"/>
            </a:xfrm>
            <a:prstGeom prst="line">
              <a:avLst/>
            </a:prstGeom>
            <a:ln cap="sq"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4243320" y="2190600"/>
              <a:ext cx="507960" cy="29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1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2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3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4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5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6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7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 flipH="1">
              <a:off x="3800160" y="2390760"/>
              <a:ext cx="4683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 flipV="1">
              <a:off x="3787920" y="1780920"/>
              <a:ext cx="0" cy="6094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 flipH="1">
              <a:off x="3446280" y="2752560"/>
              <a:ext cx="83484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 flipV="1">
              <a:off x="3446640" y="1768320"/>
              <a:ext cx="0" cy="9842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 flipH="1">
              <a:off x="3104640" y="3116160"/>
              <a:ext cx="11638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 flipV="1">
              <a:off x="3105000" y="1781280"/>
              <a:ext cx="0" cy="13348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 flipH="1">
              <a:off x="2724120" y="3456000"/>
              <a:ext cx="15192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 flipV="1">
              <a:off x="2711520" y="1768320"/>
              <a:ext cx="0" cy="16876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 flipH="1">
              <a:off x="2331720" y="3808440"/>
              <a:ext cx="191124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 flipV="1">
              <a:off x="2332080" y="1780920"/>
              <a:ext cx="0" cy="20271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 flipH="1">
              <a:off x="1939680" y="4183200"/>
              <a:ext cx="22906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 flipV="1">
              <a:off x="1940040" y="1780920"/>
              <a:ext cx="0" cy="23907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 flipH="1">
              <a:off x="1611000" y="4522680"/>
              <a:ext cx="26067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 flipV="1">
              <a:off x="1598760" y="1780920"/>
              <a:ext cx="0" cy="2741400"/>
            </a:xfrm>
            <a:prstGeom prst="line">
              <a:avLst/>
            </a:prstGeom>
            <a:ln w="93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 flipH="1">
              <a:off x="1244520" y="4886280"/>
              <a:ext cx="29736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 flipV="1">
              <a:off x="1244520" y="1781280"/>
              <a:ext cx="0" cy="3093840"/>
            </a:xfrm>
            <a:prstGeom prst="line">
              <a:avLst/>
            </a:prstGeom>
            <a:ln w="93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1028880" y="1206360"/>
              <a:ext cx="2909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OSEventG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4230720" y="1417680"/>
              <a:ext cx="3949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EventTbl [ OS_LOWEST_PRIO / 8+1 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4863960" y="2050920"/>
              <a:ext cx="0" cy="1638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7978680" y="2062080"/>
              <a:ext cx="0" cy="1634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 flipH="1">
              <a:off x="4876920" y="2108160"/>
              <a:ext cx="13413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 flipH="1">
              <a:off x="6559200" y="2108160"/>
              <a:ext cx="14065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6243480" y="1932120"/>
              <a:ext cx="34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8180280" y="2249640"/>
              <a:ext cx="316080" cy="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8028000" y="5086440"/>
              <a:ext cx="4428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8345520" y="2260440"/>
              <a:ext cx="0" cy="125424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8345520" y="3808440"/>
              <a:ext cx="0" cy="12780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8193240" y="3479760"/>
              <a:ext cx="315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6472080" y="1662120"/>
              <a:ext cx="2240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최상위 우선 순위 태스크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8459640" y="1781280"/>
              <a:ext cx="2397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 flipH="1">
              <a:off x="8002440" y="1781280"/>
              <a:ext cx="696960" cy="5936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4873680" y="5108400"/>
              <a:ext cx="2936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이벤트가 발생하기를 기다리는 태스크들의 우선순위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 flipH="1">
              <a:off x="4547880" y="5659560"/>
              <a:ext cx="39204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 flipV="1">
              <a:off x="4548240" y="5086440"/>
              <a:ext cx="430200" cy="5731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2987640" y="5219640"/>
              <a:ext cx="314280" cy="2937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2673360" y="5219640"/>
              <a:ext cx="314280" cy="2937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2359080" y="5219640"/>
              <a:ext cx="314280" cy="2937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2044800" y="5219640"/>
              <a:ext cx="314280" cy="29376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1730520" y="5219640"/>
              <a:ext cx="314280" cy="29376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1415880" y="5219640"/>
              <a:ext cx="314640" cy="29376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1101600" y="5219640"/>
              <a:ext cx="314280" cy="29376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787320" y="5219640"/>
              <a:ext cx="314280" cy="29376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787320" y="5219640"/>
              <a:ext cx="2514600" cy="1800"/>
            </a:xfrm>
            <a:prstGeom prst="line">
              <a:avLst/>
            </a:prstGeom>
            <a:ln cap="sq"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787320" y="5513400"/>
              <a:ext cx="2514600" cy="1440"/>
            </a:xfrm>
            <a:prstGeom prst="line">
              <a:avLst/>
            </a:prstGeom>
            <a:ln cap="sq"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787320" y="5219640"/>
              <a:ext cx="1800" cy="293760"/>
            </a:xfrm>
            <a:prstGeom prst="line">
              <a:avLst/>
            </a:prstGeom>
            <a:ln cap="sq"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1101600" y="5219640"/>
              <a:ext cx="1800" cy="2937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1415880" y="5219640"/>
              <a:ext cx="1800" cy="2937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1730520" y="5219640"/>
              <a:ext cx="1440" cy="2937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2044800" y="5219640"/>
              <a:ext cx="1440" cy="2937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2359080" y="5219640"/>
              <a:ext cx="1440" cy="2937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2673360" y="5219640"/>
              <a:ext cx="1440" cy="2937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2987640" y="5219640"/>
              <a:ext cx="1800" cy="2937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3301920" y="5219640"/>
              <a:ext cx="1800" cy="293760"/>
            </a:xfrm>
            <a:prstGeom prst="line">
              <a:avLst/>
            </a:prstGeom>
            <a:ln cap="sq"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1193760" y="4940280"/>
              <a:ext cx="1752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태스크의 우선순위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2451240" y="5575320"/>
              <a:ext cx="7747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1486080" y="5575320"/>
              <a:ext cx="7999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2819520" y="5575320"/>
              <a:ext cx="0" cy="1652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1892160" y="5575320"/>
              <a:ext cx="0" cy="4572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2413080" y="5664240"/>
              <a:ext cx="2654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OSEventTbl[ ]</a:t>
              </a:r>
              <a:r>
                <a:rPr b="1" lang="ko-KR" sz="10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에서의 비트위치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1892160" y="5892840"/>
              <a:ext cx="21592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OSEventGrp </a:t>
              </a:r>
              <a:r>
                <a:rPr b="1" lang="ko-KR" sz="10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에서의 비트위치 동시에 </a:t>
              </a:r>
              <a:r>
                <a:rPr b="1" lang="ko-KR" sz="10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</a:t>
              </a:r>
              <a:r>
                <a:rPr b="1" lang="en-US" sz="10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EventTbl[  ]</a:t>
              </a:r>
              <a:r>
                <a:rPr b="1" lang="ko-KR" sz="10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에의 </a:t>
              </a:r>
              <a:r>
                <a:rPr b="1" lang="en-US" sz="1000" spc="-1" strike="noStrike">
                  <a:solidFill>
                    <a:srgbClr val="000099"/>
                  </a:solidFill>
                  <a:latin typeface="Arial"/>
                  <a:ea typeface="굴림"/>
                </a:rPr>
                <a:t>Inde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8B0B72-EB47-4923-BAC4-CE166A4B77D3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Free ECB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리스트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할당되는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의 개수는 응용프로그램에서 요구되는 세마포어나 메일박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큐의 수에 따라 다르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수는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CFG.H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 정의된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#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define OS_MAX_EVENTS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 명시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_INIT()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이 호출되면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모든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는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Free ECB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리스트라 불리는 하나의 연결 리스트에 연결된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세마포어나 메일박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큐가 생성되면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는 이 리스트로부터 삭제되고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초기화된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56" name=""/>
          <p:cNvGrpSpPr/>
          <p:nvPr/>
        </p:nvGrpSpPr>
        <p:grpSpPr>
          <a:xfrm>
            <a:off x="1155600" y="3530520"/>
            <a:ext cx="7378920" cy="2618280"/>
            <a:chOff x="1155600" y="3530520"/>
            <a:chExt cx="7378920" cy="2618280"/>
          </a:xfrm>
        </p:grpSpPr>
        <p:sp>
          <p:nvSpPr>
            <p:cNvPr id="957" name=""/>
            <p:cNvSpPr/>
            <p:nvPr/>
          </p:nvSpPr>
          <p:spPr>
            <a:xfrm>
              <a:off x="1665360" y="4272120"/>
              <a:ext cx="639720" cy="24732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1913040" y="4336920"/>
              <a:ext cx="142920" cy="128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2044800" y="4400640"/>
              <a:ext cx="6984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2836800" y="4272120"/>
              <a:ext cx="639720" cy="24732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3086280" y="4336920"/>
              <a:ext cx="142560" cy="128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3216240" y="4400640"/>
              <a:ext cx="6984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2836800" y="4519440"/>
              <a:ext cx="639720" cy="103032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4033800" y="4272120"/>
              <a:ext cx="639720" cy="24732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282920" y="4336920"/>
              <a:ext cx="141480" cy="128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4413240" y="4400640"/>
              <a:ext cx="6984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4033800" y="4519440"/>
              <a:ext cx="639720" cy="103032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5218200" y="4272120"/>
              <a:ext cx="639720" cy="24732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5467320" y="4336920"/>
              <a:ext cx="141480" cy="128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5597640" y="4400640"/>
              <a:ext cx="5317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5218200" y="4519440"/>
              <a:ext cx="639720" cy="103032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6272280" y="4400640"/>
              <a:ext cx="757080" cy="0"/>
            </a:xfrm>
            <a:prstGeom prst="line">
              <a:avLst/>
            </a:prstGeom>
            <a:ln w="93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7161120" y="4272120"/>
              <a:ext cx="638280" cy="24732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7408800" y="4336920"/>
              <a:ext cx="142920" cy="128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7539120" y="4400640"/>
              <a:ext cx="6760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7161120" y="4519440"/>
              <a:ext cx="638280" cy="103032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8178840" y="4292640"/>
              <a:ext cx="355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2836800" y="5872320"/>
              <a:ext cx="0" cy="2268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7799400" y="5872320"/>
              <a:ext cx="0" cy="2268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2836800" y="5979960"/>
              <a:ext cx="17305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6070680" y="5979960"/>
              <a:ext cx="17287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4529160" y="5872320"/>
              <a:ext cx="1630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_MAX_EVENT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1155600" y="3787920"/>
              <a:ext cx="1693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EventFreeLis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7397640" y="3659040"/>
              <a:ext cx="2127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 flipH="1">
              <a:off x="7291440" y="3659040"/>
              <a:ext cx="318960" cy="5479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6189840" y="3530520"/>
              <a:ext cx="1396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_EV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B90E2C-54F4-4DE9-8011-DA83D9206DE4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0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의 관련 함수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에서 수행되는 네 가지 공통 연산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EventWaitListInit(OS_EVENT *pevent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초기화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세마포어나 메시지 메일 박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시지 큐가 생성될 때 불리는 함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event : E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 대한 포인터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EventTaskRdy(OS_EVENT *pevent, void *msg, INT8U msk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Wait list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로 부터 가장 높은 우선순위의 태스크를 제거하고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그 태스크를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ready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상태로 만드는 함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msg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에 보내질 메시지에 대한 포인터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msk : OSTCBStat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lear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하기 위한 비트 마스크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EventTaskWait(OS_EVENT *pevent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가 이벤트를 기다리도록 한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현재 태스크를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Ready List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서 삭제하고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Wait List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 위치시키는 함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EventTo(OS_EVENT * pevent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가 이벤트 대기시 타임아웃이 발생했으면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즉 정해진 기한 내에 신호를 받지 않으면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imeTick( 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 의하여 기다리고 있는 태스크를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Ready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상태로 만드는 함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E392FD-A01B-4C8A-90DD-2F950F2640EE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태스크를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ready to run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상태로 만들기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90" name=""/>
          <p:cNvGrpSpPr/>
          <p:nvPr/>
        </p:nvGrpSpPr>
        <p:grpSpPr>
          <a:xfrm>
            <a:off x="762120" y="1320840"/>
            <a:ext cx="7835760" cy="4965120"/>
            <a:chOff x="762120" y="1320840"/>
            <a:chExt cx="7835760" cy="4965120"/>
          </a:xfrm>
        </p:grpSpPr>
        <p:grpSp>
          <p:nvGrpSpPr>
            <p:cNvPr id="991" name=""/>
            <p:cNvGrpSpPr/>
            <p:nvPr/>
          </p:nvGrpSpPr>
          <p:grpSpPr>
            <a:xfrm>
              <a:off x="4584600" y="2414520"/>
              <a:ext cx="3139920" cy="2849400"/>
              <a:chOff x="4584600" y="2414520"/>
              <a:chExt cx="3139920" cy="2849400"/>
            </a:xfrm>
          </p:grpSpPr>
          <p:sp>
            <p:nvSpPr>
              <p:cNvPr id="992" name=""/>
              <p:cNvSpPr/>
              <p:nvPr/>
            </p:nvSpPr>
            <p:spPr>
              <a:xfrm>
                <a:off x="7331040" y="4906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6938640" y="4906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6545880" y="490644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6153840" y="4906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5761440" y="4906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5369040" y="4906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4976640" y="4906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4584600" y="4906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7331040" y="4550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6938640" y="4550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6545880" y="455040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>
                <a:off x="6153840" y="4550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5761440" y="4550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5369040" y="4550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4976640" y="4550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4584600" y="4550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7331040" y="4194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6938640" y="4194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6545880" y="419436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6153840" y="4194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5761440" y="4194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5369040" y="4194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4976640" y="4194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4584600" y="4194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7331040" y="3838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6938640" y="3838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6545880" y="383832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6153840" y="3838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5761440" y="3838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5369040" y="3838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4976640" y="3838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4584600" y="3838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7331040" y="34822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6938640" y="34822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6545880" y="348228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6153840" y="34822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5761440" y="34822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5369040" y="34822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4976640" y="34822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4584600" y="34822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7331040" y="31262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6938640" y="31262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6545880" y="312624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6153840" y="31262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5761440" y="31262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5369040" y="31262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4976640" y="31262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4584600" y="31262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7331040" y="2770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6938640" y="2770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6545880" y="277020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6153840" y="2770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5761440" y="2770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5369040" y="2770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4976640" y="2770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4584600" y="2770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7331040" y="24145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6938640" y="24145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6545880" y="241452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6153840" y="24145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5761440" y="24145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5369040" y="24145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4976640" y="24145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4584600" y="24145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4584600" y="2414520"/>
                <a:ext cx="3138840" cy="144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4584600" y="277020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4584600" y="312624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4584600" y="348228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4584600" y="383832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4584600" y="419436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4584600" y="455040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4584600" y="490644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>
                <a:off x="4584600" y="5262480"/>
                <a:ext cx="3138840" cy="144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4584600" y="2414520"/>
                <a:ext cx="1440" cy="284796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4976640" y="2414520"/>
                <a:ext cx="1440" cy="28479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5369040" y="2414520"/>
                <a:ext cx="1440" cy="28479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>
                <a:off x="5761440" y="2414520"/>
                <a:ext cx="1440" cy="28479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6153840" y="2414520"/>
                <a:ext cx="1440" cy="28479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6545880" y="2414520"/>
                <a:ext cx="1440" cy="28479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6938640" y="2414520"/>
                <a:ext cx="1080" cy="28479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7331040" y="2414520"/>
                <a:ext cx="1080" cy="28479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7723440" y="2414520"/>
                <a:ext cx="1080" cy="284796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4" name=""/>
            <p:cNvGrpSpPr/>
            <p:nvPr/>
          </p:nvGrpSpPr>
          <p:grpSpPr>
            <a:xfrm>
              <a:off x="762120" y="1652760"/>
              <a:ext cx="2949480" cy="306360"/>
              <a:chOff x="762120" y="1652760"/>
              <a:chExt cx="2949480" cy="306360"/>
            </a:xfrm>
          </p:grpSpPr>
          <p:sp>
            <p:nvSpPr>
              <p:cNvPr id="1075" name=""/>
              <p:cNvSpPr/>
              <p:nvPr/>
            </p:nvSpPr>
            <p:spPr>
              <a:xfrm>
                <a:off x="3342600" y="1652760"/>
                <a:ext cx="368640" cy="30636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2973960" y="1652760"/>
                <a:ext cx="368280" cy="30636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>
                <a:off x="2605320" y="1652760"/>
                <a:ext cx="368640" cy="30636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2236680" y="1652760"/>
                <a:ext cx="368280" cy="30636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>
                <a:off x="1867680" y="1652760"/>
                <a:ext cx="368640" cy="30636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1499400" y="1652760"/>
                <a:ext cx="368280" cy="30636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>
                <a:off x="1130400" y="1652760"/>
                <a:ext cx="368640" cy="30636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762120" y="1652760"/>
                <a:ext cx="368280" cy="30636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762120" y="1652760"/>
                <a:ext cx="2949480" cy="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762120" y="1959120"/>
                <a:ext cx="2949480" cy="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762120" y="1652760"/>
                <a:ext cx="0" cy="30636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1130400" y="1652760"/>
                <a:ext cx="0" cy="3063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1499400" y="1652760"/>
                <a:ext cx="0" cy="3063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1867680" y="1652760"/>
                <a:ext cx="0" cy="3063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2236680" y="1652760"/>
                <a:ext cx="0" cy="3063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2605320" y="1652760"/>
                <a:ext cx="0" cy="3063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2973960" y="1652760"/>
                <a:ext cx="0" cy="3063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3342600" y="1652760"/>
                <a:ext cx="0" cy="3063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3711600" y="1652760"/>
                <a:ext cx="0" cy="30636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94" name=""/>
            <p:cNvSpPr/>
            <p:nvPr/>
          </p:nvSpPr>
          <p:spPr>
            <a:xfrm>
              <a:off x="3976560" y="2355840"/>
              <a:ext cx="507960" cy="29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1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2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3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4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5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6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7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 flipH="1">
              <a:off x="3533400" y="2556000"/>
              <a:ext cx="4683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 flipV="1">
              <a:off x="3521160" y="1946160"/>
              <a:ext cx="0" cy="6098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 flipH="1">
              <a:off x="3179520" y="2917800"/>
              <a:ext cx="83484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 flipV="1">
              <a:off x="3179880" y="1933560"/>
              <a:ext cx="0" cy="9842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 flipH="1">
              <a:off x="2838600" y="3281400"/>
              <a:ext cx="11635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 flipV="1">
              <a:off x="2838600" y="1945800"/>
              <a:ext cx="0" cy="13352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 flipH="1">
              <a:off x="2457360" y="3621240"/>
              <a:ext cx="15192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 flipV="1">
              <a:off x="2444760" y="1933560"/>
              <a:ext cx="0" cy="16876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 flipH="1">
              <a:off x="2064960" y="3973680"/>
              <a:ext cx="191124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 flipV="1">
              <a:off x="2065320" y="1946160"/>
              <a:ext cx="0" cy="20275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 flipH="1">
              <a:off x="1672920" y="4348080"/>
              <a:ext cx="22906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 flipV="1">
              <a:off x="1673280" y="1945800"/>
              <a:ext cx="0" cy="23907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 flipH="1">
              <a:off x="1344240" y="4687920"/>
              <a:ext cx="26067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 flipV="1">
              <a:off x="1332000" y="1946160"/>
              <a:ext cx="0" cy="27417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 flipH="1">
              <a:off x="977760" y="5051520"/>
              <a:ext cx="29736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 flipV="1">
              <a:off x="977760" y="1945800"/>
              <a:ext cx="0" cy="30942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762120" y="1320840"/>
              <a:ext cx="2909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OSEventGr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5246640" y="1379520"/>
              <a:ext cx="1790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EventTbl [ 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7724880" y="2023920"/>
              <a:ext cx="0" cy="3668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 flipH="1">
              <a:off x="5943600" y="2273400"/>
              <a:ext cx="6429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 flipH="1">
              <a:off x="6914880" y="2273400"/>
              <a:ext cx="7966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6561000" y="2097000"/>
              <a:ext cx="341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7736040" y="2414520"/>
              <a:ext cx="4935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7939080" y="2425680"/>
              <a:ext cx="0" cy="7333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7939080" y="3427560"/>
              <a:ext cx="0" cy="6429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7799400" y="3149640"/>
              <a:ext cx="316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 flipV="1">
              <a:off x="2438280" y="5231880"/>
              <a:ext cx="0" cy="5209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 flipV="1">
              <a:off x="6159600" y="5334120"/>
              <a:ext cx="0" cy="4190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2184480" y="5765760"/>
              <a:ext cx="5331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bity (2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5905440" y="5765760"/>
              <a:ext cx="533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bitx (4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6883560" y="1739880"/>
              <a:ext cx="41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(3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8191440" y="3048120"/>
              <a:ext cx="406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(1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21442E-6333-4C3C-94F9-29F3E07D65F7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Synchronization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8064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태스크들 사이에서 실행 순서를 잡을 때 사용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세마포어의 사용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상호배제를 위해서가 아니라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벤트의 발생을 알리기 위한 플래그로서 세마포어를 사용하여 어떤 태스크를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SR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또는 다른 태스크와 동기화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 경우 세마포어의 초기값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0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예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)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태스크가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I/O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연산을 시작하고 세마포어를 기다릴 때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I/O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연산이 끝나면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ISR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이나 다른 태스크가 세마포어로 신호를 보내고 태스크가 계속 진행되게 한다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커널이 이벤트를 전달하는 태스크의 선택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이벤트 발생을 기다리고 있는 태스크 중 가장 높은 우선순위의 것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7E2532-B19A-485D-8D03-00078F5670EF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Semaphor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기능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Mutual Exclusion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 :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공유 자원에의 접근 제어를 가능하게 한다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벤트 발생을 통보한다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ynchronization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 :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두개의 태스크 간 통신에서 수신과 송신 동기화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유형 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Binary semaphor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ounting semaphor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구성 요소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16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bit unsigned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정수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세마포어 카운트를 저장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 리스트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세마포어 카운트가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0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보다 크게 되기를 기다리는 태스크들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설정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세마포어 서비스를 구동하기 위해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SEM_EN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을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1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로 설정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세마포어는 사용되기 전에 먼저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SemCreate( )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 의해 생성되어야하고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세마포어의 초기 카운트를 정해야 한다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세마포어를 하나 이상의 이벤트의 발생을 나타내는데 사용시 </a:t>
            </a:r>
            <a:r>
              <a:rPr b="0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: 0</a:t>
            </a:r>
            <a:r>
              <a:rPr b="0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으로 초기화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하나의 공유 자원 접근에 사용시 </a:t>
            </a:r>
            <a:r>
              <a:rPr b="0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: 1</a:t>
            </a:r>
            <a:r>
              <a:rPr b="0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로 초기화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응용 프로그램이 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N</a:t>
            </a:r>
            <a:r>
              <a:rPr b="0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개의 동일한 자원 중 하나를 얻게 하는데 사용시 </a:t>
            </a:r>
            <a:r>
              <a:rPr b="0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N</a:t>
            </a:r>
            <a:r>
              <a:rPr b="0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으로 초기화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AC1EDB-0EE1-4053-8CA8-81611E6D0DD3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태스크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ISR,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세마포어의 관계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2" name=""/>
          <p:cNvSpPr/>
          <p:nvPr/>
        </p:nvSpPr>
        <p:spPr>
          <a:xfrm>
            <a:off x="1600200" y="2146320"/>
            <a:ext cx="1028880" cy="1028520"/>
          </a:xfrm>
          <a:prstGeom prst="ellipse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1562040" y="4343400"/>
            <a:ext cx="1104840" cy="520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6477120" y="3035160"/>
            <a:ext cx="1028520" cy="1028880"/>
          </a:xfrm>
          <a:prstGeom prst="ellipse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2616120" y="2755800"/>
            <a:ext cx="1282680" cy="54612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 flipV="1">
            <a:off x="2641680" y="3720960"/>
            <a:ext cx="1257120" cy="635040"/>
          </a:xfrm>
          <a:prstGeom prst="line">
            <a:avLst/>
          </a:prstGeom>
          <a:ln w="2844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5207040" y="3543480"/>
            <a:ext cx="1270080" cy="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4064040" y="3174840"/>
            <a:ext cx="203040" cy="20340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4165560" y="3378240"/>
            <a:ext cx="0" cy="45720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4165560" y="3632040"/>
            <a:ext cx="114480" cy="0"/>
          </a:xfrm>
          <a:prstGeom prst="line">
            <a:avLst/>
          </a:prstGeom>
          <a:ln w="507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4165560" y="3759120"/>
            <a:ext cx="114480" cy="0"/>
          </a:xfrm>
          <a:prstGeom prst="line">
            <a:avLst/>
          </a:prstGeom>
          <a:ln w="507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 flipV="1">
            <a:off x="4191120" y="3606480"/>
            <a:ext cx="12600" cy="152280"/>
          </a:xfrm>
          <a:prstGeom prst="line">
            <a:avLst/>
          </a:prstGeom>
          <a:ln w="507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4241880" y="3352680"/>
            <a:ext cx="58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또는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4863960" y="3187800"/>
            <a:ext cx="0" cy="64764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4863960" y="3238560"/>
            <a:ext cx="254160" cy="19044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1701720" y="2502000"/>
            <a:ext cx="85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6566040" y="3390840"/>
            <a:ext cx="850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1676520" y="4457880"/>
            <a:ext cx="876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S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5156280" y="2705040"/>
            <a:ext cx="13968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SemAccept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SemPend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SemQuery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2717640" y="2514600"/>
            <a:ext cx="127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SemPost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2908440" y="4178160"/>
            <a:ext cx="13968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SemPost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SemAccept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4546440" y="2247840"/>
            <a:ext cx="0" cy="63504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3759120" y="1790640"/>
            <a:ext cx="157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SemCreate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3822840" y="3898800"/>
            <a:ext cx="146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N           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84EF1C-F720-4359-9A97-4ADA353758CF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세마포어 관련 함수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1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0769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SemCreate(INT16U cnt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세마포어를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생성하는 함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nt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세마포어의 초기화된 카운트 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과정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ECB Free List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로부터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를 얻는다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Free ECB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의 연결 리스트가 다음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Free ECB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를 가리키도록 수정한다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사용 가능한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가 있다면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ECB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타입을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_EVENT_TYPE_SEM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로 세팅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세마포어의 원하는 초기 카운트는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에 저장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EventWaitListInit( 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이 불리면서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Wait List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가 초기화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SemPend(OS_EVENT *pevent, INT16U timeout, INT8U *err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세마포어를 기다리게 하는 함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event : E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 대한 포인터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imeout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타임아웃 값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err :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러값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과정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pevent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가 가리키는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가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SemCreate(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에 의해서 생성되었는지 체크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세마포어가 사용가능한지 아닌지 결정하기 위해 현재 세마포어 카운트 값 얻어옴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세마포어 카운트로 세마포어가  사용가능한지 결정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세마포어가 사용가능할 때만 카운트를 감소시킨다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원래 세마포어의 카운트를 호출자에게 반환한다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188783-E3AD-4BF3-A7B0-9579C7DBC380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세마포어 관련 함수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81277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SemPost(OS_EVENT *pevent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에게 세마포어를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전달하는 함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과정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pevent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가 가리키는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가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SemCreate(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에 의해서 생성되었는지 체크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세마포어를 기다리는 태스크가 있는지 확인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있으면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EventGrp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필드가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0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이 아니다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기다리는 태스크들 중 가장 높은 우선순위를 가진 태스크가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EventTaskRdy(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에 의해서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wait List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에서 삭제되고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ready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상태가 된다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Sched(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로 인해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ready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상태로 된 태스크가 현재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ready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상태인 태스크들 중 가장 높은 우선순위를 가지고 있는지 확인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만약 그렇다면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문맥교환이 발생하고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그렇지 않다면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Sched(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는 리턴되고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SemPost(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를 부른 태스크가 계속 수행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SemAccept(OS_EVENT *pevent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를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dormant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상태로 두지 않고 세마포어를 얻는 함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과정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pevent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가 가리키는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가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SemCreate(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에 의해서 생성되었는지 체크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세마포어가 사용가능한지 아닌지 결정하기 위해 현재 세마포어 카운트 값을 얻어온다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세마포어 카운트로 세마포어가 사용가능한지 결정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37D1B3-83E1-40A3-A258-595E440051AE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세마포어의 관련 함수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3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1560" indent="-284400">
              <a:lnSpc>
                <a:spcPct val="10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세마포어가 사용 가능할 때만 카운트를 감소시킨다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10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원래 세마포어의 카운트를 호출자에게 반환한다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SemQuery(OS_EVENT *pevent, OS_SEM_DATA *pdata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굴림"/>
                <a:ea typeface="굴림"/>
              </a:rPr>
              <a:t>응용프로그램이 세마포어로 사용되는</a:t>
            </a:r>
            <a:r>
              <a:rPr b="1" lang="en-US" sz="1600" spc="-1" strike="noStrike">
                <a:solidFill>
                  <a:srgbClr val="000099"/>
                </a:solidFill>
                <a:latin typeface="굴림"/>
                <a:ea typeface="굴림"/>
              </a:rPr>
              <a:t>ECB</a:t>
            </a:r>
            <a:r>
              <a:rPr b="1" lang="ko-KR" sz="1600" spc="-1" strike="noStrike">
                <a:solidFill>
                  <a:srgbClr val="000099"/>
                </a:solidFill>
                <a:latin typeface="굴림"/>
                <a:ea typeface="굴림"/>
              </a:rPr>
              <a:t>의 스냅샷을 찍도록 하여 세마포어 상태를 얻는 함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굴림"/>
                <a:ea typeface="굴림"/>
              </a:rPr>
              <a:t>pevent : OSSemCreate()</a:t>
            </a:r>
            <a:r>
              <a:rPr b="1" lang="ko-KR" sz="1600" spc="-1" strike="noStrike">
                <a:solidFill>
                  <a:srgbClr val="000099"/>
                </a:solidFill>
                <a:latin typeface="굴림"/>
                <a:ea typeface="굴림"/>
              </a:rPr>
              <a:t>에 의해서 반환된 세마포어 포인터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굴림"/>
                <a:ea typeface="굴림"/>
              </a:rPr>
              <a:t>pdata : </a:t>
            </a:r>
            <a:r>
              <a:rPr b="1" lang="ko-KR" sz="1600" spc="-1" strike="noStrike">
                <a:solidFill>
                  <a:srgbClr val="000099"/>
                </a:solidFill>
                <a:latin typeface="굴림"/>
                <a:ea typeface="굴림"/>
              </a:rPr>
              <a:t>세마포어의 정보를 담을 자료구조에 대한 포인터</a:t>
            </a:r>
            <a:r>
              <a:rPr b="1" lang="ko-KR" sz="1600" spc="-1" strike="noStrike">
                <a:solidFill>
                  <a:srgbClr val="000099"/>
                </a:solidFill>
                <a:latin typeface="굴림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굴림"/>
                <a:ea typeface="굴림"/>
              </a:rPr>
              <a:t>자료구조 </a:t>
            </a:r>
            <a:r>
              <a:rPr b="1" lang="en-US" sz="1600" spc="-1" strike="noStrike">
                <a:solidFill>
                  <a:srgbClr val="000099"/>
                </a:solidFill>
                <a:latin typeface="굴림"/>
                <a:ea typeface="굴림"/>
              </a:rPr>
              <a:t>OS_SEM_DATA</a:t>
            </a:r>
            <a:r>
              <a:rPr b="1" lang="ko-KR" sz="1600" spc="-1" strike="noStrike">
                <a:solidFill>
                  <a:srgbClr val="000099"/>
                </a:solidFill>
                <a:latin typeface="굴림"/>
                <a:ea typeface="굴림"/>
              </a:rPr>
              <a:t>는 현재 세마포어 카운트와 세마포어를 기다리는 태스크의 리스트를 포함</a:t>
            </a:r>
            <a:r>
              <a:rPr b="1" lang="ko-KR" sz="1600" spc="-1" strike="noStrike">
                <a:solidFill>
                  <a:srgbClr val="000099"/>
                </a:solidFill>
                <a:latin typeface="굴림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FAF9AA-94FC-46FD-BC36-32D93D5F6C58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-II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의 특징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임베디드 운영체제로써 대표적인 비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-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상용 공개형 커널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신뢰성과 안정성을 가진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작은 사이즈 – 많은 시스템에 적용가능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작은 임베디드 시스템에 탑재 가능하며 임베디드 시스템 중에서도 강력한 네트워크가 필요한 곳과 높은 성능 시스템에 사용하는 것이 적합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프로젝트에 따른 소스 코드의 절약이 가능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스택체크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처리시간 체크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Mailbox, Queue, Semaphore, Memory partition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등의 시스템 서비스 제공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인터럽트 관리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의 수행을 일시 중지하거나 재개가 가능하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인터럽트 중첩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up to 255 levels deep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단점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초기 개발 투자와 라이센스 등의 후처리 문제로 인해 마음대로 사용하거나 배포에 어려움이 있음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AC501E-60F8-4F3E-B045-798BE674208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-II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이벤트 플래그 서비스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2" name=""/>
          <p:cNvGrpSpPr/>
          <p:nvPr/>
        </p:nvGrpSpPr>
        <p:grpSpPr>
          <a:xfrm>
            <a:off x="1295280" y="2120760"/>
            <a:ext cx="6147000" cy="2599200"/>
            <a:chOff x="1295280" y="2120760"/>
            <a:chExt cx="6147000" cy="2599200"/>
          </a:xfrm>
        </p:grpSpPr>
        <p:sp>
          <p:nvSpPr>
            <p:cNvPr id="1163" name=""/>
            <p:cNvSpPr/>
            <p:nvPr/>
          </p:nvSpPr>
          <p:spPr>
            <a:xfrm>
              <a:off x="1397160" y="2222640"/>
              <a:ext cx="1028520" cy="1028520"/>
            </a:xfrm>
            <a:prstGeom prst="ellipse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1498680" y="2577960"/>
              <a:ext cx="850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태스크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1295280" y="4165560"/>
              <a:ext cx="1105200" cy="52092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1409760" y="4280040"/>
              <a:ext cx="876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IS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4991040" y="3213000"/>
              <a:ext cx="216000" cy="177840"/>
            </a:xfrm>
            <a:prstGeom prst="triangle">
              <a:avLst>
                <a:gd name="adj" fmla="val 50000"/>
              </a:avLst>
            </a:prstGeom>
            <a:solidFill>
              <a:srgbClr val="0000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 flipV="1">
              <a:off x="4991040" y="3034440"/>
              <a:ext cx="216000" cy="165240"/>
            </a:xfrm>
            <a:prstGeom prst="triangle">
              <a:avLst>
                <a:gd name="adj" fmla="val 50000"/>
              </a:avLst>
            </a:prstGeom>
            <a:solidFill>
              <a:srgbClr val="0000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6362640" y="2286000"/>
              <a:ext cx="1028880" cy="1028880"/>
            </a:xfrm>
            <a:prstGeom prst="ellipse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6464160" y="2641680"/>
              <a:ext cx="851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태스크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6337440" y="4114800"/>
              <a:ext cx="1104840" cy="52056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6451560" y="4229280"/>
              <a:ext cx="876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IS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73" name=""/>
            <p:cNvGrpSpPr/>
            <p:nvPr/>
          </p:nvGrpSpPr>
          <p:grpSpPr>
            <a:xfrm>
              <a:off x="3683160" y="3429000"/>
              <a:ext cx="1244520" cy="293400"/>
              <a:chOff x="3683160" y="3429000"/>
              <a:chExt cx="1244520" cy="293400"/>
            </a:xfrm>
          </p:grpSpPr>
          <p:sp>
            <p:nvSpPr>
              <p:cNvPr id="1174" name=""/>
              <p:cNvSpPr/>
              <p:nvPr/>
            </p:nvSpPr>
            <p:spPr>
              <a:xfrm>
                <a:off x="4772160" y="3429000"/>
                <a:ext cx="155520" cy="29340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>
                <a:off x="4616280" y="3429000"/>
                <a:ext cx="155520" cy="29340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>
                <a:off x="4460760" y="3429000"/>
                <a:ext cx="155520" cy="29340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>
                <a:off x="4305600" y="3429000"/>
                <a:ext cx="155160" cy="29340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>
                <a:off x="4149720" y="3429000"/>
                <a:ext cx="155520" cy="29340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>
                <a:off x="3994200" y="3429000"/>
                <a:ext cx="155520" cy="29340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>
                <a:off x="3838680" y="3429000"/>
                <a:ext cx="155520" cy="29340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>
                <a:off x="3683160" y="3429000"/>
                <a:ext cx="155520" cy="29340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>
                <a:off x="3683160" y="3429000"/>
                <a:ext cx="1244520" cy="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3683160" y="3722400"/>
                <a:ext cx="1244520" cy="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>
                <a:off x="3683160" y="3429000"/>
                <a:ext cx="0" cy="29340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3838680" y="3429000"/>
                <a:ext cx="0" cy="2934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3994200" y="3429000"/>
                <a:ext cx="0" cy="2934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>
                <a:off x="4149720" y="3429000"/>
                <a:ext cx="0" cy="2934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>
                <a:off x="4305600" y="3429000"/>
                <a:ext cx="0" cy="2934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4460760" y="3429000"/>
                <a:ext cx="0" cy="2934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4616280" y="3429000"/>
                <a:ext cx="0" cy="2934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4772160" y="3429000"/>
                <a:ext cx="0" cy="2934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4927680" y="3429000"/>
                <a:ext cx="0" cy="29340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93" name=""/>
            <p:cNvSpPr/>
            <p:nvPr/>
          </p:nvSpPr>
          <p:spPr>
            <a:xfrm>
              <a:off x="2400480" y="2997360"/>
              <a:ext cx="1257120" cy="5587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 flipV="1">
              <a:off x="2400480" y="3619440"/>
              <a:ext cx="1244520" cy="7365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 flipV="1">
              <a:off x="4952880" y="2945880"/>
              <a:ext cx="1397160" cy="5842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4965840" y="3657600"/>
              <a:ext cx="1384200" cy="5587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2476440" y="2158920"/>
              <a:ext cx="1447920" cy="83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FlagCreate ( 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FlagDel ( 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FlagPost ( 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5016600" y="2120760"/>
              <a:ext cx="1498680" cy="83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FlagAccept ( 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FlagPend ( 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FlagQuery ( 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3352680" y="3809880"/>
              <a:ext cx="1930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이벤트 플래그 그룹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2476440" y="4356000"/>
              <a:ext cx="1308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FlagPost ( 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4851360" y="4165560"/>
              <a:ext cx="146052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FlagAccept ( 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FlagQuery ( 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BDD09E-D774-4F3C-86F4-7421151175A8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메시지 메일 박스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개념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송신측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시지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포인터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메일 박스에 저장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수신측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시지의 도착을 일정시간 기다린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다수의 수신자 가능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시지 수신순서는 미리 정함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FCFS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우선순위 기반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설정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일박스 서비스를 구동하기 위해서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MBOX_EN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을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1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로 설정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일박스는 사용되기 전에 메시지 포인터의 초기 값을 정해주어야 한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 (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초기값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null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만약 메일 박스가 이벤트 발생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ignal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로 사용된다면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벤트가 발생하지 않았으므로 초기값은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null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일박스가 공유 자원 접근에 사용된다면 메일박스를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null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포인터가 아닌 값으로 초기화 – 메일 박스를 이진 세마포어로 사용가능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497369-BF78-4E5B-B49E-879F9A9910D3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태스크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ISR,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메일박스의 관계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5" name=""/>
          <p:cNvSpPr/>
          <p:nvPr/>
        </p:nvSpPr>
        <p:spPr>
          <a:xfrm>
            <a:off x="1600200" y="2146320"/>
            <a:ext cx="1028880" cy="1028520"/>
          </a:xfrm>
          <a:prstGeom prst="ellipse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1562040" y="4343400"/>
            <a:ext cx="1104840" cy="520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6477120" y="2959200"/>
            <a:ext cx="1028520" cy="1028520"/>
          </a:xfrm>
          <a:prstGeom prst="ellipse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2616120" y="2755800"/>
            <a:ext cx="1435320" cy="54612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 flipV="1">
            <a:off x="2641680" y="3619440"/>
            <a:ext cx="1434960" cy="736560"/>
          </a:xfrm>
          <a:prstGeom prst="line">
            <a:avLst/>
          </a:prstGeom>
          <a:ln w="2844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4800600" y="3492360"/>
            <a:ext cx="1676520" cy="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4317840" y="3137040"/>
            <a:ext cx="0" cy="64764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1701720" y="2502000"/>
            <a:ext cx="85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6566040" y="3314880"/>
            <a:ext cx="850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1676520" y="4457880"/>
            <a:ext cx="876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S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4978440" y="2527200"/>
            <a:ext cx="146052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MboxPend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MboxAccept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MboxQuery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2717640" y="2514600"/>
            <a:ext cx="1308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MboxPost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2679840" y="4305240"/>
            <a:ext cx="15112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MboxPost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MboxAccept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4381560" y="2235240"/>
            <a:ext cx="0" cy="635040"/>
          </a:xfrm>
          <a:prstGeom prst="line">
            <a:avLst/>
          </a:prstGeom>
          <a:ln w="2844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3543480" y="1727280"/>
            <a:ext cx="172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MboxCreate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4457880" y="3137040"/>
            <a:ext cx="0" cy="64764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 flipH="1">
            <a:off x="4203720" y="3124080"/>
            <a:ext cx="35568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 flipH="1">
            <a:off x="4216320" y="3772080"/>
            <a:ext cx="35568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4343400" y="3403440"/>
            <a:ext cx="88920" cy="8892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4394160" y="3454560"/>
            <a:ext cx="825480" cy="76176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5054760" y="4229280"/>
            <a:ext cx="121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3936960" y="38736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D6E020-95E6-409D-95A9-78074B0FB67D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메일 박스 관련 함수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1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MboxCreate(void *msg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일박스를 생성하는 함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msg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시지에 대한 포인터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MboxPend(OS_EVENT *pevent, INT16U timeout, INT8U *err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우편함에서 메시지가 도착하기를 기다리는 함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event : E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 대한 포인터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imeout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타임아웃 값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err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러값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MboxPost(OS_EVENT *pevent, void *msg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일 박스에 메시지를 보내는 함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MboxAccept(OS_EVENT *pevent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를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dormant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상태로 만들지 않고 메일 박스에서 메시지를 얻는 함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MboxQuery(OS_EVENT *pevent, OS_MBOX_DATA *pdata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data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일박스 정보 자료구조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602787-5964-4738-B573-3BBDCE92904A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메일 박스 관련 함수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메일 박스를 이진 세마포어로 사용하기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설정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시지 메일박스는 메일박스를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null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 아닌 포인터로 초기화함으로서 이진 세마포어로 사용될 수 있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SEM_EN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을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0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으로 설정하고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단지 메일 박스만을 구동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커니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세마포어를 요청하는 태스크는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MboxPend(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호출하고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MboxPost(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부름으로써 세마포어를 풀어 놓는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장점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응용프로그램이 이진 세마포어나 메일 박스만을 필요로 할 때 코드 양을 줄일 수 있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2C5F36-BB8C-451F-82F0-1421FE16483F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메시지 큐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Message Queue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2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8064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Mailbox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와 비슷하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메시지 송수신은 비동기적으로 이루어진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즉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수신 태스크가 메시지를 받아 볼 때까지 버퍼에 저장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메시지 큐 자료구조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큐 생성 이전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반드시 원하는 만큼의 큐 엔트리를 포함하는 포인터의 배열을 할당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배열의 시작 주소는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QCreate(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 배열의 크기와 같이 인자로서 넘어감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시지 큐 생성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큐 제어 블록을 할당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큐 제어 블록은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EVENT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 있는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EventPtr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필드를 사용하여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 연결된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Free Queue Control Block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uC/OS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가 초기화 되면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Free Queue Control Block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리스트 생성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설정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시지 큐 서비스를 구동하기 위해서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Q_EN = 1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로 설정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MAX_QS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세팅 함으로써 얼마나 많은 큐들을 지원할 것인지 결정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562755-66BE-4AE5-AD08-083CBD722F4E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태스크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ISR,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메시지 큐의 관계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4" name=""/>
          <p:cNvSpPr/>
          <p:nvPr/>
        </p:nvSpPr>
        <p:spPr>
          <a:xfrm>
            <a:off x="1244520" y="2171880"/>
            <a:ext cx="1028880" cy="1028520"/>
          </a:xfrm>
          <a:prstGeom prst="ellipse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1206360" y="4368960"/>
            <a:ext cx="1105200" cy="520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6477120" y="2959200"/>
            <a:ext cx="1028520" cy="1028520"/>
          </a:xfrm>
          <a:prstGeom prst="ellipse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2260440" y="2781360"/>
            <a:ext cx="1587600" cy="53352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 flipV="1">
            <a:off x="2286000" y="3619080"/>
            <a:ext cx="1549440" cy="762120"/>
          </a:xfrm>
          <a:prstGeom prst="line">
            <a:avLst/>
          </a:prstGeom>
          <a:ln w="2844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4800600" y="3492360"/>
            <a:ext cx="1676520" cy="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4330800" y="3137040"/>
            <a:ext cx="0" cy="64764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1346040" y="2527200"/>
            <a:ext cx="85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6566040" y="3314880"/>
            <a:ext cx="850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1320840" y="4483080"/>
            <a:ext cx="876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S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4978440" y="2527200"/>
            <a:ext cx="13968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QPend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QAccept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QQuery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2362320" y="2031840"/>
            <a:ext cx="142236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QPost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QPostFront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QFlush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2451240" y="4317840"/>
            <a:ext cx="1396800" cy="11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QPost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QPostFront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QFlush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QAccept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4305240" y="1803240"/>
            <a:ext cx="12600" cy="952560"/>
          </a:xfrm>
          <a:prstGeom prst="line">
            <a:avLst/>
          </a:prstGeom>
          <a:ln w="2844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3479760" y="1486080"/>
            <a:ext cx="172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QCreate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4457880" y="3137040"/>
            <a:ext cx="0" cy="64764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 flipH="1">
            <a:off x="3949200" y="3124080"/>
            <a:ext cx="76212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4483080" y="3403440"/>
            <a:ext cx="88920" cy="8892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4584600" y="3505320"/>
            <a:ext cx="825480" cy="76176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5194440" y="4280040"/>
            <a:ext cx="121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3886200" y="38736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 flipH="1">
            <a:off x="3949200" y="3784680"/>
            <a:ext cx="76212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4076640" y="3137040"/>
            <a:ext cx="0" cy="64764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4203720" y="3137040"/>
            <a:ext cx="0" cy="64764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4584600" y="3124080"/>
            <a:ext cx="0" cy="64800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4127400" y="2793960"/>
            <a:ext cx="419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6F96D7-B6E8-4F91-9D2F-C5B9D7A044C9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Free Queue control block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의 리스트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61" name=""/>
          <p:cNvGrpSpPr/>
          <p:nvPr/>
        </p:nvGrpSpPr>
        <p:grpSpPr>
          <a:xfrm>
            <a:off x="422280" y="1711440"/>
            <a:ext cx="8140680" cy="3292920"/>
            <a:chOff x="422280" y="1711440"/>
            <a:chExt cx="8140680" cy="3292920"/>
          </a:xfrm>
        </p:grpSpPr>
        <p:sp>
          <p:nvSpPr>
            <p:cNvPr id="1262" name=""/>
            <p:cNvSpPr/>
            <p:nvPr/>
          </p:nvSpPr>
          <p:spPr>
            <a:xfrm>
              <a:off x="1854360" y="2112840"/>
              <a:ext cx="1554120" cy="2138040"/>
            </a:xfrm>
            <a:prstGeom prst="rect">
              <a:avLst/>
            </a:prstGeom>
            <a:noFill/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1854360" y="240156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1854360" y="270324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1854360" y="300168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1854360" y="331452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1854360" y="363852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1854360" y="393984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3178080" y="2190600"/>
              <a:ext cx="157320" cy="132840"/>
            </a:xfrm>
            <a:prstGeom prst="ellipse">
              <a:avLst/>
            </a:prstGeom>
            <a:solidFill>
              <a:srgbClr val="99ff33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1914480" y="2124000"/>
              <a:ext cx="1397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Pt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1914480" y="2425680"/>
              <a:ext cx="140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Star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1914480" y="2746080"/>
              <a:ext cx="140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En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1951200" y="3973320"/>
              <a:ext cx="138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Entri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1914480" y="3046320"/>
              <a:ext cx="1420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1940040" y="3651120"/>
              <a:ext cx="138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Siz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1914480" y="3349440"/>
              <a:ext cx="1420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O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3657600" y="2112840"/>
              <a:ext cx="1554120" cy="2138040"/>
            </a:xfrm>
            <a:prstGeom prst="rect">
              <a:avLst/>
            </a:prstGeom>
            <a:noFill/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3657600" y="240156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3657600" y="270324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3657600" y="300168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3657600" y="331452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3657600" y="363852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3657600" y="393984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4981680" y="2190600"/>
              <a:ext cx="156960" cy="132840"/>
            </a:xfrm>
            <a:prstGeom prst="ellipse">
              <a:avLst/>
            </a:prstGeom>
            <a:solidFill>
              <a:srgbClr val="99ff33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3718080" y="2124000"/>
              <a:ext cx="1396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Pt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3718080" y="2425680"/>
              <a:ext cx="1407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Star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3718080" y="2746080"/>
              <a:ext cx="1407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En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3754440" y="3973320"/>
              <a:ext cx="138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Entri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3718080" y="3046320"/>
              <a:ext cx="1420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3743280" y="3651120"/>
              <a:ext cx="1382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Siz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3718080" y="3349440"/>
              <a:ext cx="1420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O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6280200" y="2112840"/>
              <a:ext cx="1554120" cy="2138040"/>
            </a:xfrm>
            <a:prstGeom prst="rect">
              <a:avLst/>
            </a:prstGeom>
            <a:noFill/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6280200" y="240156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6280200" y="270324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6280200" y="300168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6280200" y="331452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6280200" y="363852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6280200" y="393984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7604280" y="2190600"/>
              <a:ext cx="156960" cy="132840"/>
            </a:xfrm>
            <a:prstGeom prst="ellipse">
              <a:avLst/>
            </a:prstGeom>
            <a:solidFill>
              <a:srgbClr val="99ff33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6342120" y="2124000"/>
              <a:ext cx="1395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Pt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6342120" y="2425680"/>
              <a:ext cx="1407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Star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6342120" y="2746080"/>
              <a:ext cx="1407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En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6377040" y="3973320"/>
              <a:ext cx="138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Entri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6342120" y="3046320"/>
              <a:ext cx="141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6364440" y="3651120"/>
              <a:ext cx="1385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Siz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6342120" y="3349440"/>
              <a:ext cx="141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O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422280" y="2090520"/>
              <a:ext cx="1298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FreeLis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1854360" y="1733400"/>
              <a:ext cx="0" cy="2106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7823160" y="1733400"/>
              <a:ext cx="0" cy="2106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3813120" y="1711440"/>
              <a:ext cx="1701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_MAX_Q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4160880" y="4697280"/>
              <a:ext cx="958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_Q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8126280" y="2112840"/>
              <a:ext cx="436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5286240" y="1850760"/>
              <a:ext cx="25146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 flipH="1">
              <a:off x="1908000" y="1850760"/>
              <a:ext cx="21211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3317760" y="2257200"/>
              <a:ext cx="330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5146560" y="2269800"/>
              <a:ext cx="330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5578560" y="2269800"/>
              <a:ext cx="68580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107254-2837-4AE8-A66A-0DF0290F2104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메시지 큐에서의 자료구조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19" name=""/>
          <p:cNvGrpSpPr/>
          <p:nvPr/>
        </p:nvGrpSpPr>
        <p:grpSpPr>
          <a:xfrm>
            <a:off x="457200" y="1447920"/>
            <a:ext cx="8661240" cy="4073760"/>
            <a:chOff x="457200" y="1447920"/>
            <a:chExt cx="8661240" cy="4073760"/>
          </a:xfrm>
        </p:grpSpPr>
        <p:sp>
          <p:nvSpPr>
            <p:cNvPr id="1320" name=""/>
            <p:cNvSpPr/>
            <p:nvPr/>
          </p:nvSpPr>
          <p:spPr>
            <a:xfrm>
              <a:off x="723960" y="1828800"/>
              <a:ext cx="1739880" cy="2921040"/>
            </a:xfrm>
            <a:prstGeom prst="rect">
              <a:avLst/>
            </a:prstGeom>
            <a:noFill/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3708360" y="1816200"/>
              <a:ext cx="1727280" cy="1727280"/>
            </a:xfrm>
            <a:prstGeom prst="rect">
              <a:avLst/>
            </a:prstGeom>
            <a:noFill/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6692760" y="1828800"/>
              <a:ext cx="876600" cy="2946240"/>
            </a:xfrm>
            <a:prstGeom prst="rect">
              <a:avLst/>
            </a:prstGeom>
            <a:noFill/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736560" y="2070000"/>
              <a:ext cx="17146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736560" y="2311560"/>
              <a:ext cx="1714680" cy="0"/>
            </a:xfrm>
            <a:prstGeom prst="line">
              <a:avLst/>
            </a:prstGeom>
            <a:ln w="9360">
              <a:solidFill>
                <a:srgbClr val="0000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736560" y="2565360"/>
              <a:ext cx="1714680" cy="0"/>
            </a:xfrm>
            <a:prstGeom prst="line">
              <a:avLst/>
            </a:prstGeom>
            <a:ln w="936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736560" y="2793960"/>
              <a:ext cx="1714680" cy="0"/>
            </a:xfrm>
            <a:prstGeom prst="line">
              <a:avLst/>
            </a:prstGeom>
            <a:ln w="936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736560" y="3048120"/>
              <a:ext cx="1714680" cy="0"/>
            </a:xfrm>
            <a:prstGeom prst="line">
              <a:avLst/>
            </a:prstGeom>
            <a:ln w="936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736560" y="3289320"/>
              <a:ext cx="1714680" cy="0"/>
            </a:xfrm>
            <a:prstGeom prst="line">
              <a:avLst/>
            </a:prstGeom>
            <a:ln w="936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723960" y="3543480"/>
              <a:ext cx="1727280" cy="0"/>
            </a:xfrm>
            <a:prstGeom prst="line">
              <a:avLst/>
            </a:prstGeom>
            <a:ln w="936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723960" y="3797280"/>
              <a:ext cx="1727280" cy="0"/>
            </a:xfrm>
            <a:prstGeom prst="line">
              <a:avLst/>
            </a:prstGeom>
            <a:ln w="9360">
              <a:solidFill>
                <a:srgbClr val="0000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723960" y="4051440"/>
              <a:ext cx="17272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723960" y="4292640"/>
              <a:ext cx="17272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736560" y="4521240"/>
              <a:ext cx="17272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2260440" y="2070000"/>
              <a:ext cx="0" cy="1968480"/>
            </a:xfrm>
            <a:prstGeom prst="line">
              <a:avLst/>
            </a:prstGeom>
            <a:ln w="936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2044800" y="2070000"/>
              <a:ext cx="0" cy="1981440"/>
            </a:xfrm>
            <a:prstGeom prst="line">
              <a:avLst/>
            </a:prstGeom>
            <a:ln w="936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1828800" y="2070000"/>
              <a:ext cx="0" cy="1981440"/>
            </a:xfrm>
            <a:prstGeom prst="line">
              <a:avLst/>
            </a:prstGeom>
            <a:ln w="936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1612800" y="2070000"/>
              <a:ext cx="0" cy="1994040"/>
            </a:xfrm>
            <a:prstGeom prst="line">
              <a:avLst/>
            </a:prstGeom>
            <a:ln w="936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1384200" y="2070000"/>
              <a:ext cx="0" cy="1968480"/>
            </a:xfrm>
            <a:prstGeom prst="line">
              <a:avLst/>
            </a:prstGeom>
            <a:ln w="936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1168560" y="2070000"/>
              <a:ext cx="0" cy="1968480"/>
            </a:xfrm>
            <a:prstGeom prst="line">
              <a:avLst/>
            </a:prstGeom>
            <a:ln w="936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952560" y="2070000"/>
              <a:ext cx="0" cy="1968480"/>
            </a:xfrm>
            <a:prstGeom prst="line">
              <a:avLst/>
            </a:prstGeom>
            <a:ln w="936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774720" y="1879560"/>
              <a:ext cx="101520" cy="127080"/>
            </a:xfrm>
            <a:prstGeom prst="ellipse">
              <a:avLst/>
            </a:prstGeom>
            <a:solidFill>
              <a:srgbClr val="99ff33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876240" y="1790640"/>
              <a:ext cx="1498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*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  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EventPt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2235240" y="2057400"/>
              <a:ext cx="228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2031840" y="2057400"/>
              <a:ext cx="228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1816200" y="2057400"/>
              <a:ext cx="228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1600200" y="2057400"/>
              <a:ext cx="228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1371600" y="2057400"/>
              <a:ext cx="228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1143000" y="2057400"/>
              <a:ext cx="228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927000" y="2057400"/>
              <a:ext cx="228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698400" y="2057400"/>
              <a:ext cx="228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2184480" y="3784680"/>
              <a:ext cx="380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5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1968480" y="3784680"/>
              <a:ext cx="380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5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1752480" y="3784680"/>
              <a:ext cx="381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5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1549440" y="3784680"/>
              <a:ext cx="380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5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1320840" y="3784680"/>
              <a:ext cx="380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6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1092240" y="3784680"/>
              <a:ext cx="380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6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876240" y="3784680"/>
              <a:ext cx="381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6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660240" y="3784680"/>
              <a:ext cx="381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6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3708360" y="2070000"/>
              <a:ext cx="17272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3708360" y="2311560"/>
              <a:ext cx="17272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3708360" y="2552760"/>
              <a:ext cx="17272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3708360" y="2793960"/>
              <a:ext cx="17272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3708360" y="3048120"/>
              <a:ext cx="17272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3708360" y="3289320"/>
              <a:ext cx="17272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3708360" y="1803240"/>
              <a:ext cx="1498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*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          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Pt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3695760" y="2044800"/>
              <a:ext cx="1498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**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         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St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3695760" y="2273400"/>
              <a:ext cx="1498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**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         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En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3695760" y="2514600"/>
              <a:ext cx="1498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**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         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I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3695760" y="2755800"/>
              <a:ext cx="1498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**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         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Ou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3860640" y="3035160"/>
              <a:ext cx="1498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Siz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3873600" y="3276720"/>
              <a:ext cx="1498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Entr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5270400" y="1879560"/>
              <a:ext cx="101880" cy="127080"/>
            </a:xfrm>
            <a:prstGeom prst="ellipse">
              <a:avLst/>
            </a:prstGeom>
            <a:solidFill>
              <a:srgbClr val="99ff33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5270400" y="2133720"/>
              <a:ext cx="101880" cy="126720"/>
            </a:xfrm>
            <a:prstGeom prst="ellipse">
              <a:avLst/>
            </a:prstGeom>
            <a:solidFill>
              <a:srgbClr val="99ff33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5270400" y="2374920"/>
              <a:ext cx="101880" cy="127080"/>
            </a:xfrm>
            <a:prstGeom prst="ellipse">
              <a:avLst/>
            </a:prstGeom>
            <a:solidFill>
              <a:srgbClr val="99ff33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5270400" y="2616120"/>
              <a:ext cx="101880" cy="127080"/>
            </a:xfrm>
            <a:prstGeom prst="ellipse">
              <a:avLst/>
            </a:prstGeom>
            <a:solidFill>
              <a:srgbClr val="99ff33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5270400" y="2857680"/>
              <a:ext cx="101880" cy="126720"/>
            </a:xfrm>
            <a:prstGeom prst="ellipse">
              <a:avLst/>
            </a:prstGeom>
            <a:solidFill>
              <a:srgbClr val="99ff33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6692760" y="2552760"/>
              <a:ext cx="863640" cy="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6692760" y="4076640"/>
              <a:ext cx="863640" cy="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6692760" y="2552760"/>
              <a:ext cx="876600" cy="152388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7632720" y="1828800"/>
              <a:ext cx="11304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7632720" y="4775040"/>
              <a:ext cx="110484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7632720" y="2552760"/>
              <a:ext cx="4572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7632720" y="4076640"/>
              <a:ext cx="4572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7988400" y="3492360"/>
              <a:ext cx="0" cy="5842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 flipV="1">
              <a:off x="7988400" y="2552760"/>
              <a:ext cx="0" cy="6350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 flipV="1">
              <a:off x="8636040" y="1816200"/>
              <a:ext cx="0" cy="16891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8648640" y="3809880"/>
              <a:ext cx="0" cy="9651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7518240" y="3213000"/>
              <a:ext cx="104148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Entrie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8178840" y="3530520"/>
              <a:ext cx="9396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Siz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5435640" y="2184480"/>
              <a:ext cx="2667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 flipV="1">
              <a:off x="5715000" y="1802880"/>
              <a:ext cx="0" cy="3812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5715000" y="1803240"/>
              <a:ext cx="9018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5448240" y="2425680"/>
              <a:ext cx="2667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5727600" y="2425680"/>
              <a:ext cx="0" cy="23367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5727600" y="4775040"/>
              <a:ext cx="9144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5435640" y="2679840"/>
              <a:ext cx="7621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6197760" y="2679840"/>
              <a:ext cx="0" cy="13842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6210360" y="4064040"/>
              <a:ext cx="431640" cy="0"/>
            </a:xfrm>
            <a:prstGeom prst="line">
              <a:avLst/>
            </a:prstGeom>
            <a:ln w="93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5435640" y="2921040"/>
              <a:ext cx="9018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 flipV="1">
              <a:off x="6337440" y="2552400"/>
              <a:ext cx="0" cy="3682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6337440" y="2540160"/>
              <a:ext cx="2793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3479760" y="1943280"/>
              <a:ext cx="2034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3467160" y="1943280"/>
              <a:ext cx="0" cy="31748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 flipH="1">
              <a:off x="457200" y="5118120"/>
              <a:ext cx="29973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457200" y="1930320"/>
              <a:ext cx="0" cy="31878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457200" y="1930320"/>
              <a:ext cx="2541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851040" y="4025880"/>
              <a:ext cx="1434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EventC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876240" y="4241880"/>
              <a:ext cx="1435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EventTyp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876240" y="4483080"/>
              <a:ext cx="1435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EventG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2514600" y="2070000"/>
              <a:ext cx="3301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2514600" y="4038480"/>
              <a:ext cx="3301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 flipV="1">
              <a:off x="2717640" y="2069640"/>
              <a:ext cx="0" cy="9399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2717640" y="3301920"/>
              <a:ext cx="0" cy="7365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2400480" y="3009960"/>
              <a:ext cx="11430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EventTbl[ ]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914400" y="1498680"/>
              <a:ext cx="132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_EV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3898800" y="1486080"/>
              <a:ext cx="132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_Q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7124760" y="4775040"/>
              <a:ext cx="0" cy="5972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 flipH="1">
              <a:off x="6883560" y="5372280"/>
              <a:ext cx="2412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4254480" y="5245200"/>
              <a:ext cx="2666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응용 프로그램에서 할당한 배열 공간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2324160" y="4152960"/>
              <a:ext cx="380880" cy="279360"/>
            </a:xfrm>
            <a:prstGeom prst="line">
              <a:avLst/>
            </a:prstGeom>
            <a:ln w="93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2527200" y="4457880"/>
              <a:ext cx="863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사용 안함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6248520" y="1447920"/>
              <a:ext cx="1828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void * MsgTbl[ 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C09A87-3490-4031-8D8A-C0E57462D297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원형 버퍼로 구현된 메시지 큐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각 엔트리는 메시지에 대한 포인터를 가진다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큐가 꽉 차지 않았으면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다음 메시지에 대한 포인터는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QIn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에 의해 가리켜지는 엔트리에서 소비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FIFO queue : OSQIn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에 포인터를 저장하는 것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LIFO queue : OSQOut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이전의 엔트리에 포인터를 저장하는 것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QEntries == OSQSize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일 때 포인터는 꽉찬 것으로 간주한다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메시지 포인터는 항상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QOut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에 의해서 가리켜지는 엔트리로부터 추출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QStart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와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QEnd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는 배열의 처음과 끝을 나타낸다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25" name=""/>
          <p:cNvGrpSpPr/>
          <p:nvPr/>
        </p:nvGrpSpPr>
        <p:grpSpPr>
          <a:xfrm>
            <a:off x="2082960" y="3886200"/>
            <a:ext cx="5587920" cy="2875680"/>
            <a:chOff x="2082960" y="3886200"/>
            <a:chExt cx="5587920" cy="2875680"/>
          </a:xfrm>
        </p:grpSpPr>
        <p:sp>
          <p:nvSpPr>
            <p:cNvPr id="1426" name=""/>
            <p:cNvSpPr/>
            <p:nvPr/>
          </p:nvSpPr>
          <p:spPr>
            <a:xfrm>
              <a:off x="4229280" y="4228920"/>
              <a:ext cx="1892160" cy="1841400"/>
            </a:xfrm>
            <a:prstGeom prst="donut">
              <a:avLst>
                <a:gd name="adj" fmla="val 28319"/>
              </a:avLst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5410080" y="5473440"/>
              <a:ext cx="368280" cy="4064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5549760" y="5333760"/>
              <a:ext cx="495360" cy="1526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5613480" y="5105160"/>
              <a:ext cx="4824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4330800" y="4787640"/>
              <a:ext cx="457200" cy="1526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 flipV="1">
              <a:off x="4267080" y="5219280"/>
              <a:ext cx="482760" cy="507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2" name=""/>
            <p:cNvSpPr/>
            <p:nvPr/>
          </p:nvSpPr>
          <p:spPr>
            <a:xfrm flipV="1">
              <a:off x="4432320" y="5435640"/>
              <a:ext cx="431640" cy="2664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 flipH="1" flipV="1">
              <a:off x="5244840" y="5549760"/>
              <a:ext cx="88920" cy="5205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 flipH="1">
              <a:off x="4774680" y="5549760"/>
              <a:ext cx="279720" cy="4572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 flipV="1">
              <a:off x="5511960" y="4660560"/>
              <a:ext cx="469800" cy="2286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 flipH="1">
              <a:off x="6044760" y="5727600"/>
              <a:ext cx="6987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6680160" y="5562360"/>
              <a:ext cx="99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4648320" y="4991040"/>
              <a:ext cx="1066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Siz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4648320" y="4419360"/>
              <a:ext cx="330120" cy="3812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5168880" y="4216320"/>
              <a:ext cx="0" cy="5461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 flipH="1">
              <a:off x="5346720" y="4356000"/>
              <a:ext cx="279360" cy="4446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 flipH="1">
              <a:off x="4648320" y="4076640"/>
              <a:ext cx="279360" cy="2538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4940280" y="4064040"/>
              <a:ext cx="8254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4381560" y="4279680"/>
              <a:ext cx="0" cy="3049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3784680" y="4279680"/>
              <a:ext cx="5968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5473800" y="3886200"/>
              <a:ext cx="1638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En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2552760" y="4101840"/>
              <a:ext cx="1193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Star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5803920" y="5892840"/>
              <a:ext cx="266760" cy="2919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5270400" y="6454800"/>
              <a:ext cx="196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Point to messag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5435640" y="5918040"/>
              <a:ext cx="88920" cy="5842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 flipV="1">
              <a:off x="3543480" y="5282640"/>
              <a:ext cx="634680" cy="889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2730600" y="4863960"/>
              <a:ext cx="75960" cy="203400"/>
            </a:xfrm>
            <a:prstGeom prst="line">
              <a:avLst/>
            </a:prstGeom>
            <a:ln w="9360">
              <a:solidFill>
                <a:srgbClr val="0000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2806560" y="5079960"/>
              <a:ext cx="1308240" cy="0"/>
            </a:xfrm>
            <a:prstGeom prst="line">
              <a:avLst/>
            </a:prstGeom>
            <a:ln w="9360">
              <a:solidFill>
                <a:srgbClr val="000099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2082960" y="4546440"/>
              <a:ext cx="1307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O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2209680" y="5244840"/>
              <a:ext cx="1308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O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3048120" y="5537160"/>
              <a:ext cx="38160" cy="1396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 flipV="1">
              <a:off x="3086280" y="5447880"/>
              <a:ext cx="1130040" cy="2286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3784680" y="5333760"/>
              <a:ext cx="2158920" cy="1055880"/>
            </a:xfrm>
            <a:custGeom>
              <a:avLst/>
              <a:gdLst/>
              <a:ahLst/>
              <a:rect l="l" t="t" r="r" b="b"/>
              <a:pathLst>
                <a:path w="1360" h="665">
                  <a:moveTo>
                    <a:pt x="0" y="0"/>
                  </a:moveTo>
                  <a:cubicBezTo>
                    <a:pt x="12" y="36"/>
                    <a:pt x="40" y="156"/>
                    <a:pt x="72" y="216"/>
                  </a:cubicBezTo>
                  <a:cubicBezTo>
                    <a:pt x="104" y="276"/>
                    <a:pt x="148" y="316"/>
                    <a:pt x="192" y="360"/>
                  </a:cubicBezTo>
                  <a:cubicBezTo>
                    <a:pt x="236" y="404"/>
                    <a:pt x="281" y="443"/>
                    <a:pt x="336" y="480"/>
                  </a:cubicBezTo>
                  <a:cubicBezTo>
                    <a:pt x="391" y="517"/>
                    <a:pt x="459" y="556"/>
                    <a:pt x="520" y="584"/>
                  </a:cubicBezTo>
                  <a:cubicBezTo>
                    <a:pt x="581" y="612"/>
                    <a:pt x="639" y="635"/>
                    <a:pt x="704" y="648"/>
                  </a:cubicBezTo>
                  <a:cubicBezTo>
                    <a:pt x="769" y="661"/>
                    <a:pt x="845" y="665"/>
                    <a:pt x="912" y="664"/>
                  </a:cubicBezTo>
                  <a:cubicBezTo>
                    <a:pt x="979" y="663"/>
                    <a:pt x="1047" y="655"/>
                    <a:pt x="1104" y="640"/>
                  </a:cubicBezTo>
                  <a:cubicBezTo>
                    <a:pt x="1161" y="625"/>
                    <a:pt x="1213" y="605"/>
                    <a:pt x="1256" y="576"/>
                  </a:cubicBezTo>
                  <a:cubicBezTo>
                    <a:pt x="1299" y="547"/>
                    <a:pt x="1338" y="487"/>
                    <a:pt x="1360" y="464"/>
                  </a:cubicBezTo>
                </a:path>
              </a:pathLst>
            </a:custGeom>
            <a:noFill/>
            <a:ln w="9360">
              <a:solidFill>
                <a:srgbClr val="000099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 flipH="1">
              <a:off x="4165560" y="6146640"/>
              <a:ext cx="139680" cy="2034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3556080" y="6311880"/>
              <a:ext cx="1307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Entri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4533840" y="5384520"/>
              <a:ext cx="88920" cy="88920"/>
            </a:xfrm>
            <a:prstGeom prst="ellipse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4699080" y="5676840"/>
              <a:ext cx="88920" cy="88920"/>
            </a:xfrm>
            <a:prstGeom prst="ellipse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5054760" y="5829120"/>
              <a:ext cx="88920" cy="88920"/>
            </a:xfrm>
            <a:prstGeom prst="ellipse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5372280" y="5816520"/>
              <a:ext cx="88560" cy="88920"/>
            </a:xfrm>
            <a:prstGeom prst="ellipse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7A9BE0-0502-4B6F-B1F8-26DBF3A963A1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-II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파일 구조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562040" y="1422360"/>
            <a:ext cx="5651640" cy="54612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562040" y="2082960"/>
            <a:ext cx="2768760" cy="1981080"/>
          </a:xfrm>
          <a:prstGeom prst="rect">
            <a:avLst/>
          </a:prstGeom>
          <a:solidFill>
            <a:srgbClr val="ccff33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457880" y="2082960"/>
            <a:ext cx="2755800" cy="1993680"/>
          </a:xfrm>
          <a:prstGeom prst="rect">
            <a:avLst/>
          </a:prstGeom>
          <a:solidFill>
            <a:srgbClr val="ccff33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562040" y="4203720"/>
            <a:ext cx="5651640" cy="851040"/>
          </a:xfrm>
          <a:prstGeom prst="rect">
            <a:avLst/>
          </a:prstGeom>
          <a:solidFill>
            <a:srgbClr val="ccff33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87600" y="5435640"/>
            <a:ext cx="5638680" cy="0"/>
          </a:xfrm>
          <a:prstGeom prst="line">
            <a:avLst/>
          </a:prstGeom>
          <a:ln w="9360">
            <a:solidFill>
              <a:srgbClr val="0000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562040" y="5727600"/>
            <a:ext cx="2806920" cy="41904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483080" y="5727600"/>
            <a:ext cx="2730600" cy="41904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806560" y="1574640"/>
            <a:ext cx="318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응용 프로그램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사용자 코드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650960" y="2120760"/>
            <a:ext cx="2629080" cy="194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uC/OS-II (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프로세서 독립적인 코드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_CORE.C     OS_FLAG.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_MBOX.C     OS_MEM.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_MUTEX.C         OS_Q.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_SEM.C       OS_TASK.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_TIME.C         UCOS_II.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UCOS_II.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33840" y="2273400"/>
            <a:ext cx="2603520" cy="13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uC/OS-II 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설정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응용 프로그램에 의존적인 상수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_CFG.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INCLUDES.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612800" y="4356000"/>
            <a:ext cx="54993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UC/OS-II 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포트 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프로세서 의존적인 코드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_CPU.H                OS_CPU_A.ASM               OS_CPU_C.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650960" y="5778360"/>
            <a:ext cx="26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P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533840" y="5765760"/>
            <a:ext cx="260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타이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7600" y="5168880"/>
            <a:ext cx="14860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소프트 웨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하드웨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436BBD-2DDB-4650-983B-CEAD75BBCA2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5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메시지 큐 관련 함수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1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6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QCreate(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시지 큐를 생성하는 코드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전에 메시지를 담을 포인터 배열이 할당되어야 한다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배열은 포인터의 배열로써 선언되어야 한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EVENT *OSQCreate(void **start, INT16U size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QPend(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시지가 큐에 도착하기를 기다리는 코드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void *OSQPend(OS_EVENT *pevent, INT16U timeout, INT8U *er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QPost(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큐에 있는 메시지를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FIFO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형식으로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deposit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하는 코드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NT8U OSQPost(OS_EVENT *pevent, void *msg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QPostFront(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것은 다음 삽입될 엔트리에 대한 포인터로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QIn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대신에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QOut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을 사용하여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LIFO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구현한다는 것을 제외하고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기본적으로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QPost(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와 동일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NT8U OSQPostFront(OS_EVENT *pevent, void *msg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F265B0-AC9D-4960-AAB3-F6F643DB28C5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메시지 큐 관련 함수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8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QAccept(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를 수면상태에 둘 필요 없이 큐로부터 메시지를 얻는 함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Void *OSQAccept(OS_EVENT *pevent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QFlush(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큐에 배달된 모든 메시지를 삭제하고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기본적으로 새로운 큐에서 다시 시작하게 하는 함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NT8U OSQFlush(OS_EVENT *pevent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QQuery(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응용프로그램이 메시지 큐의 스냅 샷을 찍도록 하는 함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NT8U OSQQuery(OS_EVENT *pevent, OS_Q_DATA *pdata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6D723C-EA8B-4083-845E-A18767DB2F64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Configuration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0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C/OS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의 설정은 다음과 같은 단계를 거친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UCOS.H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내의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#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define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값을 고친다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99ff33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IDLE_TASK_STACK_SIZ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99ff33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MAX_TASK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99ff33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MAX_EVEN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99ff33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MAX_QUEU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99ff33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uCO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TimeTik()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을 호출하는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ISR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을 작성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Context switch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코드인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_TASK_SW()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에 대하여 인터럽트 벡터를 할당 및 설정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Tick ISR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에 대한 인터럽트 벡터를 할당 및 설정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Start()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를 호출하기 전에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main()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에서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Init()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을 호출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Semaphore, mailbox, queue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를 생성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태스크 스택 영역을 할당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태스크 중 하나를 생성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멀티 태스킹을 행할 준비가 되면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Start()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를 호출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B3A3D1-D2D5-4F49-9DFA-EC070BF2E230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실시간 운영체제 프로그래밍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2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uC/OS-II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Porting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uC/OS-II 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에서의 응용 프로그램 예제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3" name=""/>
          <p:cNvSpPr/>
          <p:nvPr/>
        </p:nvSpPr>
        <p:spPr>
          <a:xfrm>
            <a:off x="3186360" y="2612880"/>
            <a:ext cx="2695320" cy="58068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cc"/>
                </a:solidFill>
                <a:latin typeface="Arial"/>
                <a:ea typeface="굴림"/>
              </a:rPr>
              <a:t>개발키트에 따라 내용이 달라질 수 있으므로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cc"/>
                </a:solidFill>
                <a:latin typeface="Arial"/>
                <a:ea typeface="굴림"/>
              </a:rPr>
              <a:t>사용하는 보드에 따라 접근하시기 바람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F28993-EAC7-449A-A240-9D20ADB16B19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4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-II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구성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5" name="PlaceHolder 2"/>
          <p:cNvSpPr>
            <a:spLocks noGrp="1"/>
          </p:cNvSpPr>
          <p:nvPr>
            <p:ph/>
          </p:nvPr>
        </p:nvSpPr>
        <p:spPr>
          <a:xfrm>
            <a:off x="761760" y="131400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uC/OS-II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의 소스 트리구조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6" name=""/>
          <p:cNvGrpSpPr/>
          <p:nvPr/>
        </p:nvGrpSpPr>
        <p:grpSpPr>
          <a:xfrm>
            <a:off x="1168560" y="1778040"/>
            <a:ext cx="3884040" cy="4330800"/>
            <a:chOff x="1168560" y="1778040"/>
            <a:chExt cx="3884040" cy="4330800"/>
          </a:xfrm>
        </p:grpSpPr>
        <p:pic>
          <p:nvPicPr>
            <p:cNvPr id="1477" name="ucos_sourcetree" descr=""/>
            <p:cNvPicPr/>
            <p:nvPr/>
          </p:nvPicPr>
          <p:blipFill>
            <a:blip r:embed="rId1">
              <a:lum contrast="6000"/>
            </a:blip>
            <a:stretch/>
          </p:blipFill>
          <p:spPr>
            <a:xfrm>
              <a:off x="1373040" y="1968480"/>
              <a:ext cx="3679560" cy="401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8" name=""/>
            <p:cNvSpPr/>
            <p:nvPr/>
          </p:nvSpPr>
          <p:spPr>
            <a:xfrm>
              <a:off x="1168560" y="1778040"/>
              <a:ext cx="3695400" cy="4330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9" name=""/>
          <p:cNvSpPr/>
          <p:nvPr/>
        </p:nvSpPr>
        <p:spPr>
          <a:xfrm>
            <a:off x="4997520" y="4962600"/>
            <a:ext cx="3711600" cy="82404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MingLiU"/>
              </a:rPr>
              <a:t>※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uC/OS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가 컴파일 되서 동작되기 위해서는 프로세서에 의존적인 커널파일과 프로세서에 독립적인 커널 파일 그리고 애플리케이션으로 나눌 수 있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419AB8-9A77-49E7-8DA3-44F5AFFF7813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0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-II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구성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PlaceHolder 2"/>
          <p:cNvSpPr>
            <a:spLocks noGrp="1"/>
          </p:cNvSpPr>
          <p:nvPr>
            <p:ph/>
          </p:nvPr>
        </p:nvSpPr>
        <p:spPr>
          <a:xfrm>
            <a:off x="761760" y="136476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프로세서에 의존적 커널 파일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프로세서에 독립적 커널 파일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482" name=""/>
          <p:cNvGraphicFramePr/>
          <p:nvPr/>
        </p:nvGraphicFramePr>
        <p:xfrm>
          <a:off x="1562040" y="1739880"/>
          <a:ext cx="6362640" cy="1879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62040" y="1739880"/>
                    <a:ext cx="6362640" cy="187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84" name=""/>
          <p:cNvGraphicFramePr/>
          <p:nvPr/>
        </p:nvGraphicFramePr>
        <p:xfrm>
          <a:off x="1562040" y="4124160"/>
          <a:ext cx="6364440" cy="19558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4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62040" y="4124160"/>
                    <a:ext cx="6364440" cy="195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0FE2B9-21F7-4C07-B83A-E8BF9B9FB523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-II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구성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3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PlaceHolder 2"/>
          <p:cNvSpPr>
            <a:spLocks noGrp="1"/>
          </p:cNvSpPr>
          <p:nvPr>
            <p:ph/>
          </p:nvPr>
        </p:nvSpPr>
        <p:spPr>
          <a:xfrm>
            <a:off x="761760" y="136476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기타 파일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488" name=""/>
          <p:cNvGraphicFramePr/>
          <p:nvPr/>
        </p:nvGraphicFramePr>
        <p:xfrm>
          <a:off x="1558800" y="1746360"/>
          <a:ext cx="6367680" cy="234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58800" y="1746360"/>
                    <a:ext cx="6367680" cy="23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948313-56D0-4BA6-99F0-9586920B0644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Task Scheduling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기능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1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PlaceHolder 2"/>
          <p:cNvSpPr>
            <a:spLocks noGrp="1"/>
          </p:cNvSpPr>
          <p:nvPr>
            <p:ph/>
          </p:nvPr>
        </p:nvSpPr>
        <p:spPr>
          <a:xfrm>
            <a:off x="461520" y="1364760"/>
            <a:ext cx="844884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Multi-Tas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여러 가지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task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를 동시에 실행시킨다는 것을 의미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CPU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의 관점에서는 어느 한 시점에 하나의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task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만이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CPU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를 점유하고 있으며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각각의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task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가 서로의 영향을 받지않고 일정한 시간간격으로 독립적으로 수행되는 것이다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scheduling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이란 이러한 여러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task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들을 특정 시간 간격으로 번갈아 가며 실행 시키는 것을 말한다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uC/OS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에서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scheduling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은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task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내에서의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system call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또는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CPU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에서 발생하는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interrupt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에 의해서 발생될 수 있다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2" name=""/>
          <p:cNvSpPr/>
          <p:nvPr/>
        </p:nvSpPr>
        <p:spPr>
          <a:xfrm>
            <a:off x="1397160" y="4756320"/>
            <a:ext cx="6976800" cy="64260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MingLiU"/>
              </a:rPr>
              <a:t>system call :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Sched()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함수를 호출하여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READY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상태의 차 순위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task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를 찾게 된다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CF5782-DCD8-4C35-8E89-D5E660C8C9B8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3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Task Scheduling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기능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4" name="PlaceHolder 2"/>
          <p:cNvSpPr>
            <a:spLocks noGrp="1"/>
          </p:cNvSpPr>
          <p:nvPr>
            <p:ph/>
          </p:nvPr>
        </p:nvSpPr>
        <p:spPr>
          <a:xfrm>
            <a:off x="461520" y="1364760"/>
            <a:ext cx="844884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Context Switch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1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과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2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라는 두 가지의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가 있다고 가정 하고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1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 수행 하고 나서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2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가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witching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되는 시점을 생각해 보자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1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PU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점유하는 동안 관련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register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들을 변경시킬 테고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2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가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PU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점유하려 할 때는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1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 벌린 일들이 널려 있을 것이다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따라서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2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는 최종적으로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PU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점유하고 있었을 때의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register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환경을 복구할 것 이고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1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은 다음 번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cheduling time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PU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환경을 복구하기 위해 자기가 벌려놓은 일을 저장 하게 된다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를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ontext switching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라 한다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nterrupt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동작도 이러한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ontext switching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방법을 사용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SP(Stack Pointer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ontext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는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P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사용하여 저장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cheduling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라는 것은 바로 이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P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이용하는 것으로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P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와 관련된 대표적 명령이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ush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와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op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다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(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러한 명령들을 사용하여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ontext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들을 저장하거나 불러오게 된다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uC/OS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서는 각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당 한 개의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tack memory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가짐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각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ontext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보관하기 위해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1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과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2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라는 두 가지의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가 있고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1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서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2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로의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witching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시 처리되는 내용을 살펴보면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Sched()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함수에 의해 결국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uC/OS source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tart.asm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파일의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CtxSw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함수가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 switching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을 수행하게 된다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D995F9-F88C-4BFA-9A50-67E873C2E6C3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5" name="ucos_실행환경" descr=""/>
          <p:cNvPicPr/>
          <p:nvPr/>
        </p:nvPicPr>
        <p:blipFill>
          <a:blip r:embed="rId1"/>
          <a:stretch/>
        </p:blipFill>
        <p:spPr>
          <a:xfrm>
            <a:off x="290520" y="2144880"/>
            <a:ext cx="4513320" cy="3450960"/>
          </a:xfrm>
          <a:prstGeom prst="rect">
            <a:avLst/>
          </a:prstGeom>
          <a:ln w="0">
            <a:noFill/>
          </a:ln>
        </p:spPr>
      </p:pic>
      <p:sp>
        <p:nvSpPr>
          <p:cNvPr id="1496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Task Scheduling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기능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3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7" name="PlaceHolder 2"/>
          <p:cNvSpPr>
            <a:spLocks noGrp="1"/>
          </p:cNvSpPr>
          <p:nvPr>
            <p:ph/>
          </p:nvPr>
        </p:nvSpPr>
        <p:spPr>
          <a:xfrm>
            <a:off x="761760" y="136476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uC/OS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Task Scheduling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기능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Xscale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의 경우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8" name=""/>
          <p:cNvSpPr/>
          <p:nvPr/>
        </p:nvSpPr>
        <p:spPr>
          <a:xfrm>
            <a:off x="4684680" y="2217600"/>
            <a:ext cx="4313160" cy="349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190440" indent="-1904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1. Task1 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실행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2. Task1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의 현재 실행 번지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PC(Program Counter) 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및 주요 제어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register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를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stack memory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에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push 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한다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3. General register(Task1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의 실행 환경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) 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들을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stack  memory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에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push 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한다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4. 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현재의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SP(task1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stack memory address)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를 저장 한다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각각의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task 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들은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TCB(Task Control Block)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란 것을 유지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즉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task1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TCB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에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SP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를 저장합니다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5. SP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를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task2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TCB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에 저장된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stack memory address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로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setting 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한다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6. General register(Task2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의 실행환경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들을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stack memory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로 부터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pop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한다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7. PC(Program Counter) 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및 주요 제어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register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를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stack memory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로부터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pop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한다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8. Task2 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가 실행된다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251D11-9DF6-496B-8B21-37438A985775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-II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에서의 태스크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Task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무한루프 또는 실행이 끝나면 스스로를 제거하는 함수로 구성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무한루프 함수는 인터럽트에 의해 선점되어 높은 우선순위의 태스크 실행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총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64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개의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task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를 가질 수 있고 이 중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56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개의 태스크를 사용자가 생성 가능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사용자가 생성하는 각 태스크는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4, … ,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_LOWEST_PRIO- 4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의 범위에서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Task ID(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유일한 우선 순위 값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로 할당 받음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여기서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_LOWEST_PRIO = 63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태스크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ID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역할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값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Level)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이 낮으면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Priority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는 높아짐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Task Id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는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TaskChangePrio()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와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TaskDel()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커널 서비스에 의하여 사용됨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실행준비가 된 태스크 중 가장 높은 우선순위의 것을 실행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B8CA6B-C0E4-426A-8E85-351D7B94B85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포팅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PlaceHolder 2"/>
          <p:cNvSpPr>
            <a:spLocks noGrp="1"/>
          </p:cNvSpPr>
          <p:nvPr>
            <p:ph/>
          </p:nvPr>
        </p:nvSpPr>
        <p:spPr>
          <a:xfrm>
            <a:off x="761760" y="131400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의존적 커널 파일 수정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_cpu.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변수형 선언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Stack Entry Siz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501" name=""/>
          <p:cNvGraphicFramePr/>
          <p:nvPr/>
        </p:nvGraphicFramePr>
        <p:xfrm>
          <a:off x="1954080" y="2438280"/>
          <a:ext cx="5913720" cy="1985760"/>
        </p:xfrm>
        <a:graphic>
          <a:graphicData uri="http://schemas.openxmlformats.org/drawingml/2006/table">
            <a:tbl>
              <a:tblPr/>
              <a:tblGrid>
                <a:gridCol w="5913720"/>
              </a:tblGrid>
              <a:tr h="1996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ypedef unsigned char  BOOLEAN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ypedef unsigned char  INT8U;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Unsigned  8 bit quantity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ypedef signed   char  INT8S;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Signed    8 bit quantity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ypedef unsigned short INT16U;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Unsigned 16 bit quantity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ypedef signed   short INT16S;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Signed   16 bit quantity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ypedef unsigned long  INT32U;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Unsigned 32 bit quantity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ypedef signed   long  INT32S;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Signed   32 bit quantity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ypedef float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FP32;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Single precision floating point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ypedef double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FP64;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Double precision floating point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02" name=""/>
          <p:cNvGraphicFramePr/>
          <p:nvPr/>
        </p:nvGraphicFramePr>
        <p:xfrm>
          <a:off x="1954080" y="5075280"/>
          <a:ext cx="5913720" cy="709560"/>
        </p:xfrm>
        <a:graphic>
          <a:graphicData uri="http://schemas.openxmlformats.org/drawingml/2006/table">
            <a:tbl>
              <a:tblPr/>
              <a:tblGrid>
                <a:gridCol w="5913720"/>
              </a:tblGrid>
              <a:tr h="71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ypedef unsigned int  OS_STK; 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Each stack entry is 32-bit wide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ypedef unsigned int  OS_CPU_SR;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Define size of CPU statu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register (PSW = 16 bits) */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B0BDF9-3AA2-4010-A6A9-F2B0A16CBAEB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포팅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4" name="PlaceHolder 2"/>
          <p:cNvSpPr>
            <a:spLocks noGrp="1"/>
          </p:cNvSpPr>
          <p:nvPr>
            <p:ph/>
          </p:nvPr>
        </p:nvSpPr>
        <p:spPr>
          <a:xfrm>
            <a:off x="761760" y="122832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Stack Memory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의 증가 방향 설정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4" marL="194796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2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Global Interrupt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Enable/Disable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방법 정의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505" name=""/>
          <p:cNvGraphicFramePr/>
          <p:nvPr/>
        </p:nvGraphicFramePr>
        <p:xfrm>
          <a:off x="1954080" y="1538280"/>
          <a:ext cx="5913720" cy="284040"/>
        </p:xfrm>
        <a:graphic>
          <a:graphicData uri="http://schemas.openxmlformats.org/drawingml/2006/table">
            <a:tbl>
              <a:tblPr/>
              <a:tblGrid>
                <a:gridCol w="5913720"/>
              </a:tblGrid>
              <a:tr h="28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define OS_STK_GROWTH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06" name=""/>
          <p:cNvGraphicFramePr/>
          <p:nvPr/>
        </p:nvGraphicFramePr>
        <p:xfrm>
          <a:off x="1954080" y="3365640"/>
          <a:ext cx="5913720" cy="2162160"/>
        </p:xfrm>
        <a:graphic>
          <a:graphicData uri="http://schemas.openxmlformats.org/drawingml/2006/table">
            <a:tbl>
              <a:tblPr/>
              <a:tblGrid>
                <a:gridCol w="5913720"/>
              </a:tblGrid>
              <a:tr h="2162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define  OS_CRITICAL_METHOD    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if      OS_CRITICAL_METHOD == 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define  OS_ENTER_CRITICAL()  asm  CLI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Disable interrupts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define  OS_EXIT_CRITICAL()   asm  STI   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Enable  interrupts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endi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if      OS_CRITICAL_METHOD == 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define  OS_ENTER_CRITICAL()   OST0_Interrupt_Mask_Disable(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define  OS_EXIT_CRITICAL()   OST0_Interrupt_Mask_Enable(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endif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07" name=""/>
          <p:cNvSpPr/>
          <p:nvPr/>
        </p:nvSpPr>
        <p:spPr>
          <a:xfrm>
            <a:off x="1965240" y="1866960"/>
            <a:ext cx="5907240" cy="101448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cpu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에 따른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stack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의 증가 방향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3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low -&gt; high memory : 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3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high -&gt; low memory :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MS UI Gothic"/>
              </a:rPr>
              <a:t>※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ARM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의 경우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stack pointer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가 아래로 자라는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Decrement Stack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사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"/>
          <p:cNvSpPr/>
          <p:nvPr/>
        </p:nvSpPr>
        <p:spPr>
          <a:xfrm>
            <a:off x="1965240" y="5580000"/>
            <a:ext cx="5907240" cy="73332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_ENTER_CRITICAL(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은 어떤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critical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한 동작을 수행 시 그 사이에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interrupt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및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task switching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이 발생하지 않도록한다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이 함수를 수행하고 나서는 반드시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_EXIT_CRITICAL(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을 호출 해야한다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32E375-A884-459D-8CDB-0AFD91E50F7C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포팅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3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Critical sections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배타적 접근을 보장하기 위해 이 코드가 수행되기 전 인터럽트를 금지시키고 수행이 완료되었을 때 인터럽트 다시 허용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다음과 같은 매크로로 구현됨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_ENTER_CRITICAL( 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_EXIT_CRITICAL( 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제한 사항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실행되는 태스크는 개별적인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Priority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번호를 가지고 있어야 함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NMI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에서는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uC/OS system call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이 만들어 질 수 없다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코드의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critical section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을 수행할 때 인터럽트를 금지시키므로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F9C776-6CE0-4CC2-9E52-58E1D1A0C8B2}" type="slidenum">
              <a:t>8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1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포팅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4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PlaceHolder 2"/>
          <p:cNvSpPr>
            <a:spLocks noGrp="1"/>
          </p:cNvSpPr>
          <p:nvPr>
            <p:ph/>
          </p:nvPr>
        </p:nvSpPr>
        <p:spPr>
          <a:xfrm>
            <a:off x="761760" y="122832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Task Switching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방법 정의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_cpu_c.c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TaskStkInit()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함수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4" marL="194796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2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513" name=""/>
          <p:cNvGraphicFramePr/>
          <p:nvPr/>
        </p:nvGraphicFramePr>
        <p:xfrm>
          <a:off x="1954080" y="1538280"/>
          <a:ext cx="5913720" cy="284040"/>
        </p:xfrm>
        <a:graphic>
          <a:graphicData uri="http://schemas.openxmlformats.org/drawingml/2006/table">
            <a:tbl>
              <a:tblPr/>
              <a:tblGrid>
                <a:gridCol w="5913720"/>
              </a:tblGrid>
              <a:tr h="28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define OS_TASK_SW()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CtxSw(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4" name=""/>
          <p:cNvSpPr/>
          <p:nvPr/>
        </p:nvSpPr>
        <p:spPr>
          <a:xfrm>
            <a:off x="1965240" y="1922400"/>
            <a:ext cx="5907240" cy="115956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CtxSw()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란 함수는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start.asm(os_cpu_a.asm) file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에 선언된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task switching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을 수행하는 함수이다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interrupt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발생 시에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CPU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는 현재의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PSW(Program Status Word)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와 다음 번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instruction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address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를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stack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에 저장하고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ISR(Interrupt Service Routine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로 분기한다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_TASK_SW(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는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_core.c file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Sched()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함수에서 사용된다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15" name=""/>
          <p:cNvGraphicFramePr/>
          <p:nvPr/>
        </p:nvGraphicFramePr>
        <p:xfrm>
          <a:off x="1954080" y="3836880"/>
          <a:ext cx="5958000" cy="2390760"/>
        </p:xfrm>
        <a:graphic>
          <a:graphicData uri="http://schemas.openxmlformats.org/drawingml/2006/table">
            <a:tbl>
              <a:tblPr/>
              <a:tblGrid>
                <a:gridCol w="5958000"/>
              </a:tblGrid>
              <a:tr h="2401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void *OSTaskStkInit (void (*task)(void *pd), void *pdata, void *ptos, INT16U opt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{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INT32U *stk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pt = opt;             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'opt' is not used, prevent warning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stk = (INT32U*)ptos;   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Load stack pointer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(--stk) = (INT32U)task;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Entry Point .. -&gt; PC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(--stk) = (INT32U)0;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r14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(--stk) = (INT32U)0;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r12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(--stk) = (INT32U)0;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r11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(--stk) = (INT32U)0;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r10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6" name=""/>
          <p:cNvSpPr/>
          <p:nvPr/>
        </p:nvSpPr>
        <p:spPr>
          <a:xfrm>
            <a:off x="5014800" y="5376960"/>
            <a:ext cx="3597480" cy="94644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첫째 인수는 </a:t>
            </a:r>
            <a:r>
              <a:rPr b="1" lang="en-US" sz="1400" spc="-1" strike="noStrike">
                <a:solidFill>
                  <a:srgbClr val="000099"/>
                </a:solidFill>
                <a:latin typeface="굴림"/>
                <a:ea typeface="굴림"/>
              </a:rPr>
              <a:t>Task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의 시작 번지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. 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즉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, </a:t>
            </a:r>
            <a:r>
              <a:rPr b="1" lang="en-US" sz="1400" spc="-1" strike="noStrike">
                <a:solidFill>
                  <a:srgbClr val="000099"/>
                </a:solidFill>
                <a:latin typeface="굴림"/>
                <a:ea typeface="굴림"/>
              </a:rPr>
              <a:t>Task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가 </a:t>
            </a:r>
            <a:r>
              <a:rPr b="1" lang="en-US" sz="1400" spc="-1" strike="noStrike">
                <a:solidFill>
                  <a:srgbClr val="000099"/>
                </a:solidFill>
                <a:latin typeface="굴림"/>
                <a:ea typeface="굴림"/>
              </a:rPr>
              <a:t>CPU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에 의해 실행될 때 </a:t>
            </a:r>
            <a:r>
              <a:rPr b="1" lang="en-US" sz="1400" spc="-1" strike="noStrike">
                <a:solidFill>
                  <a:srgbClr val="000099"/>
                </a:solidFill>
                <a:latin typeface="굴림"/>
                <a:ea typeface="굴림"/>
              </a:rPr>
              <a:t>Program Counter 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값으로 지정될 주소를 의미한다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. 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두 번째 인수는 </a:t>
            </a:r>
            <a:r>
              <a:rPr b="1" lang="en-US" sz="1400" spc="-1" strike="noStrike">
                <a:solidFill>
                  <a:srgbClr val="000099"/>
                </a:solidFill>
                <a:latin typeface="굴림"/>
                <a:ea typeface="굴림"/>
              </a:rPr>
              <a:t>Task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의 인수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, 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세 번째가 </a:t>
            </a:r>
            <a:r>
              <a:rPr b="1" lang="en-US" sz="1400" spc="-1" strike="noStrike">
                <a:solidFill>
                  <a:srgbClr val="000099"/>
                </a:solidFill>
                <a:latin typeface="굴림"/>
                <a:ea typeface="굴림"/>
              </a:rPr>
              <a:t>Stack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의 위치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, 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마지막은 현재 사용하지 않는 옵션이다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.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41896B-BCFA-4D37-8FD4-3B25E1F5C73B}" type="slidenum">
              <a:t>8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포팅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5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8" name="PlaceHolder 2"/>
          <p:cNvSpPr>
            <a:spLocks noGrp="1"/>
          </p:cNvSpPr>
          <p:nvPr>
            <p:ph/>
          </p:nvPr>
        </p:nvSpPr>
        <p:spPr>
          <a:xfrm>
            <a:off x="604800" y="1228320"/>
            <a:ext cx="81676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3" marL="1603440" indent="-227160">
              <a:lnSpc>
                <a:spcPct val="90000"/>
              </a:lnSpc>
              <a:spcBef>
                <a:spcPts val="400"/>
              </a:spcBef>
              <a:buClr>
                <a:srgbClr val="cc33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askStkInit() 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함수는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 context(stack frame 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또는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 stack)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nitial 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값을 설정하는 기능을 한다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i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3" marL="1603440" indent="-227160">
              <a:lnSpc>
                <a:spcPct val="90000"/>
              </a:lnSpc>
              <a:spcBef>
                <a:spcPts val="400"/>
              </a:spcBef>
              <a:buClr>
                <a:srgbClr val="cc33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nterrupt 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발생시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SR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은 처음에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nterrupt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가 발생된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rocess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동작 환경을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backup 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하기 위하여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ontext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저장한다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i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3" marL="1603440" indent="-227160">
              <a:lnSpc>
                <a:spcPct val="90000"/>
              </a:lnSpc>
              <a:spcBef>
                <a:spcPts val="400"/>
              </a:spcBef>
              <a:buClr>
                <a:srgbClr val="cc33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저장되는 값은 이전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rocess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ontext 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값이 아닌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nitial context 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값이 된다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i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3" marL="1603440" indent="-227160">
              <a:lnSpc>
                <a:spcPct val="90000"/>
              </a:lnSpc>
              <a:spcBef>
                <a:spcPts val="400"/>
              </a:spcBef>
              <a:buClr>
                <a:srgbClr val="cc33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ource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각 문장 들은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ush 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명령을 통해 매 문장마다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tack memory 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위치를 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*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tk--)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감소 시킨다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i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519" name=""/>
          <p:cNvGraphicFramePr/>
          <p:nvPr/>
        </p:nvGraphicFramePr>
        <p:xfrm>
          <a:off x="1954080" y="1293840"/>
          <a:ext cx="5958000" cy="2836800"/>
        </p:xfrm>
        <a:graphic>
          <a:graphicData uri="http://schemas.openxmlformats.org/drawingml/2006/table">
            <a:tbl>
              <a:tblPr/>
              <a:tblGrid>
                <a:gridCol w="5958000"/>
              </a:tblGrid>
              <a:tr h="2851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(--stk) = (INT32U)0;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r9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(--stk) = (INT32U)0;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r8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(--stk) = (INT32U)0;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r7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(--stk) = (INT32U)0;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r6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(--stk) = (INT32U)0;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r5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(--stk) = (INT32U)0;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r4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(--stk) = (INT32U)0;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r3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(--stk) = (INT32U)0;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r2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(--stk) = (INT32U)0;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r1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(--stk) = (INT32U)pdata; 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r0 : argument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(--stk) = (INT32U)0x53;  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Default CPSR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return ((void *)stk)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}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DA71A1-65A2-40C5-8208-5FBC8B0514BF}" type="slidenum">
              <a:t>8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0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포팅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6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1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start.asm(os_cpu_a.as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Assembly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언어로 구현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CPU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와 하드웨어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platform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에 매우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dependent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한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code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들이 기술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수정을 위해서는 해당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CPU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assembly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언어를 알고 있어야 하며 하드웨어에 대한 기본 지식을 알고 있어야 함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보드의 초기화를 포함하여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uC/OS-II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를 위해 총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4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개의 함수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StartHighRdy(), OSCtxSw(), OSIntCtxSw(), OSTickISR()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로 구성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7CFEBF-A353-4429-A5BA-AB3400C23E1B}" type="slidenum">
              <a:t>8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2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응용 프로그램 작성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3" name="PlaceHolder 2"/>
          <p:cNvSpPr>
            <a:spLocks noGrp="1"/>
          </p:cNvSpPr>
          <p:nvPr>
            <p:ph/>
          </p:nvPr>
        </p:nvSpPr>
        <p:spPr>
          <a:xfrm>
            <a:off x="762120" y="1228320"/>
            <a:ext cx="81676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샘플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code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를 통한 응용 프로그램의 기본 구조 이해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Task Scheduling 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이해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C/OS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에서의 디바이스 제어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9A08F3-D537-4812-A28D-26F0E468EDFC}" type="slidenum">
              <a:t>8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응용 프로그램의 작성 예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525" name=""/>
          <p:cNvGraphicFramePr/>
          <p:nvPr/>
        </p:nvGraphicFramePr>
        <p:xfrm>
          <a:off x="776160" y="1438200"/>
          <a:ext cx="8088480" cy="4437000"/>
        </p:xfrm>
        <a:graphic>
          <a:graphicData uri="http://schemas.openxmlformats.org/drawingml/2006/table">
            <a:tbl>
              <a:tblPr/>
              <a:tblGrid>
                <a:gridCol w="8088480"/>
              </a:tblGrid>
              <a:tr h="446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굴림"/>
                        </a:rPr>
                        <a:t>/*  empos2c</a:t>
                      </a:r>
                      <a:r>
                        <a:rPr b="1" lang="ko-KR" sz="1200" spc="-1" strike="noStrike">
                          <a:solidFill>
                            <a:srgbClr val="ff0000"/>
                          </a:solidFill>
                          <a:latin typeface="Arial"/>
                          <a:ea typeface="굴림"/>
                        </a:rPr>
                        <a:t>.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굴림"/>
                        </a:rPr>
                        <a:t>c *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include "includes.h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include "serial.h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include "reg.h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define  TASK_STK_SIZE     (1024 * 2)   /* Size of each task's stacks (# of WORDs)            *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define  N_TASKS                  3         /* Number of identical task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_STK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askStk[N_TASKS][TASK_STK_SIZE];     /* Tasks stacks *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_STK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askStartStk[TASK_STK_SIZE]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if OS_EMPOS_CTR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void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Empos_Ctrl_Task(void *data);         /* Function prototypes of tasks  *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el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void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ask1(void *data);                             /* Function prototypes of tasks  *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void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ask2(void *data);                             /* Function prototypes of tasks  *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endif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void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askStart(void *data);                      /* Function prototypes of Startup task           *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void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ucos_main(void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88E4F2-ECA0-433F-8D07-C630EC0C197A}" type="slidenum">
              <a:t>8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6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응용 프로그램의 작성 예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527" name=""/>
          <p:cNvGraphicFramePr/>
          <p:nvPr/>
        </p:nvGraphicFramePr>
        <p:xfrm>
          <a:off x="422280" y="1474920"/>
          <a:ext cx="2908440" cy="4489200"/>
        </p:xfrm>
        <a:graphic>
          <a:graphicData uri="http://schemas.openxmlformats.org/drawingml/2006/table">
            <a:tbl>
              <a:tblPr/>
              <a:tblGrid>
                <a:gridCol w="2908440"/>
              </a:tblGrid>
              <a:tr h="449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extern int    dev_ctl_main(void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extern void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led_test(void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extern void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seg_test(void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extern void   textlcd_test(void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extern void   gpioled_test(void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굴림"/>
                        </a:rPr>
                        <a:t>void TaskStart (void *data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{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ifdef uCOS_DEBU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\n[TaskStart] Called ...\n"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endif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Timer0_Period_Setting( 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Timer0_Interrupt_Setting( );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StatInit();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/#ifdef uCOS_DEBUG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\nTask...!!\n"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endif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28" name=""/>
          <p:cNvGraphicFramePr/>
          <p:nvPr/>
        </p:nvGraphicFramePr>
        <p:xfrm>
          <a:off x="3503520" y="1486080"/>
          <a:ext cx="5334120" cy="4424040"/>
        </p:xfrm>
        <a:graphic>
          <a:graphicData uri="http://schemas.openxmlformats.org/drawingml/2006/table">
            <a:tbl>
              <a:tblPr/>
              <a:tblGrid>
                <a:gridCol w="5334120"/>
              </a:tblGrid>
              <a:tr h="44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if OS_EMPOS_CTR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TaskCreate(Empos_Ctrl_Task,"Empos_Ctrl_Task"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&amp;TaskStk[0][TASK_STK_SIZE - 1],1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el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TaskCreate(Task1,"Task1",&amp;TaskStk[0][TASK_STK_SIZE - 1], 1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TaskCreate(Task2,"Task2",&amp;TaskStk[1][TASK_STK_SIZE - 1], 2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endi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for (;;) {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\n-------------------------------");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\nRunning Task : %4d", OSTaskCtr);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\nCpu Usage : %4d", (int)OSCPUUsage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\nContext Switches per Sec : %4d",(int)OSCtxSwCtr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\n-------------------------------\n"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CtxSwCtr = 0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TimeDlyHMSM(0, 0, 1, 0);    /* Wait one second  *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}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}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8FB768-7F4C-46DF-8DF2-88FA38B9B4F1}" type="slidenum">
              <a:t>8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9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응용 프로그램의 작성 예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3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530" name=""/>
          <p:cNvGraphicFramePr/>
          <p:nvPr/>
        </p:nvGraphicFramePr>
        <p:xfrm>
          <a:off x="434880" y="1438200"/>
          <a:ext cx="4186440" cy="4706640"/>
        </p:xfrm>
        <a:graphic>
          <a:graphicData uri="http://schemas.openxmlformats.org/drawingml/2006/table">
            <a:tbl>
              <a:tblPr/>
              <a:tblGrid>
                <a:gridCol w="4186440"/>
              </a:tblGrid>
              <a:tr h="470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int flag_g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굴림"/>
                        </a:rPr>
                        <a:t>void Empos_Ctrl_Task(void *data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{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char key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for(;;){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while((key = dev_ctl_main()) != 0)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{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switch(key){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  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case '1': led_test(); break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  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case '2': seg_test(); break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  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case '3': textlcd_test(); break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  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case '4': gpioled_test(); break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  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case 'q': printf("exit\n"); break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}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}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TimeDly(100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}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}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31" name=""/>
          <p:cNvGraphicFramePr/>
          <p:nvPr/>
        </p:nvGraphicFramePr>
        <p:xfrm>
          <a:off x="4788000" y="1438200"/>
          <a:ext cx="3929040" cy="4710240"/>
        </p:xfrm>
        <a:graphic>
          <a:graphicData uri="http://schemas.openxmlformats.org/drawingml/2006/table">
            <a:tbl>
              <a:tblPr/>
              <a:tblGrid>
                <a:gridCol w="3929040"/>
              </a:tblGrid>
              <a:tr h="471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굴림"/>
                        </a:rPr>
                        <a:t>void Task1(void *data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{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for (;;) {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%s\n",(char *)data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-----------------------\n"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TimeDly(50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}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}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굴림"/>
                        </a:rPr>
                        <a:t>void Task2(void *data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{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for (;;) {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%s\n",(char *)data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-----------------------\n"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TimeDly(20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}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}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굴림"/>
                        </a:rPr>
                        <a:t>void ucos_main(void){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ifdef uCOS_DEBU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\n[C_Entry] Called.. \n"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endi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SerialInit(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32" name=""/>
          <p:cNvSpPr/>
          <p:nvPr/>
        </p:nvSpPr>
        <p:spPr>
          <a:xfrm>
            <a:off x="739800" y="5200560"/>
            <a:ext cx="3589200" cy="99072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Empos_Ctrl_Task(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는 사용자 입력을 받아 제어 디바이스를 선택할 수 있도록 한다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선택 받은 디바이스에 따라 사용자 메뉴가 디스플레이 되고 디바이스 제어를 시작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CAF595-20AA-4FB4-93A3-3E3DE47C1A89}" type="slidenum">
              <a:t>8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태스크의 선언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태스크의 형태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901800" y="1752480"/>
            <a:ext cx="4178160" cy="4457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245200" y="1752480"/>
            <a:ext cx="3111480" cy="165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965160" y="1790640"/>
            <a:ext cx="4013280" cy="450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void MyTask(void *pdata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{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   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for( ; ;) {  /*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사용자 코드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*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0000"/>
                </a:solidFill>
                <a:latin typeface="Arial"/>
                <a:ea typeface="굴림"/>
              </a:rPr>
              <a:t>       </a:t>
            </a:r>
            <a:r>
              <a:rPr b="1" lang="ko-KR" sz="1400" spc="-1" strike="noStrike">
                <a:solidFill>
                  <a:srgbClr val="ff0000"/>
                </a:solidFill>
                <a:latin typeface="Arial"/>
                <a:ea typeface="굴림"/>
              </a:rPr>
              <a:t>다음의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굴림"/>
              </a:rPr>
              <a:t>uC/OS-II </a:t>
            </a:r>
            <a:r>
              <a:rPr b="1" lang="ko-KR" sz="1400" spc="-1" strike="noStrike">
                <a:solidFill>
                  <a:srgbClr val="ff0000"/>
                </a:solidFill>
                <a:latin typeface="Arial"/>
                <a:ea typeface="굴림"/>
              </a:rPr>
              <a:t>서비스 함수 중의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0000"/>
                </a:solidFill>
                <a:latin typeface="Arial"/>
                <a:ea typeface="굴림"/>
              </a:rPr>
              <a:t>      </a:t>
            </a:r>
            <a:r>
              <a:rPr b="1" lang="ko-KR" sz="1400" spc="-1" strike="noStrike">
                <a:solidFill>
                  <a:srgbClr val="ff0000"/>
                </a:solidFill>
                <a:latin typeface="Arial"/>
                <a:ea typeface="굴림"/>
              </a:rPr>
              <a:t>하나를 호출한다 </a:t>
            </a:r>
            <a:r>
              <a:rPr b="1" lang="ko-KR" sz="1400" spc="-1" strike="noStrike">
                <a:solidFill>
                  <a:srgbClr val="ff0000"/>
                </a:solidFill>
                <a:latin typeface="Arial"/>
                <a:ea typeface="굴림"/>
              </a:rPr>
              <a:t>: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      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MboxPend()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      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QPend()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      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SemPend()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      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TaskDel(OS_PRIO_SELF)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      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TaskSuspend(OS_PRIO_SELF)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      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TimeDly()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      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TimeDlyHMSM(); 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      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/*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사용자 코드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*/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   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565600" y="1790640"/>
            <a:ext cx="3007080" cy="16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void MyTask(void *pdata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   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/*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사용자 코드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*/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   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TaskDel(OS_PRIO_SELF)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080040" y="3483000"/>
            <a:ext cx="1860480" cy="30708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스스로 삭제하는 함수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130720" y="5956200"/>
            <a:ext cx="1425600" cy="30708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무한 루프 함수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71D9CC-FEA2-4B5C-B559-0B43EB0C083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응용 프로그램의 작성 예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4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534" name=""/>
          <p:cNvGraphicFramePr/>
          <p:nvPr/>
        </p:nvGraphicFramePr>
        <p:xfrm>
          <a:off x="776160" y="1438200"/>
          <a:ext cx="8088480" cy="5113440"/>
        </p:xfrm>
        <a:graphic>
          <a:graphicData uri="http://schemas.openxmlformats.org/drawingml/2006/table">
            <a:tbl>
              <a:tblPr/>
              <a:tblGrid>
                <a:gridCol w="8088480"/>
              </a:tblGrid>
              <a:tr h="511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\n\nThis is EMPOS_uCOS version 1.0\n");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This is free software, and undered GNU GPL license\n");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==================================================================\n"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  ##     ##  ######       ## #######   ######          #### ####  \n");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  ##     ## ##    ##     ## ##     ## ##    ##          ##   ##   \n");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  ##     ## ##          ##  ##     ## ##                ##   ##   \n");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  ##     ## ##         ##   ##     ##  ######  #######  ##   ##   \n");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  ##     ## ##        ##    ##     ##       ##          ##   ##   \n");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  ##     ## ##    ## ##     ##     ## ##    ##          ##   ##   \n");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   #######   ###### ##       #######   ######          #### ####  \n");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                                                                  \n");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      Hanback Electronics Embedded Linux System(HBE-EMPOSII)      \n"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==================================================================\n\n");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IoTest();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imerInit2(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ifdef uCOS_DEBUG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SerialInit &amp; TimerInit done ..\n"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endif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Init();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TaskCreate(TaskStart,(void *)0,&amp;TaskStartStk[TASK_STK_SIZE - 1], 0);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Start();        /* Start multitasking */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ifdef uCOS_DEBUG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\rOSStart...\n");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endif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}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35" name=""/>
          <p:cNvSpPr/>
          <p:nvPr/>
        </p:nvSpPr>
        <p:spPr>
          <a:xfrm>
            <a:off x="4238640" y="4159080"/>
            <a:ext cx="4686120" cy="94644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ucos_main(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함수에서 시리얼 과 타이머 등을 초기화하고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Init(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을 호출하여 전역변수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각종 구조체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,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태스크를 초기화하고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IDLE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태스크와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Statistic Task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를 생성한 후 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TaskCreate()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과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Start(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를 호출하여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를 시작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420C89-8D4F-4B5E-8BB6-1A98D47C40C2}" type="slidenum">
              <a:t>9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Makefile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작성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537" name=""/>
          <p:cNvGraphicFramePr/>
          <p:nvPr/>
        </p:nvGraphicFramePr>
        <p:xfrm>
          <a:off x="776160" y="1438200"/>
          <a:ext cx="8088480" cy="4656240"/>
        </p:xfrm>
        <a:graphic>
          <a:graphicData uri="http://schemas.openxmlformats.org/drawingml/2006/table">
            <a:tbl>
              <a:tblPr/>
              <a:tblGrid>
                <a:gridCol w="8088480"/>
              </a:tblGrid>
              <a:tr h="469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굴림"/>
                        </a:rPr>
                        <a:t>/* Makefile *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CC = arm-linux-gc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BJCOPY = arm-linux-objcop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NM = arm-linux-n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BJDUMP = arm-linux-objdum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INCLUDE = -I./head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CFLAGS = -O2 -Wall -march=armv4 -mtune=strongarm -fomit-frame-pointer -mapcs-32 -nostdinc $(INCLUDE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CFLAGS = -O binary -R .note -R .comment -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LDFLAGS = -static -nostdlib -Wl,-T,./header/ld-xsca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COMPILE = $(CC) $(CFLAG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CFILES = $(wildcard *.c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ASM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= $(wildcard *.asm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BJECT = $(CFILES:%.c=%.o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ARGET_IMAGE = empos_uc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8BF07E-AEAC-4E79-9D64-78BEFFE831E6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Makefile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작성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539" name=""/>
          <p:cNvGraphicFramePr/>
          <p:nvPr/>
        </p:nvGraphicFramePr>
        <p:xfrm>
          <a:off x="776160" y="1438200"/>
          <a:ext cx="8088480" cy="2903760"/>
        </p:xfrm>
        <a:graphic>
          <a:graphicData uri="http://schemas.openxmlformats.org/drawingml/2006/table">
            <a:tbl>
              <a:tblPr/>
              <a:tblGrid>
                <a:gridCol w="8088480"/>
              </a:tblGrid>
              <a:tr h="292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all : $(OBJECT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$(CC) $(INCLUDE) $(CFLAGS) $(LDFLAGS) -o $(TARGET_IMAGE)-elf32 $(ASM) $(OBJECT) -lgc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$(OBJCOPY) $(OCFLAGS) $(TARGET_IMAGE)-elf32 $(TARGET_IMAGE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$(NM) $(TARGET_IMAGE)-elf32 &gt; $(TARGET_IMAGE).m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$(OBJDUMP) -D $(TARGET_IMAGE)-elf32 &gt; $(TARGET_IMAGE).di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.c.o 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$(COMPILE) -c $&lt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clean 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rm -rf *.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rm -rf $(TARGET_IMAGE) $(TARGET_IMAGE)-elf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rm -rf $(TARGET_IMAGE).dis $(TARGET_IMAGE).m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rm -rf *.*.bak header/*.*.ba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522908-CA93-4B3C-A24D-1AF07B4E4999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0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실행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PlaceHolder 2"/>
          <p:cNvSpPr>
            <a:spLocks noGrp="1"/>
          </p:cNvSpPr>
          <p:nvPr>
            <p:ph/>
          </p:nvPr>
        </p:nvSpPr>
        <p:spPr>
          <a:xfrm>
            <a:off x="761760" y="118548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uC/OS 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컴파일 방법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2" name=""/>
          <p:cNvSpPr/>
          <p:nvPr/>
        </p:nvSpPr>
        <p:spPr>
          <a:xfrm>
            <a:off x="1322280" y="1605240"/>
            <a:ext cx="5564160" cy="30708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굴림"/>
              </a:rPr>
              <a:t>$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mak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3" name="ucos_2" descr=""/>
          <p:cNvPicPr/>
          <p:nvPr/>
        </p:nvPicPr>
        <p:blipFill>
          <a:blip r:embed="rId1"/>
          <a:stretch/>
        </p:blipFill>
        <p:spPr>
          <a:xfrm>
            <a:off x="1328760" y="2171880"/>
            <a:ext cx="7020000" cy="365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98CFEE-9A85-4280-BA59-E7A7E4B44717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4" name="ucos_3" descr=""/>
          <p:cNvPicPr/>
          <p:nvPr/>
        </p:nvPicPr>
        <p:blipFill>
          <a:blip r:embed="rId1"/>
          <a:srcRect l="0" t="0" r="11631" b="0"/>
          <a:stretch/>
        </p:blipFill>
        <p:spPr>
          <a:xfrm>
            <a:off x="3919680" y="1979640"/>
            <a:ext cx="4073400" cy="4529160"/>
          </a:xfrm>
          <a:prstGeom prst="rect">
            <a:avLst/>
          </a:prstGeom>
          <a:ln w="0">
            <a:noFill/>
          </a:ln>
        </p:spPr>
      </p:pic>
      <p:sp>
        <p:nvSpPr>
          <p:cNvPr id="1545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실행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PlaceHolder 2"/>
          <p:cNvSpPr>
            <a:spLocks noGrp="1"/>
          </p:cNvSpPr>
          <p:nvPr>
            <p:ph/>
          </p:nvPr>
        </p:nvSpPr>
        <p:spPr>
          <a:xfrm>
            <a:off x="761760" y="118548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uC/OS 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퓨징 방법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생성된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kernel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파일을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jtag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를 이용해 타겟 보드로 전송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"/>
          <p:cNvSpPr/>
          <p:nvPr/>
        </p:nvSpPr>
        <p:spPr>
          <a:xfrm>
            <a:off x="969840" y="1986480"/>
            <a:ext cx="2855880" cy="30708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"/>
              </a:rPr>
              <a:t>$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Jflash-Xscale empos_uc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E614A3-D548-4E3A-AC46-867695E3B87F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실행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3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9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실행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0" name=""/>
          <p:cNvSpPr/>
          <p:nvPr/>
        </p:nvSpPr>
        <p:spPr>
          <a:xfrm>
            <a:off x="611280" y="5027760"/>
            <a:ext cx="7994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1" name="ucos_t1" descr=""/>
          <p:cNvPicPr/>
          <p:nvPr/>
        </p:nvPicPr>
        <p:blipFill>
          <a:blip r:embed="rId1"/>
          <a:srcRect l="0" t="15789" r="0" b="0"/>
          <a:stretch/>
        </p:blipFill>
        <p:spPr>
          <a:xfrm>
            <a:off x="1395360" y="1881360"/>
            <a:ext cx="6753240" cy="4182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E36A32-D1D9-4ACC-96A7-686CC55C9438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2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실행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4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3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  <a:ea typeface="굴림"/>
            </a:endParaRPr>
          </a:p>
        </p:txBody>
      </p:sp>
      <p:sp>
        <p:nvSpPr>
          <p:cNvPr id="1554" name=""/>
          <p:cNvSpPr/>
          <p:nvPr/>
        </p:nvSpPr>
        <p:spPr>
          <a:xfrm>
            <a:off x="611280" y="5027760"/>
            <a:ext cx="7994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5" name="ucos_t2" descr=""/>
          <p:cNvPicPr/>
          <p:nvPr/>
        </p:nvPicPr>
        <p:blipFill>
          <a:blip r:embed="rId1"/>
          <a:srcRect l="0" t="0" r="31021" b="26593"/>
          <a:stretch/>
        </p:blipFill>
        <p:spPr>
          <a:xfrm>
            <a:off x="404640" y="1414440"/>
            <a:ext cx="4094280" cy="2389320"/>
          </a:xfrm>
          <a:prstGeom prst="rect">
            <a:avLst/>
          </a:prstGeom>
          <a:ln w="0">
            <a:noFill/>
          </a:ln>
        </p:spPr>
      </p:pic>
      <p:pic>
        <p:nvPicPr>
          <p:cNvPr id="1556" name="ucos_t3" descr=""/>
          <p:cNvPicPr/>
          <p:nvPr/>
        </p:nvPicPr>
        <p:blipFill>
          <a:blip r:embed="rId2"/>
          <a:srcRect l="0" t="10340" r="35664" b="3510"/>
          <a:stretch/>
        </p:blipFill>
        <p:spPr>
          <a:xfrm>
            <a:off x="4668840" y="1424160"/>
            <a:ext cx="4011480" cy="4572000"/>
          </a:xfrm>
          <a:prstGeom prst="rect">
            <a:avLst/>
          </a:prstGeom>
          <a:ln w="0">
            <a:noFill/>
          </a:ln>
        </p:spPr>
      </p:pic>
      <p:sp>
        <p:nvSpPr>
          <p:cNvPr id="1557" name=""/>
          <p:cNvSpPr/>
          <p:nvPr/>
        </p:nvSpPr>
        <p:spPr>
          <a:xfrm>
            <a:off x="821520" y="3759120"/>
            <a:ext cx="2955600" cy="33732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Arial"/>
                <a:ea typeface="굴림"/>
              </a:rPr>
              <a:t>uC/OS</a:t>
            </a:r>
            <a:r>
              <a:rPr b="1" lang="ko-KR" sz="1600" spc="-1" strike="noStrike">
                <a:solidFill>
                  <a:srgbClr val="0000cc"/>
                </a:solidFill>
                <a:latin typeface="Arial"/>
                <a:ea typeface="굴림"/>
              </a:rPr>
              <a:t>상에서 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  <a:ea typeface="굴림"/>
              </a:rPr>
              <a:t>device</a:t>
            </a:r>
            <a:r>
              <a:rPr b="1" lang="ko-KR" sz="1600" spc="-1" strike="noStrike">
                <a:solidFill>
                  <a:srgbClr val="0000cc"/>
                </a:solidFill>
                <a:latin typeface="Arial"/>
                <a:ea typeface="굴림"/>
              </a:rPr>
              <a:t>제어를 위한 메뉴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"/>
          <p:cNvSpPr/>
          <p:nvPr/>
        </p:nvSpPr>
        <p:spPr>
          <a:xfrm>
            <a:off x="5331600" y="5923080"/>
            <a:ext cx="2626920" cy="33732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Arial"/>
                <a:ea typeface="굴림"/>
              </a:rPr>
              <a:t>‘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  <a:ea typeface="굴림"/>
              </a:rPr>
              <a:t>TEXT LCD TEST’ </a:t>
            </a:r>
            <a:r>
              <a:rPr b="1" lang="ko-KR" sz="1600" spc="-1" strike="noStrike">
                <a:solidFill>
                  <a:srgbClr val="0000cc"/>
                </a:solidFill>
                <a:latin typeface="Arial"/>
                <a:ea typeface="굴림"/>
              </a:rPr>
              <a:t>메뉴 선택시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C0A665-1DEB-4417-95EA-2A36A2728119}" type="slidenum">
              <a:t>9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9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실행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5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0" name="PlaceHolder 2"/>
          <p:cNvSpPr>
            <a:spLocks noGrp="1"/>
          </p:cNvSpPr>
          <p:nvPr>
            <p:ph/>
          </p:nvPr>
        </p:nvSpPr>
        <p:spPr>
          <a:xfrm>
            <a:off x="761760" y="131400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Scheduling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의 이해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1" name=""/>
          <p:cNvSpPr/>
          <p:nvPr/>
        </p:nvSpPr>
        <p:spPr>
          <a:xfrm>
            <a:off x="4317840" y="1752480"/>
            <a:ext cx="4597560" cy="73332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소스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tree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header/os_cfg.h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_EMPOS_CTRL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을 “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0”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으로 선언하면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Task1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과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Task2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가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TaskStart(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에 의해서 생성되고 다음과 같은 결과를 디스플레이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2" name="ucos_t4" descr=""/>
          <p:cNvPicPr/>
          <p:nvPr/>
        </p:nvPicPr>
        <p:blipFill>
          <a:blip r:embed="rId1"/>
          <a:srcRect l="0" t="0" r="43435" b="0"/>
          <a:stretch/>
        </p:blipFill>
        <p:spPr>
          <a:xfrm>
            <a:off x="1060560" y="1716120"/>
            <a:ext cx="3154320" cy="4545000"/>
          </a:xfrm>
          <a:prstGeom prst="rect">
            <a:avLst/>
          </a:prstGeom>
          <a:ln w="0">
            <a:noFill/>
          </a:ln>
        </p:spPr>
      </p:pic>
      <p:sp>
        <p:nvSpPr>
          <p:cNvPr id="1563" name=""/>
          <p:cNvSpPr/>
          <p:nvPr/>
        </p:nvSpPr>
        <p:spPr>
          <a:xfrm>
            <a:off x="4014720" y="2916360"/>
            <a:ext cx="4194360" cy="21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실행중인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Ta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1560" indent="-284400">
              <a:lnSpc>
                <a:spcPct val="100000"/>
              </a:lnSpc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Task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우선순위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1560" indent="-284400">
              <a:lnSpc>
                <a:spcPct val="100000"/>
              </a:lnSpc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Task1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우선순위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1560" indent="-284400">
              <a:lnSpc>
                <a:spcPct val="100000"/>
              </a:lnSpc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Task2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우선순위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1560" indent="-284400">
              <a:lnSpc>
                <a:spcPct val="100000"/>
              </a:lnSpc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Statistic Task (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우선순위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1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1560" indent="-284400">
              <a:lnSpc>
                <a:spcPct val="100000"/>
              </a:lnSpc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Idle Task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우선순위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1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319A01-97CB-45A3-A815-7485D7B88D91}" type="slidenum">
              <a:t>9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07T21:18:45Z</dcterms:created>
  <dc:creator>Yoo Sang Shin</dc:creator>
  <dc:description/>
  <dc:language>en-US</dc:language>
  <cp:lastModifiedBy>com-07</cp:lastModifiedBy>
  <cp:lastPrinted>1999-12-01T19:27:03Z</cp:lastPrinted>
  <dcterms:modified xsi:type="dcterms:W3CDTF">2004-07-30T02:52:27Z</dcterms:modified>
  <cp:revision>1358</cp:revision>
  <dc:subject/>
  <dc:title>uC/OS-II</dc:title>
</cp:coreProperties>
</file>