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D09C-1E5C-42D3-97C7-C2F0B8ED4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187C-1E38-4275-99EF-3C02B671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CF39-07C8-4614-899C-C5809462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5ED1-4278-4E6A-9E26-8A1DECBD3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9AC3-5AA4-4B11-A2C3-C7A5D58D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9802-194D-4D5B-8C9B-4DDBD14B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E4CF-8366-4750-8258-89FAC3FA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62CA-6F68-4CEC-83D7-C4A9F630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1640-0253-4F92-AD40-DA9D901A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3DE6-00BB-418F-B935-E5D7F00D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96D0-83BC-413D-A729-BE5B9F70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E6A4-14A1-42EE-A666-0BBEC966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6AAC-8E64-4B39-B534-ACB0D12C5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67280" cy="443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572000"/>
            <a:ext cx="3657600" cy="4572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0292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334120"/>
            <a:ext cx="35049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400800" cy="136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590920"/>
            <a:ext cx="609840" cy="53316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312408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3505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90680" y="1909800"/>
            <a:ext cx="636264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2209680"/>
            <a:ext cx="5029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ファイル属性の確認。アーカイブ属性のみ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8195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読み取り専用属性と隠しファイル属性を付加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7339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隠しファイル属性を外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たかはしもとのぶ</cp:lastModifiedBy>
  <dcterms:modified xsi:type="dcterms:W3CDTF">2006-05-05T05:21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