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059280" y="2602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059280" y="2602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71280" y="-1440"/>
            <a:ext cx="9072720" cy="6815160"/>
            <a:chOff x="71280" y="-1440"/>
            <a:chExt cx="9072720" cy="6815160"/>
          </a:xfrm>
        </p:grpSpPr>
        <p:sp>
          <p:nvSpPr>
            <p:cNvPr id="1" name=""/>
            <p:cNvSpPr/>
            <p:nvPr/>
          </p:nvSpPr>
          <p:spPr>
            <a:xfrm>
              <a:off x="4643280" y="6597720"/>
              <a:ext cx="411984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900" spc="-1" strike="noStrike">
                  <a:solidFill>
                    <a:srgbClr val="000000"/>
                  </a:solidFill>
                  <a:latin typeface="Tahoma"/>
                </a:rPr>
                <a:t>© </a:t>
              </a:r>
              <a:r>
                <a:rPr b="1" lang="en-US" sz="900" spc="-1" strike="noStrike">
                  <a:solidFill>
                    <a:srgbClr val="000000"/>
                  </a:solidFill>
                  <a:latin typeface="Tahoma"/>
                </a:rPr>
                <a:t>Copyright The Seasar Project and others 2004. all rights reserved.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71280" y="-1440"/>
              <a:ext cx="2916360" cy="134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619280" y="836640"/>
              <a:ext cx="7524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643280" y="6597720"/>
              <a:ext cx="4500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748720" y="6454800"/>
              <a:ext cx="287280" cy="287280"/>
            </a:xfrm>
            <a:prstGeom prst="ellipse">
              <a:avLst/>
            </a:prstGeom>
            <a:solidFill>
              <a:srgbClr val="ff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4D3C17FD-4525-4A3B-B480-219156BDF178}" type="slidenum">
                <a:rPr b="1" lang="ja-JP" sz="900" spc="-1" strike="noStrike">
                  <a:solidFill>
                    <a:srgbClr val="000000"/>
                  </a:solidFill>
                  <a:latin typeface="Tahoma"/>
                </a:rPr>
                <a:t>&lt;number&gt;</a:t>
              </a:fld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395280" y="1268280"/>
            <a:ext cx="8748720" cy="5545440"/>
            <a:chOff x="395280" y="1268280"/>
            <a:chExt cx="8748720" cy="5545440"/>
          </a:xfrm>
        </p:grpSpPr>
        <p:pic>
          <p:nvPicPr>
            <p:cNvPr id="45" name="" descr=""/>
            <p:cNvPicPr/>
            <p:nvPr/>
          </p:nvPicPr>
          <p:blipFill>
            <a:blip r:embed="rId2"/>
            <a:stretch/>
          </p:blipFill>
          <p:spPr>
            <a:xfrm>
              <a:off x="395280" y="1268280"/>
              <a:ext cx="3600360" cy="165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340000" y="2349360"/>
              <a:ext cx="6804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643280" y="6597720"/>
              <a:ext cx="411984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900" spc="-1" strike="noStrike">
                  <a:solidFill>
                    <a:srgbClr val="000000"/>
                  </a:solidFill>
                  <a:latin typeface="Tahoma"/>
                </a:rPr>
                <a:t>© </a:t>
              </a:r>
              <a:r>
                <a:rPr b="1" lang="en-US" sz="900" spc="-1" strike="noStrike">
                  <a:solidFill>
                    <a:srgbClr val="000000"/>
                  </a:solidFill>
                  <a:latin typeface="Tahoma"/>
                </a:rPr>
                <a:t>Copyright The Seasar Project and others 2004. all rights reserved.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643280" y="6597720"/>
              <a:ext cx="4500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748720" y="6454800"/>
              <a:ext cx="287280" cy="287280"/>
            </a:xfrm>
            <a:prstGeom prst="ellipse">
              <a:avLst/>
            </a:prstGeom>
            <a:solidFill>
              <a:srgbClr val="ff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t-doi@olug.gr.jp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脱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JB-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asar2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によ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b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アプリケーション開発事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55600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沖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ux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ユーザ会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LU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土居俊彦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I Toshihik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t-doi@olug.gr.j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ネクションプーリン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blogi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bsphere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等のプーリングを利用することも可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業務ロジックの実行の為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サーバが必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テストしづら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独自のプーリン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があれば良いので、テストが容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2JDB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単純な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はコーディングレスで発行可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動的な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は自分でコーディン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2Dao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で解消！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447920" y="3718080"/>
            <a:ext cx="6705360" cy="270216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ja-JP" sz="1200" spc="-1" strike="noStrike">
                <a:solidFill>
                  <a:srgbClr val="000000"/>
                </a:solidFill>
                <a:latin typeface="Tahoma"/>
              </a:rPr>
              <a:t>&lt;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mponent name=“fooSelectHandler"        class="org.seasar.extension.jdbc.impl.BasicSelectHandler"&gt;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aspect&gt;j2ee.requiredTx&lt;/aspect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property name="sql"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"SELECT column1, column2 FROM  ATABLE WHERE column1 = ?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/property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property name="resultSetHandler"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component class="org.seasar.extension.jdbc.impl.BeanResultSetHandler"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arg&gt;@org.t_doi.db.Foo@class&lt;/arg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/component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/property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/component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2Un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cel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から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B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にデータを設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テスト終了後に勝手にロールバッ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295280" y="3352680"/>
            <a:ext cx="6705720" cy="120456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ublic void testSearchTx(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eadXlsAllReplaceDb("./testdata/foo-info.xls"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Foo result = search.search("902"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sertEquals(902, foo.getId(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95880" y="3962520"/>
            <a:ext cx="2057400" cy="990360"/>
          </a:xfrm>
          <a:prstGeom prst="wedgeRoundRectCallout">
            <a:avLst>
              <a:gd name="adj1" fmla="val -100541"/>
              <a:gd name="adj2" fmla="val -66504"/>
              <a:gd name="adj3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el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にテストデータを用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2Stru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ion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へ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OP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適用も可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サービスクラス（業務ロジック）のインスタンスを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から設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219320" y="3753000"/>
            <a:ext cx="6705360" cy="265176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ublic class FooAction extends Action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rivate FooLogic fooLogic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ublic FooAction (FooLogic fooLogic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is. fooLogic = fooLogic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ublic ActionForward execute(…)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fooLogic.foo(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791320" y="4495680"/>
            <a:ext cx="2057400" cy="990720"/>
          </a:xfrm>
          <a:prstGeom prst="wedgeRoundRectCallout">
            <a:avLst>
              <a:gd name="adj1" fmla="val -92824"/>
              <a:gd name="adj2" fmla="val -52564"/>
              <a:gd name="adj3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asa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から設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まと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 u="sng">
                <a:solidFill>
                  <a:srgbClr val="ff0000"/>
                </a:solidFill>
                <a:uFillTx/>
                <a:latin typeface="Arial"/>
              </a:rPr>
              <a:t>小～中規模システム開発のキラーフレームワー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画面（プレゼンテーション）と業務ロジックを個別に開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t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2Un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tsTest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仕様変更時には全テストを再実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生産ステップ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3.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 step(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予定は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 ste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219320" y="2590920"/>
            <a:ext cx="2133360" cy="2133360"/>
          </a:xfrm>
          <a:prstGeom prst="ellipse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6720" y="4191120"/>
            <a:ext cx="3733560" cy="2209680"/>
          </a:xfrm>
          <a:prstGeom prst="ellipse">
            <a:avLst/>
          </a:prstGeom>
          <a:solidFill>
            <a:srgbClr val="ff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743200" y="5105520"/>
            <a:ext cx="1905120" cy="685800"/>
          </a:xfrm>
          <a:prstGeom prst="leftArrow">
            <a:avLst>
              <a:gd name="adj1" fmla="val 50000"/>
              <a:gd name="adj2" fmla="val 6944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システム概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某社向けテレビ会議システ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j0223504" descr=""/>
          <p:cNvPicPr/>
          <p:nvPr/>
        </p:nvPicPr>
        <p:blipFill>
          <a:blip r:embed="rId1"/>
          <a:stretch/>
        </p:blipFill>
        <p:spPr>
          <a:xfrm>
            <a:off x="1981080" y="2666880"/>
            <a:ext cx="633600" cy="738360"/>
          </a:xfrm>
          <a:prstGeom prst="rect">
            <a:avLst/>
          </a:prstGeom>
          <a:ln w="0">
            <a:noFill/>
          </a:ln>
        </p:spPr>
      </p:pic>
      <p:pic>
        <p:nvPicPr>
          <p:cNvPr id="96" name="j0223506" descr=""/>
          <p:cNvPicPr/>
          <p:nvPr/>
        </p:nvPicPr>
        <p:blipFill>
          <a:blip r:embed="rId2"/>
          <a:stretch/>
        </p:blipFill>
        <p:spPr>
          <a:xfrm>
            <a:off x="4876920" y="4856040"/>
            <a:ext cx="1292040" cy="1163880"/>
          </a:xfrm>
          <a:prstGeom prst="rect">
            <a:avLst/>
          </a:prstGeom>
          <a:ln w="0">
            <a:noFill/>
          </a:ln>
        </p:spPr>
      </p:pic>
      <p:pic>
        <p:nvPicPr>
          <p:cNvPr id="97" name="j0223506" descr=""/>
          <p:cNvPicPr/>
          <p:nvPr/>
        </p:nvPicPr>
        <p:blipFill>
          <a:blip r:embed="rId3"/>
          <a:stretch/>
        </p:blipFill>
        <p:spPr>
          <a:xfrm>
            <a:off x="4952880" y="2819520"/>
            <a:ext cx="1292400" cy="1163520"/>
          </a:xfrm>
          <a:prstGeom prst="rect">
            <a:avLst/>
          </a:prstGeom>
          <a:ln w="0">
            <a:noFill/>
          </a:ln>
        </p:spPr>
      </p:pic>
      <p:pic>
        <p:nvPicPr>
          <p:cNvPr id="98" name="j0223504" descr=""/>
          <p:cNvPicPr/>
          <p:nvPr/>
        </p:nvPicPr>
        <p:blipFill>
          <a:blip r:embed="rId4"/>
          <a:stretch/>
        </p:blipFill>
        <p:spPr>
          <a:xfrm>
            <a:off x="1219320" y="3352680"/>
            <a:ext cx="633240" cy="738360"/>
          </a:xfrm>
          <a:prstGeom prst="rect">
            <a:avLst/>
          </a:prstGeom>
          <a:ln w="0">
            <a:noFill/>
          </a:ln>
        </p:spPr>
      </p:pic>
      <p:pic>
        <p:nvPicPr>
          <p:cNvPr id="99" name="j0223504" descr=""/>
          <p:cNvPicPr/>
          <p:nvPr/>
        </p:nvPicPr>
        <p:blipFill>
          <a:blip r:embed="rId5"/>
          <a:stretch/>
        </p:blipFill>
        <p:spPr>
          <a:xfrm>
            <a:off x="1905120" y="3986280"/>
            <a:ext cx="633240" cy="7380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2819520" y="3276720"/>
            <a:ext cx="2057400" cy="761760"/>
          </a:xfrm>
          <a:prstGeom prst="rightArrow">
            <a:avLst>
              <a:gd name="adj1" fmla="val 50000"/>
              <a:gd name="adj2" fmla="val 6752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rot="16200000">
            <a:off x="5067000" y="4152240"/>
            <a:ext cx="762120" cy="533520"/>
          </a:xfrm>
          <a:prstGeom prst="leftArrow">
            <a:avLst>
              <a:gd name="adj1" fmla="val 50000"/>
              <a:gd name="adj2" fmla="val 3571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j0223504" descr=""/>
          <p:cNvPicPr/>
          <p:nvPr/>
        </p:nvPicPr>
        <p:blipFill>
          <a:blip r:embed="rId6"/>
          <a:stretch/>
        </p:blipFill>
        <p:spPr>
          <a:xfrm>
            <a:off x="1981080" y="5181480"/>
            <a:ext cx="633600" cy="73836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3276720" y="34290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録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724280" y="41148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情報登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52680" y="51814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視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705720" y="3886200"/>
            <a:ext cx="1523880" cy="914400"/>
          </a:xfrm>
          <a:prstGeom prst="wedgeEllipseCallout">
            <a:avLst>
              <a:gd name="adj1" fmla="val -66875"/>
              <a:gd name="adj2" fmla="val 64236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781680" y="4114800"/>
            <a:ext cx="175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asar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適用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905120" y="34290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会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開発概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b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アプリケーショ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フレームワークとして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uts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を採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開発予定規模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 ste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工程は詳細設計から結合テストま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開発期間は約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ヶ月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コーディング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開発要員は４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問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業務ロジックをどうするか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特にトランザクション制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オリジナルフレームワークの採用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JB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T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を利用？</a:t>
            </a:r>
            <a:br>
              <a:rPr sz="3200"/>
            </a:b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er Managed Transac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アプリケーションサーバは高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oss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などは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JB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を採用するほどのシステム規模ではな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を採用　その理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コンセプトが良かっ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2E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解体と再構築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易しさと優しさ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日本語ドキュメントが充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インターフェイス指向（？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bC(Design by Contract)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との相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DD(Test Driven Development)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との相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自分が沖縄在住であ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自分が使ってみたかったか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ff0000"/>
                </a:solidFill>
                <a:latin typeface="Arial"/>
              </a:rPr>
              <a:t>本来やるべき仕事に集中！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"/>
          <p:cNvGraphicFramePr/>
          <p:nvPr/>
        </p:nvGraphicFramePr>
        <p:xfrm>
          <a:off x="1600200" y="914400"/>
          <a:ext cx="6095880" cy="489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914400"/>
                    <a:ext cx="6095880" cy="489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キラーフレームワークの予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086600" y="2819520"/>
            <a:ext cx="121932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u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724280" y="3352680"/>
            <a:ext cx="152424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bWork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95880" y="4419720"/>
            <a:ext cx="152424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pes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80880" y="3657600"/>
            <a:ext cx="152424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as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438280" y="5181480"/>
            <a:ext cx="152424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J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09480" y="4648320"/>
            <a:ext cx="152424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914400" y="5867280"/>
            <a:ext cx="762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どっかで見たことある図ですが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143000" y="1143000"/>
            <a:ext cx="26668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業務ロジックサイ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486400" y="1066680"/>
            <a:ext cx="26668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プレゼンテーションサイ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使った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トランザクションの自動制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OP(Aspect Oriented Programm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ネクションプーリン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2JDB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2Un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2Stru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使わなかった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2Hibern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2Tapes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トランザクションの自動制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JO(Plain Old Java Object)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にトランザクション制御を付加でき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テストする対象のトランザクション制御を気にしなくて良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143000" y="3429000"/>
            <a:ext cx="7238880" cy="249984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ahoma"/>
              </a:rPr>
              <a:t>&lt;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mponent class=“org.t_doi.db.impl.FooDaoImpl"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aspect&gt;j2ee.requiredTx&lt;/aspect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/component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component class=“org.t_doi.db.impl.BarDaoImpl"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aspect&gt;j2ee.requiredTx&lt;/aspect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/component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component class=“org.t_doi.logic.impl.HogeLogicImpl"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aspect&gt;j2ee.requiredTx&lt;/aspect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/component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3581280"/>
            <a:ext cx="2362320" cy="1067040"/>
          </a:xfrm>
          <a:prstGeom prst="wedgeRoundRectCallout">
            <a:avLst>
              <a:gd name="adj1" fmla="val -89314"/>
              <a:gd name="adj2" fmla="val -32143"/>
              <a:gd name="adj3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データアクセ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（モデル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943600" y="4800600"/>
            <a:ext cx="2133720" cy="914400"/>
          </a:xfrm>
          <a:prstGeom prst="wedgeRoundRectCallout">
            <a:avLst>
              <a:gd name="adj1" fmla="val -106250"/>
              <a:gd name="adj2" fmla="val 14930"/>
              <a:gd name="adj3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業務ロジックを実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O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spect Oriented Programmi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ログ出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ＭＳ Ｐゴシック"/>
              </a:rPr>
              <a:t>TraceInterceptor</a:t>
            </a:r>
            <a:r>
              <a:rPr b="0" lang="ja-JP" sz="2800" spc="-1" strike="noStrike">
                <a:solidFill>
                  <a:srgbClr val="333333"/>
                </a:solidFill>
                <a:latin typeface="ＭＳ Ｐゴシック"/>
              </a:rPr>
              <a:t>を利用</a:t>
            </a:r>
            <a:r>
              <a:rPr b="0" lang="ja-JP" sz="2800" spc="-1" strike="noStrike">
                <a:solidFill>
                  <a:srgbClr val="333333"/>
                </a:solidFill>
                <a:latin typeface="ＭＳ Ｐゴシック"/>
              </a:rPr>
              <a:t>(</a:t>
            </a:r>
            <a:r>
              <a:rPr b="0" lang="en-US" sz="2800" spc="-1" strike="noStrike">
                <a:solidFill>
                  <a:srgbClr val="333333"/>
                </a:solidFill>
                <a:latin typeface="ＭＳ Ｐゴシック"/>
              </a:rPr>
              <a:t>Seasar</a:t>
            </a:r>
            <a:r>
              <a:rPr b="0" lang="ja-JP" sz="2800" spc="-1" strike="noStrike">
                <a:solidFill>
                  <a:srgbClr val="333333"/>
                </a:solidFill>
                <a:latin typeface="ＭＳ Ｐゴシック"/>
              </a:rPr>
              <a:t>に標準添付</a:t>
            </a:r>
            <a:r>
              <a:rPr b="0" lang="ja-JP" sz="2800" spc="-1" strike="noStrike">
                <a:solidFill>
                  <a:srgbClr val="333333"/>
                </a:solidFill>
                <a:latin typeface="ＭＳ Ｐゴシック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実行時間計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3767040"/>
            <a:ext cx="7238880" cy="166608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component name="processTimeInterceptor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lass=“org.t_doi.aop.ProcessTimeInterceptor"/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component class=“org.t_doi.logic.impl.FooLogicImpl"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aspect&gt;j2ee.requiredTx&lt;/aspect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aspect&gt;processTimeInterceptor&lt;/aspect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/component&gt;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095880" y="3962520"/>
            <a:ext cx="1828800" cy="914400"/>
          </a:xfrm>
          <a:prstGeom prst="wedgeRoundRectCallout">
            <a:avLst>
              <a:gd name="adj1" fmla="val -114842"/>
              <a:gd name="adj2" fmla="val -32810"/>
              <a:gd name="adj3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実行時間計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oshi</cp:lastModifiedBy>
  <dcterms:modified xsi:type="dcterms:W3CDTF">2004-06-12T00:04:54Z</dcterms:modified>
  <cp:revision>30</cp:revision>
  <dc:subject/>
  <dc:title>PowerPoint Presentation</dc:title>
</cp:coreProperties>
</file>