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4A48-6E9D-420B-B21D-7ACEC099439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D056-8B7F-4B64-BA41-3FA72F57152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508640"/>
            <a:ext cx="7604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Interceptor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997360"/>
            <a:ext cx="7605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Intercepto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ethodIntercep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MethodInvocation invocation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89360"/>
            <a:ext cx="51642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vocation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りかく易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にどん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e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適用されるのかが明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キーとなる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cut &amp; Method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g.aopalliance.intercept.MethodIntercepto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terceptor#invoke(MethodInvocatio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の引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標準化のための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トコードエンジニアリングのための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ディでコンポーネント名もしくは子要素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指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対象にな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を指定しない場合は、コンポーネントが実装しているインターフェースのすべてのメソッドが対象に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sample/org/seasar/shellscript/sampl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子要素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タグ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7580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565360"/>
            <a:ext cx="73692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thodIntercep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MethodInvocation invocation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invoca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88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56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後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を実行した後にコンポーネント自身のメソッドが呼び出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の逆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.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734080"/>
            <a:ext cx="49388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7-15T10:28:44Z</dcterms:modified>
  <cp:revision>53</cp:revision>
  <dc:subject/>
  <dc:title>スライド 1</dc:title>
</cp:coreProperties>
</file>