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2A8E-E0BA-4B93-A701-E534A607287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E089-0F95-4796-8E22-C835E541337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＠東京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２００４　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ina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大阪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全編「くーす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ーす本出版決定！（来年春ご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の頃各コミッタから随時リリースが続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そして今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のからさわぎ＠東京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2004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かい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こばやし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xi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くたに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ven.repo.remo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にも有志の方の草の根プロダクトがいろいろあります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Mak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Pag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WebWor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これからの未来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Dao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ページングのネイティブ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moting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統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ya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3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月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統合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3D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設立準備委員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目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発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的責任の増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果物の付加価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力が弱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成果物開発推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ソフトウェア製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ザイン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関連ドキュメンテー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組織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、各種インターネット無償サービスに分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urceForge /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てな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if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企業内よりアクセスできないなどの弊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ドメインへのアクセス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トコル・メソッドの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ソフトウェア開発・展開が可能なサーバー構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ジェクト製品を利用したリファレンス実装とし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構築することが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ミッター募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の設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定非営利活動法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営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組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閣総理大臣（内閣府）の認可に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的庇護を得ら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認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透明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省庁による監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（特に財務等）について監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永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属人性を排除することによる永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使命のライフサイクル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のライフサイク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開催にお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スポンサー様・スタッフの皆さん、そして何よりもお集まり頂いた皆様に厚く御礼申し上げま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日の開催を支えてくださった企業の皆様（敬称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場のご提供ならびに運営のご支援をいただいており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技術評論社、翔泳社、ソフトバンクパブリッシング、日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社（順不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皆さんお楽しみのプレゼントをたくさんご提供いただき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目的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の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運営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権利義務を代表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時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開始（予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審査期間が申請よ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ヶ月以内に成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中に内閣府に設立申請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組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員総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理事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ミッター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費用と収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ソフトウェア開発のための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運営のためのサーバー環境・回線・運営と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開催費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員事務通信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専従事務員人件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収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政助成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参加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グッズ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計監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開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成果物を利用したい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資格を特に設け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簿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個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負担いただける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参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口数以上負担いただける法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口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プロジェクト成果利用状況、法人規模に応じて口数をお願いす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に賛同法人リストに記載表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数は口数に関わらず、法人毎に１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個人および法人会員特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ージョンのダウンロ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新機能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新情報を盛り込んだ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ミッターとの懇親会参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ックレットの送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グッズの割引販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償サポートサービス等の認定・バック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＊現時点では上記は企画案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設立時の理事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設立時に、理事会名簿の登記義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理事会名簿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代表理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栗原傑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グルージェ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開発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比嘉康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運営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羽生章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スター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繰り返しですが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今ここにある未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クノロジ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入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通して見るディープ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ワール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ビジネス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マジ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指向設計の原則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録！　いかにし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提案して採用に至った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デザイントラッ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るごと「くーす」三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物足りない人は、夜の部へ！　そして朝まで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プレゼント大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ポンサー様からのプレゼントです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挨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株式会社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代表取締役社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田口　嘉之　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8273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4</a:t>
            </a:r>
            <a:br>
              <a:rPr sz="44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~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過去・現在・そして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を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版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～スターロジック用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年　新しい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 EA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東京開催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元々は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リリースに合わせた勉強会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からさわぎ」は最後のひとコマのタイトルのはずが、以後メインタイトル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当時、はてな界隈でアニソンカラオケブームだったのでついでにカラオケ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くして変な伝統が生ま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への理解　⇒　どう設計すればいいの？　という質問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設計の指針を作っていきましょう　という表明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ダイコン時代の設計手法「くーす」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の開発宣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「ダイコン」という言葉の誕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沖縄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公開の場での事例紹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は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の時点でアンケートの結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件以上の事例があったが非公開のまま（すみませ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頃から露出が増えて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雑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笑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コミッタ増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DaoV1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福岡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ダイコン時代のアーキテクチャと設計技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からの流れの一区切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次の課題は、設計のインプットである「業務フローの作成方法」　⇒　マジカ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24T04:38:25Z</dcterms:modified>
  <cp:revision>198</cp:revision>
  <dc:subject/>
  <dc:title>スライド 1</dc:title>
</cp:coreProperties>
</file>