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25560" y="25560"/>
            <a:ext cx="3466800" cy="124920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1619280" y="907920"/>
            <a:ext cx="7524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4257720" y="6553080"/>
            <a:ext cx="485280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</a:t>
            </a:r>
            <a:r>
              <a:rPr b="1" lang="en-US" sz="900" spc="-1" strike="noStrike">
                <a:solidFill>
                  <a:srgbClr val="000000"/>
                </a:solidFill>
                <a:latin typeface="Tahoma"/>
              </a:rPr>
              <a:t>Copyright the Seasar Foundation and the others 2005. all rights reserved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343400" y="6597720"/>
            <a:ext cx="4800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7288E-DF7E-4B97-8526-0185AFAFCC93}" type="slidenum">
              <a:rPr b="1" lang="ja-JP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57200" y="981000"/>
            <a:ext cx="4762440" cy="17146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340000" y="2349360"/>
            <a:ext cx="680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7720" y="6553080"/>
            <a:ext cx="485280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</a:t>
            </a:r>
            <a:r>
              <a:rPr b="1" lang="en-US" sz="900" spc="-1" strike="noStrike">
                <a:solidFill>
                  <a:srgbClr val="000000"/>
                </a:solidFill>
                <a:latin typeface="Tahoma"/>
              </a:rPr>
              <a:t>Copyright the Seasar Foundation and the others 2005. all rights reserved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343400" y="6597720"/>
            <a:ext cx="4800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E48B0-D2B4-4EC4-870C-388D95181224}" type="slidenum">
              <a:rPr b="1" lang="ja-JP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560" y="2463480"/>
            <a:ext cx="86547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2Cayenne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easar2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と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ayenne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の組合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556000" y="4365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indent="0" algn="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005.07.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asar Sandbox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松永　隆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59280" y="396720"/>
            <a:ext cx="5765760" cy="3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まと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4000" y="1197000"/>
            <a:ext cx="8234280" cy="526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ayenn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と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easar2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のトランザクション制御を組み合わせ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ayenn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の仕組みは、ほとんど意識しなくて良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ayenn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が普及すれば、需要が増える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59280" y="396720"/>
            <a:ext cx="5765760" cy="3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自己紹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4000" y="1197000"/>
            <a:ext cx="8234280" cy="526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名前：松永　隆宏（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ua4io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生息地：大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職業：派遣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G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弱者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ブログ：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ttp://d.hatena.ne.jp/aua4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59280" y="396720"/>
            <a:ext cx="5765760" cy="3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2Cayenn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と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4000" y="1197000"/>
            <a:ext cx="8234280" cy="526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RL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：</a:t>
            </a:r>
            <a:br>
              <a:rPr sz="28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ttp://seasar.satin.jp/wiki/index.php?Sandbox%2FS2Cayen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2Cayenn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とは何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/R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マッピングツール「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ayenn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」を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asar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のトランザクション制御と組み合わせて使うためのライブラ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2Dao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2Hibernat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と同じポジション（？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現在実装している機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ao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インタフェースによる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QL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の自動生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今後、実装させたい機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ao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インタフェースの実装クラスの使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59280" y="396720"/>
            <a:ext cx="5765760" cy="3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ayenne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と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4000" y="1197000"/>
            <a:ext cx="8234280" cy="526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ayenne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の特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yenne Mode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yenn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標準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UI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ツー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ity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部分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Contex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を簡単に作成でき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通常は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L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を使用しな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QL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を書く変わりに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句の内容を表すメソッドを使用す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LTemple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複雑な条件などを使用したい場合は、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QLTemplet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を使って、直接コマンドを実行す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59280" y="396720"/>
            <a:ext cx="5765760" cy="3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製作の動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4000" y="1197000"/>
            <a:ext cx="8234280" cy="526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何故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2Cayenn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を作るの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プロジェクトに何か貢献したかったか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S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に参加したら、自分のレベルが上がる気がしたか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某コミッタにそそのかされて・・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59280" y="396720"/>
            <a:ext cx="5765760" cy="3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サンプ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mployeeAutoDao.dic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include path="s2Cayenne.dicon"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component class="examples.cayenne.dao.EmployeeAutoDao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spect&gt;j2ee.requiredTx&lt;/aspec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spect&gt;s2cayenne.interceptor&lt;/aspec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/components&gt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59280" y="396720"/>
            <a:ext cx="5765760" cy="3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サンプ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2Cayenne.dic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components namespace="s2cayenne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include path="j2ee.dicon"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component class="org.seasar.cayenne.impl.S2DataContextFactoryImpl"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component class="org.seasar.cayenne.dao.impl.CayenneDaoMetaDataFactoryImpl"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component name="interceptor" class="org.seasar.cayenne.interceptors.S2CayenneDaoInterceptor"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59280" y="396720"/>
            <a:ext cx="5765760" cy="3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サンプ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mployeeAutoDao.ja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ublic interface EmployeeAutoDao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ublic Class BEAN = Employee.class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ublic List getAllEmployee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ublic void insert(Employee entity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ublic void update(Employee entity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ublic void delete(Employee entity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59280" y="396720"/>
            <a:ext cx="5765760" cy="3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皆さんへの要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4000" y="1197000"/>
            <a:ext cx="8234280" cy="526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ちゃんとした「プロジェクト」にした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開発を手伝ってくれる方募集！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ayenn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に詳しい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ちょっとでも「やる気」のある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何だったら、プロジェクトを引き継いでくれる方・・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「音沙汰無し」はやはり寂し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フィードバックが欲し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ayenn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につい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との連携につい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羽生　章洋</cp:lastModifiedBy>
  <dcterms:modified xsi:type="dcterms:W3CDTF">2005-07-14T03:00:56Z</dcterms:modified>
  <cp:revision>9</cp:revision>
  <dc:subject/>
  <dc:title>S2Cayenne ～Seasar2とCayenneの組合せ</dc:title>
</cp:coreProperties>
</file>