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6938-ED74-45F5-ABFB-1CBAFF923B8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85E6-6A00-482F-9926-72E4FAC3D11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ickle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的軽量ワークフローエンジ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社：有限会社ヌーラボ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nulab.co.jp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e6c7b3"/>
                </a:solidFill>
                <a:latin typeface="Arial"/>
              </a:rPr>
              <a:t>ぬーベージ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#E6C7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ttp://trickle.oscj.net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てなんで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た軽量ワークフローエン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利用しているの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との親和性も高い（は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拡張タグでワークフローを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941720"/>
            <a:ext cx="7345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ところで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』の意味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「滴」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滴がポタッポタッと規則正しく落ちるさまが、まるでフロー制御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彷彿させて、キュー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課題管理システムの開発現場に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毎の振分け処理は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tate Pattern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もあまり気持良いもんじゃな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ですです、サービスで処理するのか、アクションで処理するの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それに、前状態の検証とか必要だろう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承認や、アクセス制限の要望も出そう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遷移も色々変えたくなりますよ、きっ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ワークフローエンジンですか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J▲R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も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OSW☆rk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㌶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low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るみた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Wor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㊨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flo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ゥは、複雑で、ちょっと重すぎますね。（；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´д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｀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じゃあ作っちゃいま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対応で、設定ファイル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icon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みたいに書けたら素敵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処理フローはステップと呼ばれる作業単位に分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ローの条件分岐を制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276640"/>
            <a:ext cx="4918320" cy="6415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　　　　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387680"/>
            <a:ext cx="4917960" cy="15541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3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態固有の処理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結果によって、次に遷移するステップが確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検証とし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設ける事ができます。用途は、ユーザ認証や、ステップの同期等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3789360"/>
            <a:ext cx="6912000" cy="24667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mponentclass="org.seasa.trickle.restriction.ConforManceCondi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property name="step"&gt;"*"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on&gt;defalutAction&lt;/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s name="succe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 step="2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result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アプリケーションと連携したデモを当日までに、間に合えば用意したい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orkflow Patte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も対応した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is.tm.tue.nl/research/patter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解析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やらせたり、反則技を使ったり、と問題ありなのでぜひぜひたたき上げ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ワークフローを教え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素敵なデザインツールが欲しいな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ね、「これくらいが、丁度良い」で十分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は、軽量ワークフローエンジン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欲しかったから作ってみましたが、正直用途があるのかは、わかりませ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これくらいが丁度良い」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4T02:54:51Z</dcterms:modified>
  <cp:revision>627</cp:revision>
  <dc:subject/>
  <dc:title>くーす本の内容を先取り！ DI時代の業務システム構築技法 ～業務分析からシステム設計・開発までを一気に突っ走る～</dc:title>
</cp:coreProperties>
</file>