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259C-CBF4-438F-AE70-1A27231DFC3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E1D5-7940-4212-8342-E408A9A2244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13:18Z</dcterms:modified>
  <cp:revision>38</cp:revision>
  <dc:subject/>
  <dc:title>スライド 1</dc:title>
</cp:coreProperties>
</file>