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A11A-683A-473F-837C-702A5395EB9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38ED-A452-43C5-A2D3-13074248A68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9:56Z</dcterms:modified>
  <cp:revision>113</cp:revision>
  <dc:subject/>
  <dc:title>スライド 1</dc:title>
</cp:coreProperties>
</file>