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669013"/>
        <c:axId val="26684822"/>
      </c:barChart>
      <c:catAx>
        <c:axId val="76669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84822"/>
        <c:crosses val="autoZero"/>
        <c:auto val="1"/>
        <c:lblAlgn val="ctr"/>
        <c:lblOffset val="100"/>
        <c:noMultiLvlLbl val="0"/>
      </c:catAx>
      <c:valAx>
        <c:axId val="266848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69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F9C-CCF7-417A-9210-8E300162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60C-9183-4733-9781-D9FC9F91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0D9-E15E-4B3B-8BDE-A093676D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255-C54B-4737-9715-B6B70EF1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ED2-CFBE-4D43-8D61-9819BD1E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30AD-935F-4EFB-AEA2-C293B0FD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02A-1E73-464C-BF0C-4722A430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3E4-4FF8-404A-AD07-E4F78552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2F7C-C64C-4359-8101-0948B208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92B-49C0-4FB7-BF46-6AB8844F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F67-D528-4AA9-9AB6-AB8F7AD2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91E-862A-440F-BECC-E3E61781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A0777-4AC5-4BBD-A84D-AF6B0BBCC7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