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9930212"/>
        <c:axId val="18959093"/>
      </c:barChart>
      <c:catAx>
        <c:axId val="1993021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8959093"/>
        <c:crosses val="autoZero"/>
        <c:auto val="1"/>
        <c:lblAlgn val="ctr"/>
        <c:lblOffset val="100"/>
        <c:noMultiLvlLbl val="0"/>
      </c:catAx>
      <c:valAx>
        <c:axId val="1895909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993021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30144-975E-4759-BBD9-3FE33D2E7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78969-5607-449D-B660-5FE37496D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D19E4-888D-4613-875F-77CB23A85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96BCD-C90A-4AFC-A16D-F2A329FC3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463FC-7397-47C9-B81B-CFDD38B83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366A3-D43A-4C14-AA16-DC12A4C6A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81112-987D-4BC0-94CB-1879E72C5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1DD2E-B9AA-4871-B4E3-DA89979E8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88ABF-435B-45FD-B789-4C63F1BBC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A45D8-21A6-45EB-AA35-4E4098AD9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86A16-27F7-4508-913A-B925A0355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9A617-8476-464E-9A46-B980D8EAF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5EBB15-09E0-453E-9E7E-5995983263E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