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803917"/>
        <c:axId val="55210155"/>
      </c:barChart>
      <c:catAx>
        <c:axId val="958039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210155"/>
        <c:crosses val="autoZero"/>
        <c:auto val="1"/>
        <c:lblAlgn val="ctr"/>
        <c:lblOffset val="100"/>
        <c:noMultiLvlLbl val="0"/>
      </c:catAx>
      <c:valAx>
        <c:axId val="552101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8039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6351-AFBA-44CD-A402-001C43EDA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BC94-29A6-4749-BE97-2CFCA1DAD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3B57-D98D-49D2-851D-4640B0C3B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3E84-B6FC-494C-99E4-B8768EE7B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622D-DEC1-4129-83C7-1132AF699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881A-6EA2-468A-96F0-61BD67743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0EAF-D990-456F-A7A7-BD118C15C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E607-0277-49A1-9D83-745CE3BA1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DC6F-A81B-4036-AD51-297830DCA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AFBA-AEA0-406B-AE91-79C0DA4D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FB21-DC9F-4A44-8D89-82DD0AF8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9C58-80AB-468F-9589-1277B2BF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F21393-71CE-4C78-A07C-AF2F6F0C0BF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