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91402"/>
        <c:axId val="33652017"/>
      </c:barChart>
      <c:catAx>
        <c:axId val="27191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2017"/>
        <c:crosses val="autoZero"/>
        <c:auto val="1"/>
        <c:lblAlgn val="ctr"/>
        <c:lblOffset val="100"/>
        <c:noMultiLvlLbl val="0"/>
      </c:catAx>
      <c:valAx>
        <c:axId val="33652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91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1DC-49CE-4CA3-87F1-D4964A80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D4B-E627-4D6D-BC67-C54B7ADB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AAB-2E46-4A85-B4F4-8CF3A34E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C0A-83AA-46BA-866B-00C93E36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253-231D-4B99-82F3-B70E0D94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061-CA8D-4512-AA68-D24856A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658-7B9A-4433-B298-AC1DEA31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25D-57BE-43E5-8BAF-493B2F2D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59C-08FA-442B-89DA-F7AB4AB3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CF8-C747-4AFA-A417-61B1E4B4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C91-FDB2-4B6C-8477-93D57FF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E4E-5642-4802-9219-CC8D6A9D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E05DC-242A-437B-883B-3E08D6824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