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48494"/>
        <c:axId val="59107259"/>
      </c:barChart>
      <c:catAx>
        <c:axId val="59048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7259"/>
        <c:crosses val="autoZero"/>
        <c:auto val="1"/>
        <c:lblAlgn val="ctr"/>
        <c:lblOffset val="100"/>
        <c:noMultiLvlLbl val="0"/>
      </c:catAx>
      <c:valAx>
        <c:axId val="59107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8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52D-F269-4A5A-8955-1B859707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D71-8306-4C80-A815-2F6E05F7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FAC-360A-478F-B156-D674EC47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8A7-5E8D-4621-AFF1-133154D0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898-0175-4B70-9210-93FD58F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D14-A416-4EAB-9B91-2F9631B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32A-ED26-4695-886C-B9F2835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5C2-78D5-4968-801D-22D0ECF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0C5-532E-40EB-950C-BDC7FB7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8EA-E139-406A-950D-BC44D64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ADA-00D7-47DA-82F5-74ED216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2EC-E1D9-49EE-94C8-C01914D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E5528-D08E-4A29-B5DA-108741D48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