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33720"/>
        <c:axId val="32399933"/>
      </c:barChart>
      <c:catAx>
        <c:axId val="97933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99933"/>
        <c:crosses val="autoZero"/>
        <c:auto val="1"/>
        <c:lblAlgn val="ctr"/>
        <c:lblOffset val="100"/>
        <c:noMultiLvlLbl val="0"/>
      </c:catAx>
      <c:valAx>
        <c:axId val="323999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33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672-6543-4D9B-92EE-C0884B29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FB92-404C-47FA-8BE8-01B0073A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9F5-060A-4A16-A8F2-399A7D32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E520-7267-47A2-B869-984455A7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6E3-546A-4CB6-A3FF-76AC837E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5C4-42F6-4196-AF3A-0586871F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DB67-496E-404B-8BB0-86D9D254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21A2-63B8-4B08-B2C3-256B9241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30B4-41AD-43AA-A1C6-D951DB67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8B3-0C32-4AB0-A9B9-0E362610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C6CA-858B-4D81-87C7-71285533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FAB-03BF-45F4-9FC1-33A77B8D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2F249-C7D7-4608-8206-1B29002B30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