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44857"/>
        <c:axId val="34966275"/>
      </c:barChart>
      <c:catAx>
        <c:axId val="23244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6275"/>
        <c:crosses val="autoZero"/>
        <c:auto val="1"/>
        <c:lblAlgn val="ctr"/>
        <c:lblOffset val="100"/>
        <c:noMultiLvlLbl val="0"/>
      </c:catAx>
      <c:valAx>
        <c:axId val="34966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44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774-5C28-42AF-BBEF-9C29D098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9B3-9E79-4487-9AC6-4D362506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A99-196A-4338-B1D1-8E542638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77E-FE46-4A5D-A11F-5A391311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07C-E7AF-42F1-A5AC-C1A2CFB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7AC-66AF-432D-9DAA-13A273D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8BD-2509-4AF8-8869-2627AFE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BE7-5578-488F-9181-5226F72F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3A7-9224-47F9-8E4B-D8CDAA2D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1B1-A2F1-45C7-A2A7-2C3A163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87D-DD9D-4661-B01A-C9B8409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103-CEF9-41E4-AA0C-2FB045CB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11A6D-12AF-4888-B20F-1A23B8FFD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