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096636"/>
        <c:axId val="95170334"/>
      </c:barChart>
      <c:catAx>
        <c:axId val="150966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170334"/>
        <c:crosses val="autoZero"/>
        <c:auto val="1"/>
        <c:lblAlgn val="ctr"/>
        <c:lblOffset val="100"/>
        <c:noMultiLvlLbl val="0"/>
      </c:catAx>
      <c:valAx>
        <c:axId val="951703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0966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4463-891F-4BC0-97EC-32A30273D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9CD2-614D-4D1F-A4CD-D4C517AF7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0389-ECCC-4542-BD93-C6387E341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2B48-55E7-415A-8882-4E12FEA83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8D98-8711-4CB5-AB9A-786090000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28E5-5F5A-4031-A875-EF9FCF093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EEDC-40A4-4143-9787-5E91463ED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D699-3D3B-4C40-B98D-EBF14AC26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81D4-6806-4CE4-BD24-8A036443F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1D25-E920-40A4-989E-1D0748BF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6C07-96DE-4752-AF3F-8216C0FF2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2384-1132-49B9-AB67-F1F11DF4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EDE35E-C1F4-449A-880D-AF8CB542C0A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