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28098"/>
        <c:axId val="46412003"/>
      </c:barChart>
      <c:catAx>
        <c:axId val="10128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12003"/>
        <c:crosses val="autoZero"/>
        <c:auto val="1"/>
        <c:lblAlgn val="ctr"/>
        <c:lblOffset val="100"/>
        <c:noMultiLvlLbl val="0"/>
      </c:catAx>
      <c:valAx>
        <c:axId val="46412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28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525-A142-46E2-BF56-4F9ABB1D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425-2166-4254-9115-09882796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E0B-2B12-4B94-9E95-44CC163A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80C-D96A-4C94-BC69-6C811BC4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F19-9121-49E6-B502-2A7076B7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392-A6B0-4672-BAB5-2F57A1DF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069-55F2-48F2-9115-A0D22C27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13B-4D61-4FF4-A050-6AD2FD77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518-5B8E-40D4-B825-367C1136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374-8764-4414-BD8A-B75D54C1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550-C994-49E9-85F8-5D319DE2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09C-4D72-4056-9F04-7D88A1B7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538A3-9890-4CDD-B7BA-AC6FAB18D4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