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02944"/>
        <c:axId val="33599111"/>
      </c:barChart>
      <c:catAx>
        <c:axId val="684029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99111"/>
        <c:crosses val="autoZero"/>
        <c:auto val="1"/>
        <c:lblAlgn val="ctr"/>
        <c:lblOffset val="100"/>
        <c:noMultiLvlLbl val="0"/>
      </c:catAx>
      <c:valAx>
        <c:axId val="335991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029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C61E-91CB-4468-912F-6C8C0C26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A7CD-25F5-4EC9-BA1E-3F1B5E5D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2ADC-54C0-4023-9BCE-A79264DB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BB30-B3B8-472A-9876-DE144EDA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AD55-8840-4877-BD2F-6AFC288A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D55-B11E-4903-8254-8ADD1838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C9CA-48CF-4727-8015-71CC1D51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06DF-895E-4A0A-A9B5-8091FF99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DD0-9715-449B-B3F7-F961C970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A258-8E87-4243-8ADD-2C54C7E8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8D4B-ECA8-46A5-93F7-F83565FC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19C2-3FE0-4FD2-B591-DEB87C26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FFCB3-9F3D-48DA-A0EC-F157D502AE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