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584825"/>
        <c:axId val="20968985"/>
      </c:barChart>
      <c:catAx>
        <c:axId val="415848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68985"/>
        <c:crosses val="autoZero"/>
        <c:auto val="1"/>
        <c:lblAlgn val="ctr"/>
        <c:lblOffset val="100"/>
        <c:noMultiLvlLbl val="0"/>
      </c:catAx>
      <c:valAx>
        <c:axId val="209689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848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23B4-E380-490E-9507-4043FA9F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15F8-E9F1-4FC6-94FF-B05A544C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E0A0-2253-480E-9800-41A226418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5FC7-3D85-41BF-9546-3EFFFB743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951F-7A53-46D0-ABE7-CE43919A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D9C0-3E39-4BA3-BAAF-6BD6B523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61A3-62A9-4F90-B899-E80ABD9B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7E8B-C426-49D6-AAE9-9D60862D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B3A9-7CC1-4826-8C3C-819105A3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EB11-B062-4404-87EB-934507D3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F55E-6D28-407C-8C5F-940399B0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07E8-A98B-4999-ACFB-E0653E13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C0D37-311C-4036-A59B-EF3B4B7D07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