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6961217"/>
        <c:axId val="74881937"/>
      </c:barChart>
      <c:catAx>
        <c:axId val="2696121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881937"/>
        <c:crosses val="autoZero"/>
        <c:auto val="1"/>
        <c:lblAlgn val="ctr"/>
        <c:lblOffset val="100"/>
        <c:noMultiLvlLbl val="0"/>
      </c:catAx>
      <c:valAx>
        <c:axId val="7488193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96121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FD05-7540-4594-AC2A-A27D3DC37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D439-9AA0-4F9B-AA27-1A481F495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8C7F-2F82-4A6D-9E56-D2D09102B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CE0C-7F00-46B0-9088-9BFE52F28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275B-4F8F-4843-889B-EF3E2D57B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8465-B234-4097-A09A-449C8653B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4AA0-56B3-469A-9BD2-EA737A6B3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A561-7490-4BA1-A8DF-C3EB630F3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5451-4EA7-405D-9BB2-AC7C9BD1A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8532-CD7C-4FDE-9E36-A8420FB31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6241-AF93-4403-BC78-7160095BC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6443-99B4-4F64-9B63-27AE617F8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7E7A8C-2116-45BE-8498-96D646542B5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