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693754"/>
        <c:axId val="51557118"/>
      </c:barChart>
      <c:catAx>
        <c:axId val="726937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57118"/>
        <c:crosses val="autoZero"/>
        <c:auto val="1"/>
        <c:lblAlgn val="ctr"/>
        <c:lblOffset val="100"/>
        <c:noMultiLvlLbl val="0"/>
      </c:catAx>
      <c:valAx>
        <c:axId val="515571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937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AF51-5134-4624-BF18-66A14F55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EA83-F8C6-4CAD-A033-26C5C7AF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99A6-F662-4F81-AA0D-8306952F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D05-162D-4DAD-8F3E-C8162B62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0647-B2E5-4562-909E-EEE7BA83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BAE-35EB-47C6-877A-A0568977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7134-543D-4CCA-B69C-34F97F48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5674-1605-41C0-A320-901895CF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F1F0-2F79-44C5-8EB4-7A0E3004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6EA8-595C-497C-B8CB-6E3A511D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4A36-535D-4848-8499-E033D905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6D77-14DC-43B1-ABA5-B231965D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B6FB5-3D78-43C1-A480-310D737CD5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