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03787"/>
        <c:axId val="86151813"/>
      </c:barChart>
      <c:catAx>
        <c:axId val="42303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51813"/>
        <c:crosses val="autoZero"/>
        <c:auto val="1"/>
        <c:lblAlgn val="ctr"/>
        <c:lblOffset val="100"/>
        <c:noMultiLvlLbl val="0"/>
      </c:catAx>
      <c:valAx>
        <c:axId val="86151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03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F66E-F312-43F2-B19C-88CE71C8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15FF-0B14-4EB3-BCDA-059740B2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7547-BDB8-4C69-A17C-610180AF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DDBF-755D-42BA-B94E-4E507187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351-48E9-4A85-A9E1-C875B8A2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0753-966E-462B-A14A-8E5AB90A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C066-22CE-4D56-9747-2D6695B6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2EBD-9EC2-44D2-909B-3CE3A5B2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7E8-EDA6-43C0-87DA-55F820F5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9B11-5747-4CAB-BD20-AFA8C953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4191-CE8A-4ED5-879F-9A84BD3C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A1F-F667-4DF7-8499-EB1CA4DC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2DF0D-3B42-481B-BA56-E9B71114AC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